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184-2189-4F8B-846D-4458B7C8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29F-E759-4870-8EC9-BF0F8D73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3DC-9E7F-4EAD-9026-A64FC258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F37-94DA-4727-AADA-99D58321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7199-2A05-41A1-A7A5-86BE0A06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46E1-9006-4514-9DD2-60EA59BA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46A6-CB9E-4289-9DCA-16A545DA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0652-98C6-4FD3-9D1E-84BE3B11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388C-80B9-4720-8D7E-C77DE6DA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8034-E398-470B-8C61-DE4EEA8B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4AB2-7118-4B0A-A472-E72BF255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F53-B855-474C-9422-543F61DB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EF61-66B0-4273-8853-ED2D88CE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16AC-6373-4CD4-A5BF-2C7E9A1B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5D39-87E7-437B-9EAA-C6F5369D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3396-3970-4F69-A6E4-67CA1ED0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FFDE-F943-4F5B-BCAD-F32ABF16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A6700-A0E4-40E7-8729-1A7CCC38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5974B-6926-4109-87B9-B1AADDE6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EE1B9-1D11-4BF1-AA4E-38CBF964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9AC0C-6C4B-4119-B808-A5EAA348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E7460-BE5A-4DF5-86A5-CE6A6682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797-03B3-43D9-991E-D76B9DF2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9B354-4B01-49BA-8BA9-0549E76F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65C63-291C-4633-BC68-30ADB53D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01BD1-1C67-4B90-B3D3-958121E7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BEB82-0928-454C-A72B-B39CE66B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FC421-C769-4770-B0AE-E9B70A12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93A94A-DDE4-46EF-999E-6389E3F1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09621-8496-47BE-B7F9-98207217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B09F0-E3A7-4D9A-8618-A2D985EA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4A792-0DFE-49CD-BDB9-0841263E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2AB4E-1A11-4BA7-8B03-FCBFC084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CF6-0324-410C-88C7-544E211A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F7C37-88D1-4307-A7EE-92B23ECA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B8E0D-5072-408F-A04D-5487C338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9664F-6B1B-43BC-A8B1-3191E368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D8C31-6BC6-45F4-B01B-3BD2C6D0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3EB5A-5A67-4D24-B1E8-3D90CB3B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317D6-D51E-441B-A161-0C7C8C05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BFB07-49C1-476F-BF3A-1E084B16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BA1AE-EB8A-445C-AB80-53C41C8C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16E5E-FA45-4C0B-82EF-F16272BE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7EDB2-1AF0-4164-815F-416C88D4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651-D146-4AD5-A94C-951B2C97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61DF7-F325-4C52-8D07-2FA06B3D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3C8F0-D149-4184-BE9E-D6C0AB83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AE726-4046-430C-9AEA-F75E0259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8DBDB-4617-46CD-AE50-6D2282B4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0A042-ADD4-4968-97B1-82917BDA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7B18F-13B0-4502-A370-D96910D3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EBC4A-4884-4A07-BE96-16994231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01591-0B9D-45FC-8EE4-6CBB9177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D0151-1615-4C89-9426-5462338E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35E72-2E7E-494F-B786-9163E7E2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AB7E-CC75-4958-B2DB-85BDB507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19331-59D9-4775-BFA9-FE3EC8F8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B59-E783-4137-8477-45B3B869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546-DC51-4130-AF3E-15E4A505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AF5F-8533-45B9-A2C2-6032224B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2917-D047-4B31-A68B-6F4C753524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AADF-67B1-4FDF-AA3F-8274390931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2FE6-20B1-407E-860F-152B7A8463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9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sp>
          <p:nvSpPr>
            <p:cNvPr id="9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B5A2-D8D2-4556-9B2E-CDC248B951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sp>
          <p:nvSpPr>
            <p:cNvPr id="18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85C5-D108-4846-82F6-833B1C92CD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FESORULUI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ETODIS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ORTOFOLIUL ELEVULU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39BE-AE8F-4223-8920-C5098B962AAB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prezint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artea de vizită” a elevului, prin care profesorul poate să-i urmărească progresul – în plan cognitiv, atitudinal şi comportamental – la o anumită disciplină, de-a lungul unui interval mai lung de timp (un semestru sau un an şcolar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un pact între elev şi profesorul care trebuie să-l ajute pe elev să se autoevalueze. Profesorul discută cu elevul despre ce trebuie să ştie şi ce trebuie să facă acesta de-a lungul procesului de învăţare. La începutul demersului educativ se realizează un diagnostic asupra necesităţilor elevului de învăţare pentru a stabili obiectivele şi criteriile de evaluare. Diagnosticul este făcut de profesor şi este discutat cu elevul implicat în evalu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 u="sng">
                <a:solidFill>
                  <a:srgbClr val="e5e5ff"/>
                </a:solidFill>
                <a:uFillTx/>
                <a:latin typeface="Garamond"/>
              </a:rPr>
              <a:t>PORTOFOLIUL ELEVULU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lista conţinutului acestuia, (sumarul, care include titlul fiecărei lucrări/fişe,etc. şi numărul paginii la care se găseşte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rgumentaţia care explică ce lucrări sunt incluse în portofoliu, de ce este importantă fiecare şi cum se articulează între ele într-o viziune de ansamblu a elevului/grupului cu privire la subiectul respectiv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lucrările pe care le face elevul individual sau în grup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m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eseur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rticole, referate, comunicăr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fişe individuale de studiu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roiecte şi experimen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emele zilnic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Portofoliul cuprinde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robleme rezolv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apoarte scrise – de realizare a proiectel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este şi lucrări semestrial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hestionare de atitudin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înregistrări, fotografii care reflectă activitatea desfăşurată de elev individual sau împreună cu colegii să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observaţii pe baza unor ghiduri de observaţi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flecţiile proprii ale elevului asupra a ceea ce lucrează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utoevaluări scrise de elev sau de membrii grupulu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interviuri de evaluar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lte materiale, hărţi cognitive, contribuţii la activitate care reflectă participarea elevului/ grupului la derularea şi soluţionarea temei d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viitoare obiective pornind de la realizările curente ale elevului/grupului, pe baza intereselor şi a progreselor înregistr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omentarii suplimentare şi evaluări ale profesorului, ale altor grupuri de învăţare şi/sau ale altor părţi interesate, de exemplu părinţi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ltate ale lucrărilor de evaluare efectuate pentru teme din domeniul profesional sau abilităţi che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ltate ale activităţilor de autoevaluare şi dovezi ale discuţiilor care au avut lo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opiniile elevilor privind activităţile desfăşu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lanuri de acţiune/ evaluări/ activităţi viitoare planificate şi efectuate de către ele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omentarii ale profesorului privind atitudinea şi rezultatele elevulu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A7BC-6D3D-4FDC-A37D-A0D41A78F5C7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legaţia de numire 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Curriculum Vitae(Europass)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Graficul de evidenţă a inspecţiilor efectuat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Graficul inspecţiilor de specialitate şi tematic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Diagnoza procesului de învăţământ de specialitate (in sectorul/zona arondat(ă), la finele fiecărui semestru)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Copie a rapoartelor de inspecţi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Modele de documente de planificare şi proiecte didactice la nivelul învăţământului primar, gimnazial şi liceal, după caz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Legi, ordine, note ale M.E.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.S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., Guvernului privind  învăţământul preuniversit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ul formularelor tip folosite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î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cadrul inspecţiil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D2F8-F1AB-41ED-82F1-099B533318D9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2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SPONSABILULU</a:t>
            </a: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I DE CATEDRĂ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de activităţi metodico-ştiinţifice ale catedrei pentru anul școlar  în cu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gramele şcolare valabile în anul şcolar în cu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gramele pentru examenele naţionale (bacalaureat) şi concursurile şcola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ificări le calendaristice ale membrilor catedre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rile -cadru pentru anul şcolar curen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Tabel  nominal cu membrii catedrei şi datele lor personale (telefon, adresa de e-mail, şcoala de provenienţă, grad didactic, specialitatea, vechimea în învăţământ etc.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managerial al catedre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şi tematica activităţilor de catedr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cesele – verbale ale şedinţelor de catedr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Materialele ştiinţifice şi metodice prezentate în cadrul activităţilor de catedr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olimpiadelor şi concursurilor şcolare la care participă elevii unității de învățămâ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SPONSABILULUI</a:t>
            </a: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 DE CERC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Lista şcolilor arondate cerculu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Lista nominală a cadrelor didactice din cadrul cercului, cu datele lor personale (şcoala de provenienţă, telefon, adresa de e-mail, specialitatea,  gradul didactic, vechimea în învăţământ, modul de încadrare: suplinitor calificat/necalificat, titular, pensionar, detaşat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managerial al şefului cercului metodi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Tematica şedinţelor de cerc, data şi locul de desfăşurar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cesele -verbale încheiate la activităţile de cer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Materialele ştiinţifice şi metodice prezentate în cadrul activităţilor de cer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examenelor naţionale (evaluare – clasa a VI-a, bacalaureat), al olimpiadelor şi al concursurilor şcolare din anul școlar respectiv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ORTOFOLIUL PROFESORULU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6710-5D3F-4D81-9FBB-B96C58C733C4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7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I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  <a:ea typeface="Tahoma"/>
              </a:rPr>
              <a:t>: structura anului școlar, încadrarea (clase, nr. de ore), orarul, fișa postului, calendarul activităților pe anul în cu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I-a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  <a:ea typeface="Tahoma"/>
              </a:rPr>
              <a:t>: programele școlare, programele opționalelor în derulare, planificarea anuală și semestrială a materiei pe unități de învățare, proiecte didactice, teste de evaluare inițială, curentă și sumativă-concluzii, modalități alternative de evaluare (proiecte, referate, portofolii întocmite de elevi), fișe de lucru, caietul –catalog, inventarul materialului didactic din școală, fișe cu asistențe la ore pentru profesorii debutanț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Substituent număr diapozitiv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9A49-8F77-4458-A8D2-D61BE3749424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II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regulamentul, precizările și programele pentru olimpiada națională școlară la disciplina..., subiecte de olimpiadă propuse, lista elevilor selectați pentru olimpiade, rezultatele obținute la diferite competiții/activități specifice discipline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V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 Proiecte personale sau proiecte/programe în care este angajat pentru implementa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V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perfecțion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VI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materiale didactice –produse propri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7CBF-3468-4F2E-8A5D-5E5F5554D76C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4:38:28Z</dcterms:created>
  <dc:creator>manu</dc:creator>
  <dc:description/>
  <dc:language>en-US</dc:language>
  <cp:lastModifiedBy>Micky</cp:lastModifiedBy>
  <dcterms:modified xsi:type="dcterms:W3CDTF">2016-09-18T12:33:24Z</dcterms:modified>
  <cp:revision>612</cp:revision>
  <dc:subject/>
  <dc:title>Comisia Nationala de Informatica</dc:title>
</cp:coreProperties>
</file>