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8D4-0742-49EA-8277-E15A80D5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C58-9DFD-4DF5-AEA9-4307E75C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F1B-4D0D-4623-82F0-38FEAE8B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F18-BE31-429A-85A5-42DAC5F0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5063-A0EA-4FC0-BBD3-E556CB0B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6A94-BEA6-4288-8304-FD6E2AEE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75BC-0B42-4375-90C3-7417BA6F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8BC-7571-4F27-8A44-99657BD2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9183-7B7D-42DC-A5C7-151BAD58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389B-5B91-4DF6-A3CD-EC038863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5AE8-3FF9-454F-8F1F-EB5C96B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241-ADDC-44D8-91AB-96C917E9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0D23-8D68-466C-93CA-9AA31B63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7806-5E77-4649-B17B-6615800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666-8592-4C95-8285-90113FB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626B-BA1B-4DA8-BD0C-F637824B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D89D-7BE4-41A4-8962-A47EEBF2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5EED5-91FD-427A-915D-0FC39A0C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FE7DB-8AE3-4A06-AC0A-1BED5525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EA9F8-DF72-4AD7-8F80-659F4F2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759EB-408C-40B0-A46C-3CC1E167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2D55D-3139-42F3-94F5-B8D9C203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611-A7CC-4925-B461-FE4AB93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CF9BC-151D-4383-868A-0F02BC51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F039C-2D17-4CB2-A9F4-FEFD6E8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406C4-F519-4B7A-80F9-84AF06B4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362BC-43B9-428E-A124-3211D8FB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9331E-9B8A-46ED-97FB-6B9B0CC2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8C6CF-6FCF-42EC-9118-F11B1B20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14DE7-E8F2-4EB9-B836-4AF8416C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E015B-91A0-4DBB-BB3B-617BF45A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A2A8A-CC12-4975-9EAB-936A831B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991E-0DB8-4A2B-9CDD-B43E6EA8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E00-9B86-4A2E-9FC0-5AD0369B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83F04-D2F6-4C51-BCD9-5E9D0AAD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AFBE2-4DB8-40B0-8458-AB680493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6097-A24D-4CA1-9569-708FC61B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8457-E887-49E4-AA47-25660E4C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D38A-1AAD-458C-AA59-59F81ED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39FF7-BCFE-4267-B86F-F571212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6E07-114E-4BDD-BD80-E32A5E61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1240-3FE3-4F44-A913-F5413876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B94D-F298-41B0-A639-90FFBF1F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00DF0-E2B5-43FC-99A2-273C9FC5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3A9-BAD7-4C57-916E-3B379A00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901B-7BB3-485D-883C-CFEB5871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A3B2-B312-4CCD-899A-6D3BE5E8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851F-D553-4B19-AFB0-327A3B7E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761DB-414E-4BE4-8974-7C59C49A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DCE4A-FFE8-44ED-8C5C-4666DB47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7E9E-6186-4F86-994E-C106AE7B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8AA6-1E2B-4EDE-8806-0D33FB7D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B8F4-068F-40BC-84B2-0D00D0E0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CBB11-AAAA-4429-AA80-7AB85F62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FCB3-F483-4D8A-A1BD-68310C9B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079-122C-404F-8DCF-A91E5CE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5433A-1CFB-4E05-826F-66A83494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518-BF4E-4D09-A1CF-765471A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583-E9E2-467E-B632-BF911041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165-9941-47A6-8A9C-C2966FC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3771-657F-41E7-B274-7FCC17240E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C480-FD73-4E5E-A177-B0D024D75F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95DF-5B5B-49BD-AA9C-8A7187E21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9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8804-CA9A-4CCF-8906-AD581F32F7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18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916E-BF10-4174-A662-899AABEFAD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FESORULUI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TODI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ELEV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BBD7-DD07-4E31-B03F-60823BF026B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prezint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e5e5ff"/>
                </a:solidFill>
                <a:uFillTx/>
                <a:latin typeface="Garamond"/>
              </a:rPr>
              <a:t>PORTOFOLIUL ELEVULU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ista conţinutului acestuia, (sumarul, care include titlul fiecărei lucrări/fişe,etc. şi numărul paginii la care se găseşte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ucrările pe care le face elevul individual sau în gru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m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eseu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ticole, referate, comunică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fişe individuale de studiu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iecte şi experimen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mele zilnic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Portofoliul cuprind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bleme rezolv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apoarte scrise – de realizare a proiect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ste şi lucrări semestrial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hestionare de atitudin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bservaţii pe baza unor ghiduri de observa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flecţiile proprii ale elevului asupra a ceea ce lucreaz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utoevaluări scrise de elev sau de membrii grupulu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nterviuri de evalua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viitoare obiectiv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piniile elevilor privind activităţile desfăşu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0A17-65E8-44C8-A492-93710A4B5E9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egaţia de numire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urriculum Vitae(Europass)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de evidenţă a inspecţiilor efectuat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inspecţiilor de specialitate şi tematic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opie a rapoartelor de inspecţi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Modele de documente de planificare şi proiecte didactice la nivelul învăţământului primar, gimnazial şi liceal, după c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egi, ordine, note ale M.E.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.S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., Guvernului privind  învăţământul preuniversit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ul formularelor tip folosite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cadrul inspecţii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2E20-0094-4A48-8D83-26E7059FC664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I DE CATEDR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de activităţi metodico-ştiinţifice ale catedrei pentru anul școlar 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şcolare valabile în anul şcolar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pentru examenele naţionale (bacalaureat) şi concursurile şcol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ificări le calendaristice ale membrilor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rile -cadru pentru anul şcolar cur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abel  nominal cu membrii catedrei şi datele lor personale (telefon, adresa de e-mail, şcoala de provenienţă, grad didactic, specialitatea, vechimea în învăţământ etc.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şi tematica activităţi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– verbale ale şedinţe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atedr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I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 DE CER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şcolilor arondate cerculu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şefului cercului metod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ematica şedinţelor de cerc, data şi locul de desfăşura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-verbale încheiate la activităţile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PROFESOR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A66D-EEDC-4D01-8DF3-E852571D1E0A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Substituent număr diapozitiv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57AE-EDB1-475A-A73F-A480B05964B7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perfecțion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9413-2A25-4D22-84E1-6291B1394F92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6-09-18T12:33:24Z</dcterms:modified>
  <cp:revision>612</cp:revision>
  <dc:subject/>
  <dc:title>Comisia Nationala de Informatica</dc:title>
</cp:coreProperties>
</file>