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wmf" ContentType="image/x-wmf"/>
  <Override PartName="/ppt/media/image2.jpeg" ContentType="image/jpeg"/>
  <Override PartName="/ppt/media/image3.jpeg" ContentType="image/jpeg"/>
  <Override PartName="/ppt/media/image6.jpeg" ContentType="image/jpeg"/>
  <Override PartName="/ppt/media/image16.wmf" ContentType="image/x-wmf"/>
  <Override PartName="/ppt/media/image8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5C82-50B1-4E9D-8D84-9F754E7C1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B73F-382B-4353-A930-70EC5C26B2BC}" type="slidenum">
              <a:rPr b="0" lang="en-US" sz="1200" spc="-1" strike="noStrike">
                <a:solidFill>
                  <a:srgbClr val="000000"/>
                </a:solidFill>
                <a:latin typeface="Titillium We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FF1D-2AFA-4A28-830D-3EAA85D8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3DD9-7A39-47AF-A438-1F3B6A28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75D-FABB-4ED2-BE0A-FEB962B0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14D0-13EC-4BDD-AB84-67187A60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5E0C-2E5A-4082-B099-4C7CB087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D706-78B2-40D5-BBB2-0C7A284D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6DB-48B7-43ED-9705-FCEE0110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E36-0967-489C-A892-5A47AC99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558D-E6EC-4A08-A77B-F06EE807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9E57-8C8E-4FA7-8A02-3A56769C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9729-3B11-488E-9303-E869E420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A016-73C2-42BF-AE8A-7E24426E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A8A5-9B4A-4AEC-BBAD-9FC19D9D77E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:\de sortat dupa laptopul vechi\15.05.2013\0.1.data\work\0.2. scoala de valori\0.4. Communication\rebranding 2013\Pt prezentari\template-ppts-03.jpg"/>
          <p:cNvPicPr/>
          <p:nvPr/>
        </p:nvPicPr>
        <p:blipFill>
          <a:blip r:embed="rId2"/>
          <a:stretch/>
        </p:blipFill>
        <p:spPr>
          <a:xfrm>
            <a:off x="0" y="1285920"/>
            <a:ext cx="9906120" cy="557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:\de sortat dupa laptopul vechi\15.05.2013\0.1.data\work\0.2. scoala de valori\0.4. Communication\rebranding 2013\Pt prezentari\template-ppts-04.jpg"/>
          <p:cNvPicPr/>
          <p:nvPr/>
        </p:nvPicPr>
        <p:blipFill>
          <a:blip r:embed="rId2"/>
          <a:stretch/>
        </p:blipFill>
        <p:spPr>
          <a:xfrm>
            <a:off x="-4680" y="1247760"/>
            <a:ext cx="9974160" cy="5610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D:\de sortat dupa laptopul vechi\15.05.2013\0.1.data\work\0.2. scoala de valori\0.4. Communication\rebranding 2013\Pt prezentari\template-ppts-05.jpg"/>
          <p:cNvPicPr/>
          <p:nvPr/>
        </p:nvPicPr>
        <p:blipFill>
          <a:blip r:embed="rId2"/>
          <a:stretch/>
        </p:blipFill>
        <p:spPr>
          <a:xfrm>
            <a:off x="0" y="1274760"/>
            <a:ext cx="9926640" cy="55832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:\de sortat dupa laptopul vechi\15.05.2013\0.1.data\work\0.2. scoala de valori\0.4. Communication\rebranding 2013\Pt prezentari\template-ppts-01.jpg"/>
          <p:cNvPicPr/>
          <p:nvPr/>
        </p:nvPicPr>
        <p:blipFill>
          <a:blip r:embed="rId2"/>
          <a:stretch/>
        </p:blipFill>
        <p:spPr>
          <a:xfrm>
            <a:off x="-7920" y="1281240"/>
            <a:ext cx="9914040" cy="55767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D:\de sortat dupa laptopul vechi\15.05.2013\0.1.data\work\0.2. scoala de valori\0.4. Communication\rebranding 2013\Pt prezentari\template-ppts-05.jpg"/>
          <p:cNvPicPr/>
          <p:nvPr/>
        </p:nvPicPr>
        <p:blipFill>
          <a:blip r:embed="rId2"/>
          <a:stretch/>
        </p:blipFill>
        <p:spPr>
          <a:xfrm>
            <a:off x="0" y="1274760"/>
            <a:ext cx="9926640" cy="55832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D:\de sortat dupa laptopul vechi\15.05.2013\0.1.data\work\0.2. scoala de valori\0.4. Communication\rebranding 2013\Pt prezentari\template-ppts-05.jpg"/>
          <p:cNvPicPr/>
          <p:nvPr/>
        </p:nvPicPr>
        <p:blipFill>
          <a:blip r:embed="rId2"/>
          <a:stretch/>
        </p:blipFill>
        <p:spPr>
          <a:xfrm>
            <a:off x="0" y="1274760"/>
            <a:ext cx="9926640" cy="55832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tilium"/>
              </a:rPr>
              <a:t>OLIMPIADELE KAUFLAND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3" name="Content Placeholder 4" descr=""/>
          <p:cNvPicPr/>
          <p:nvPr/>
        </p:nvPicPr>
        <p:blipFill>
          <a:blip r:embed="rId1"/>
          <a:stretch/>
        </p:blipFill>
        <p:spPr>
          <a:xfrm>
            <a:off x="5791320" y="2590920"/>
            <a:ext cx="259056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MECANISMUL COMPETIȚIEI – ACTIVITĂȚ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5486400" y="2057400"/>
            <a:ext cx="4086360" cy="3200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2"/>
          <a:stretch/>
        </p:blipFill>
        <p:spPr>
          <a:xfrm>
            <a:off x="609480" y="1895400"/>
            <a:ext cx="41626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MECANISMUL COMPETIȚIEI – ACTIVITĂȚ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4086360" cy="3200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41623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MECANISMUL COMPETIȚIEI – ACTIVITĂȚ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486400" y="2057400"/>
            <a:ext cx="4086360" cy="3200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" descr=""/>
          <p:cNvPicPr/>
          <p:nvPr/>
        </p:nvPicPr>
        <p:blipFill>
          <a:blip r:embed="rId2"/>
          <a:stretch/>
        </p:blipFill>
        <p:spPr>
          <a:xfrm>
            <a:off x="762120" y="2379600"/>
            <a:ext cx="41623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MECANISMUL COMPETIȚIEI – ACTIVITĂȚ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4086360" cy="3200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2"/>
          <a:stretch/>
        </p:blipFill>
        <p:spPr>
          <a:xfrm>
            <a:off x="4876920" y="1495440"/>
            <a:ext cx="41623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tilium"/>
              </a:rPr>
              <a:t>CUM POT </a:t>
            </a:r>
            <a:r>
              <a:rPr b="1" lang="ro-RO" sz="3000" spc="-1" strike="noStrike">
                <a:solidFill>
                  <a:srgbClr val="000000"/>
                </a:solidFill>
                <a:latin typeface="Titilium"/>
              </a:rPr>
              <a:t>Ș</a:t>
            </a:r>
            <a:r>
              <a:rPr b="1" lang="en-US" sz="3000" spc="-1" strike="noStrike">
                <a:solidFill>
                  <a:srgbClr val="000000"/>
                </a:solidFill>
                <a:latin typeface="Titilium"/>
              </a:rPr>
              <a:t>COLILE S</a:t>
            </a:r>
            <a:r>
              <a:rPr b="1" lang="ro-RO" sz="3000" spc="-1" strike="noStrike">
                <a:solidFill>
                  <a:srgbClr val="000000"/>
                </a:solidFill>
                <a:latin typeface="Titilium"/>
              </a:rPr>
              <a:t>Ă</a:t>
            </a:r>
            <a:r>
              <a:rPr b="1" lang="en-US" sz="3000" spc="-1" strike="noStrike">
                <a:solidFill>
                  <a:srgbClr val="000000"/>
                </a:solidFill>
                <a:latin typeface="Titilium"/>
              </a:rPr>
              <a:t> SE BUCURE DE PREMII</a:t>
            </a:r>
            <a:r>
              <a:rPr b="1" lang="ro-RO" sz="3000" spc="-1" strike="noStrike">
                <a:solidFill>
                  <a:srgbClr val="000000"/>
                </a:solidFill>
                <a:latin typeface="Titilium"/>
              </a:rPr>
              <a:t>?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9037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Tahoma"/>
              </a:rPr>
              <a:t>CALENDARUL COMPETIȚIEI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ro-RO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Content Placeholder 3" descr=""/>
          <p:cNvPicPr/>
          <p:nvPr/>
        </p:nvPicPr>
        <p:blipFill>
          <a:blip r:embed="rId1"/>
          <a:stretch/>
        </p:blipFill>
        <p:spPr>
          <a:xfrm>
            <a:off x="480960" y="1596960"/>
            <a:ext cx="8944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tilium"/>
              </a:rPr>
              <a:t>COSTURI ELIGIBILE PENTRU </a:t>
            </a:r>
            <a:br>
              <a:rPr sz="3200"/>
            </a:br>
            <a:r>
              <a:rPr b="1" lang="ro-RO" sz="3200" spc="-1" strike="noStrike">
                <a:solidFill>
                  <a:srgbClr val="000000"/>
                </a:solidFill>
                <a:latin typeface="Titilium"/>
              </a:rPr>
              <a:t>PROIECTUL ȘCOLI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tilium"/>
              </a:rPr>
              <a:t>Proiecte de investiție – renovări, amenajări, etc..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tilium"/>
              </a:rPr>
              <a:t>Achiziții de bunuri și servicii necesare bunei desfășurări a activității școla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tilium"/>
              </a:rPr>
              <a:t>Programe destinate elevilor (fonduri de premiere, alte activități extracuriculare, etc...)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tilium"/>
              </a:rPr>
              <a:t>Programe destinate profesorilor (fonduri de premiere, programe de pregatire, etc...)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marian.knup@scoaladevalori.ro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0743618859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www.olimpiadelek.ro – din 15 septembri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tilium"/>
              </a:rPr>
              <a:t>STRUCTURA PREZENT</a:t>
            </a:r>
            <a:r>
              <a:rPr b="1" lang="ro-RO" sz="3600" spc="-1" strike="noStrike">
                <a:solidFill>
                  <a:srgbClr val="000000"/>
                </a:solidFill>
                <a:latin typeface="Titilium"/>
              </a:rPr>
              <a:t>Ă</a:t>
            </a:r>
            <a:r>
              <a:rPr b="1" lang="en-US" sz="3600" spc="-1" strike="noStrike">
                <a:solidFill>
                  <a:srgbClr val="000000"/>
                </a:solidFill>
                <a:latin typeface="Titilium"/>
              </a:rPr>
              <a:t>RII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95000" y="1600200"/>
            <a:ext cx="93344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Ce este programul : </a:t>
            </a:r>
            <a:r>
              <a:rPr b="1" lang="en-US" sz="2800" spc="-1" strike="noStrike">
                <a:solidFill>
                  <a:srgbClr val="000000"/>
                </a:solidFill>
                <a:latin typeface="Titilium"/>
              </a:rPr>
              <a:t>“OLIMPIADELE KAUFLAND”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Mecanismul competi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ț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ie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Cum pot 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ș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colile s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 se bucure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de premii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Picture 2" descr="https://encrypted-tbn0.gstatic.com/images?q=tbn:ANd9GcQAotxXLcjQMkIAiYsewYD6xpuHHtZQWIv9TnZFQ4XIVTzdiimS8A"/>
          <p:cNvPicPr/>
          <p:nvPr/>
        </p:nvPicPr>
        <p:blipFill>
          <a:blip r:embed="rId1"/>
          <a:stretch/>
        </p:blipFill>
        <p:spPr>
          <a:xfrm>
            <a:off x="6465960" y="2514600"/>
            <a:ext cx="28098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-152280" y="77760"/>
            <a:ext cx="102106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000000"/>
                </a:solidFill>
                <a:latin typeface="Titilium"/>
              </a:rPr>
              <a:t>DESPRE PROGRAM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OlimpiadeleK este un program de </a:t>
            </a:r>
            <a:r>
              <a:rPr b="1" lang="vi-VN" sz="2800" spc="-1" strike="noStrike">
                <a:solidFill>
                  <a:srgbClr val="000000"/>
                </a:solidFill>
                <a:latin typeface="Titilium"/>
              </a:rPr>
              <a:t>responsabilitate socială </a:t>
            </a: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sponsorizat de către Kaufland România și implementat în parteneriat cu Școala de Valori și Ministerul Educației și Cercetării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OlimpiadeleK 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are forma unei 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competi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ții la nivel național la care pot participa toate instituțiile de învățământ public din România - </a:t>
            </a: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grădinițe, școli primare și gimnaziale, licee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000000"/>
                </a:solidFill>
                <a:latin typeface="Titilium"/>
              </a:rPr>
              <a:t>DESPRE P</a:t>
            </a:r>
            <a:r>
              <a:rPr b="1" lang="ro-RO" sz="3600" spc="-1" strike="noStrike">
                <a:solidFill>
                  <a:srgbClr val="000000"/>
                </a:solidFill>
                <a:latin typeface="Titilium"/>
              </a:rPr>
              <a:t>R</a:t>
            </a:r>
            <a:r>
              <a:rPr b="1" lang="vi-VN" sz="3600" spc="-1" strike="noStrike">
                <a:solidFill>
                  <a:srgbClr val="000000"/>
                </a:solidFill>
                <a:latin typeface="Titilium"/>
              </a:rPr>
              <a:t>OGRAM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Câștigătoare vor fi 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unitățile de învățământ </a:t>
            </a: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ai căror dascăli și elevi formează adevărate echipe și desfășoară împreună cât mai multe activități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 educaționale extracuriculare înscrise pe platforma competiție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Titilium"/>
              </a:rPr>
              <a:t>www.olimpiadelek.r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o-RO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" name="Picture 5" descr=""/>
          <p:cNvPicPr/>
          <p:nvPr/>
        </p:nvPicPr>
        <p:blipFill>
          <a:blip r:embed="rId1"/>
          <a:stretch/>
        </p:blipFill>
        <p:spPr>
          <a:xfrm>
            <a:off x="-38160" y="609480"/>
            <a:ext cx="10069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98208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tilium"/>
              </a:rPr>
              <a:t>MECANISMUL COMPETI</a:t>
            </a:r>
            <a:r>
              <a:rPr b="0" lang="ro-RO" sz="3600" spc="-1" strike="noStrike">
                <a:solidFill>
                  <a:srgbClr val="000000"/>
                </a:solidFill>
                <a:latin typeface="Titilium"/>
              </a:rPr>
              <a:t>Ț</a:t>
            </a:r>
            <a:r>
              <a:rPr b="0" lang="en-US" sz="3600" spc="-1" strike="noStrike">
                <a:solidFill>
                  <a:srgbClr val="000000"/>
                </a:solidFill>
                <a:latin typeface="Titilium"/>
              </a:rPr>
              <a:t>IEI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Picture 2" descr="http://sunshineconsultingltd.com/wp-content/uploads/2011/06/our_business_system_integration.jpg"/>
          <p:cNvPicPr/>
          <p:nvPr/>
        </p:nvPicPr>
        <p:blipFill>
          <a:blip r:embed="rId1"/>
          <a:stretch/>
        </p:blipFill>
        <p:spPr>
          <a:xfrm>
            <a:off x="2525760" y="2133720"/>
            <a:ext cx="4619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9256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us</dc:creator>
  <dc:description/>
  <dc:language>en-US</dc:language>
  <cp:lastModifiedBy>Elena</cp:lastModifiedBy>
  <dcterms:modified xsi:type="dcterms:W3CDTF">2015-09-14T09:46:18Z</dcterms:modified>
  <cp:revision>45</cp:revision>
  <dc:subject/>
  <dc:title>PowerPoint Presentation</dc:title>
</cp:coreProperties>
</file>