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1F54-8B58-4439-8CF2-72AE6BF468E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8DA0-4CCA-4E95-80C1-357D500EB3F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4EE3-2542-4EBF-AA06-3AE774CD65E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288-95FE-45B2-BD4B-964BA6A3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031-8308-4071-8649-828B36A2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8AC-179E-47CC-8825-9EE1BAED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3DC-3E42-4002-940C-1E45C3D2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8B2-CAF6-4A53-B39C-F994265A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3F6-B888-4699-AB73-880529E1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BB9-7665-4879-A677-EF06E79F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72A-99BC-4370-BD38-DBDC76C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E50-56FB-4305-8E86-75564841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8F4-A16C-4BB6-9998-F76CB79F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026-DC48-4AD7-BE94-15F6E090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41A-DC61-477A-B2AA-CEE74DF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E4F4-1B0C-4AF5-8969-4D07C1842D9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1"/>
          <p:cNvSpPr/>
          <p:nvPr/>
        </p:nvSpPr>
        <p:spPr>
          <a:xfrm>
            <a:off x="534960" y="6362640"/>
            <a:ext cx="650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BCCF-94D7-4537-B329-CFE3716283AE}" type="slidenum">
              <a:rPr b="0" lang="de-CH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ild 2" descr="Logo_TdH_neutral_RGB_big.gif"/>
          <p:cNvPicPr/>
          <p:nvPr/>
        </p:nvPicPr>
        <p:blipFill>
          <a:blip r:embed="rId2"/>
          <a:stretch/>
        </p:blipFill>
        <p:spPr>
          <a:xfrm>
            <a:off x="6323040" y="6107040"/>
            <a:ext cx="2293920" cy="395280"/>
          </a:xfrm>
          <a:prstGeom prst="rect">
            <a:avLst/>
          </a:prstGeom>
          <a:ln w="0">
            <a:noFill/>
          </a:ln>
        </p:spPr>
      </p:pic>
      <p:pic>
        <p:nvPicPr>
          <p:cNvPr id="43" name="Bild 3" descr=""/>
          <p:cNvPicPr/>
          <p:nvPr/>
        </p:nvPicPr>
        <p:blipFill>
          <a:blip r:embed="rId3"/>
          <a:stretch/>
        </p:blipFill>
        <p:spPr>
          <a:xfrm flipH="1" rot="10800000">
            <a:off x="0" y="-36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4600" y="64620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Comic Sans MS"/>
              </a:rPr>
              <a:t>Ziua Ștafetei – Acum decid eu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diția 2015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960" y="5070240"/>
            <a:ext cx="80820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900" spc="-1" strike="noStrike">
                <a:solidFill>
                  <a:srgbClr val="ffc000"/>
                </a:solidFill>
                <a:latin typeface="Comic Sans MS"/>
              </a:rPr>
              <a:t>„</a:t>
            </a:r>
            <a:r>
              <a:rPr b="0" i="1" lang="ro-RO" sz="1900" spc="-1" strike="noStrike">
                <a:solidFill>
                  <a:srgbClr val="ffc000"/>
                </a:solidFill>
                <a:latin typeface="Comic Sans MS"/>
              </a:rPr>
              <a:t>Copiii pot face lucruri mult mai mărețe decât ne-am putea închipui. Tinerii au un uriaș potențial de a schimba lumea într-una mai bună ! ACUM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3203640" y="1955880"/>
            <a:ext cx="47480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53680" y="62064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 flipH="1">
            <a:off x="227880" y="1647720"/>
            <a:ext cx="85201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„</a:t>
            </a: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Ziua Ștafetei”</a:t>
            </a:r>
            <a:r>
              <a:rPr b="1" lang="ro-RO" sz="1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celebrează dreptul tuturor tiner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a participa în societate și se desfășoară în fiecare an în luna noiembrie, cu ocazia Zilei Internaționale a semnării Convenției privitoare la Drepturile Copilului, care are loc pe 20 noiemb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rima ediție a avut loc în 2012,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fiind inspirată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modelul de „Takeover Day ” din UK și Scoț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nitiațiva, ajunsă în prezent la cea de-a patra ediție, este implementată de Fundația Terre des hommes în parteneriat cu Ministerul Educației, F.O.N.P.C, Ambasade, Asociații, ONG-uri, instituții de stat și private din toată țara, ce recunosc potențialul deosebit al tineril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Viziunea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acestui proiect este o lume în care tinerii sunt respectați, ascultați și trăiesc în demnita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1280" y="476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entru ce pled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480000" y="45864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55440" y="25092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50920" y="627120"/>
            <a:ext cx="889308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Scopul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estui proiect este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facilitarea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participării copiilor și tinerilor la deciziile importante ce le pot influența viața și comunitatea în care trăiesc.</a:t>
            </a:r>
            <a:br>
              <a:rPr sz="1800"/>
            </a:b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roiectul are în vedere </a:t>
            </a:r>
            <a:br>
              <a:rPr sz="2400"/>
            </a:b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Recunoaștere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reptului la participare a copiilor în România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18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Introducerea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nui model educațional modern implementat la nivel național 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Crearea unui spațiu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explorare vocațională și de exprimare personală ce le dezvoltă potențialul 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Tinerii care au participat în perioada 2012 – 2014 au apreciat-o ca fiin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o experiență de neuitat ! ..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Pur și simplu, nu ai cum să nu iubești Ziua Ștafete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c000"/>
                </a:solidFill>
                <a:latin typeface="Comic Sans MS"/>
              </a:rPr>
              <a:t>Extras din Jurnalul de Bord  al ediției din 2014 </a:t>
            </a: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427800" y="25092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855440" y="25092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539640" y="665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82520" y="674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î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9280" y="1495440"/>
            <a:ext cx="835668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206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de tineri din 38 județe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u explorat peste 86 de meserii fiind susținuți în acest demers de 266 de coordonatori, din peste 200 de școli și 1032 de mentori.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Aceste rezultate au fost obținute grație suportului oferit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Fondation 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Harcourt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nist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eru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ti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 Ambasad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K, Franț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ubli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i Cehe, Elveți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land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oniei, Olandei, Delegaț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Wallonie Bruxelle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stitut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l France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ouble Tree by Hilton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B Schenker Romtrans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eroportul Otopen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OM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8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compani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, din pes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0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spitale, 14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ur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 medicale, 18 stați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sa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ivat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adio and TV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nități militare, agenții de presă, structuri județe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12040" y="279360"/>
            <a:ext cx="261756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914400"/>
            <a:ext cx="84232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în 2015  ....</a:t>
            </a:r>
            <a:r>
              <a:rPr b="0" lang="en-US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urnalul de bord al activităților din acest an va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sfășurarea regulată a unor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grupuri consultative de tineri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mplicați în organizarea evenimentului și explorarea opiniilor și deciziilor pe care aceștia le doresc în diferite domenii de interes pentru aceș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tivități de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advocacy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ce pledează pentru participarea copilului în 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și de asemenea, extrem de important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24640" y="320760"/>
            <a:ext cx="26179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22200" y="1273320"/>
            <a:ext cx="88218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către tineri cu vârste cuprinse între 12-18 ani,  într-o manieră pozitivă, prin trei modalitaţi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simular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– un copil sau un grup de copii experimentează atribuţiile unei meserii sau toate meseriile ce funcţionează în cadrul unei institu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însoţire a mentorului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– un copil sau un grup de copii observă mentorul desfăşurându-şi activitat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participar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la soluţionarea unor provocări întâmpinate de o companie – copiii oferă posibile soluţii la problemele întâmpin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Conceptul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ste următorul : pentru o zi, tinerii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„preiau”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meseria visată, pe care au decis singuri că vor s-o experimenteze. Această zi specială este apoi pregătită și organizată atent în compania respectivă, astfel încât aceștia să o poată trăi la intensitatea maximă, să fie consultați în domeniul respectiv, să-și exprime propria lor viziune și să experimenteze cu adevărat acea mese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rofesionistul care predă ștafeta va deveni mentorul tânărului, având rolul de a ghida și facilita reușita întregii experienț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74040" y="65412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reluarea „ ștafetei„ meseriei vi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26080" y="289080"/>
            <a:ext cx="26179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64620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e7f00"/>
                </a:solidFill>
                <a:latin typeface="Comic Sans MS"/>
              </a:rPr>
              <a:t>Pentru mai multe informații, vă stăm cu mare drag la dispoziț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Fundația Terre des hommes Elveț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ucurești, Strada Franzelarilor,Nr.6,Sec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www.tdh.ch / www.tdh.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Cristina Vlades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0728062960 / cristina.vladescu@tdh.r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Tiberiu 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0731327376 / tiberiu.nica@tdh.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Platforma online a proiectului</a:t>
            </a: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: www.acumdecid.e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Mulțumim pentru atenție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02320" y="30168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7:31Z</dcterms:created>
  <dc:creator>Plain User</dc:creator>
  <dc:description/>
  <dc:language>en-US</dc:language>
  <cp:lastModifiedBy>Elena</cp:lastModifiedBy>
  <cp:lastPrinted>2015-07-13T11:51:14Z</cp:lastPrinted>
  <dcterms:modified xsi:type="dcterms:W3CDTF">2015-09-14T09:57:20Z</dcterms:modified>
  <cp:revision>254</cp:revision>
  <dc:subject/>
  <dc:title>Prezentáció címe</dc:title>
</cp:coreProperties>
</file>