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A9D-8589-4345-9CEC-A32D05C7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DC3-3360-4388-AC51-E5FD30D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DC5-2094-4103-B0A2-03A74A3A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F7E-CD47-41CB-BEB6-18A7D281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9CFA-21EB-42B9-956C-3D9A1D29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40BB-7C2B-4BE9-A403-26AC7867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1158-693D-48EA-8B8F-0AEDDD98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C039-3306-4275-8B6B-C9E406B0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1BEF-D5BA-47AA-BDFA-698C7049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BCC1-1CDE-4C68-89C7-502F4F83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28A5-CAB8-4932-8EBA-62C5AAD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F9B-098D-4AF7-A69D-311C991E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1C96-7F35-4989-BDEF-4CD6FDFA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3C05-8BC7-42AE-B705-32082F0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5C33-53B5-4A7D-BDFD-EDEFF07B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D8D0-F928-4A0D-9CE3-DAF6B922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C109-1CFF-4080-9E45-03261E90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AAF2-93E8-4F5E-AC71-F3D71687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678D-E4AC-4D02-BBFC-78BB24CF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0D57-7055-40FD-8FB8-C2ACF55E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5B35-C052-468D-B4F9-0419ACDF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3EF0-679A-4FAB-9E51-3FEF0F63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B51-8A3D-40EE-A37C-7EBF22B5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AD1B-9833-4E96-B82E-75BA9145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05E6-140E-4585-9F0A-4F35368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495A-A8A4-4867-B703-012AA1EE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3FCB-03FB-421A-8C68-2E33805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9F11-4C1E-419B-9AD3-211BA5C1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3412-AC04-4142-A651-3AEE8332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15CB-7716-45B7-810D-FCE432E0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66F4-91FE-4210-A2D1-94C0F3FC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F389-1AD3-428C-B64F-78887B59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D293-56A6-48D0-891B-FE93831F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BA8-FCA5-437B-8E85-D134688F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BCD4-EC71-4AC0-8339-BC6E59C3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FD22-3483-4E3B-ACB4-8A2F3FFE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48251-3DD8-4820-A97B-28D1F49B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6D482-9CF2-4731-A9C7-70E98BE3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412F-4773-4E04-81F0-1F52FF4A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80EDB-C4D0-4078-A380-8B595AC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D9A4-9188-4081-B8E1-E09AFB75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06A66-AB0B-435F-AB28-F15FCF37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33304-74C7-4BB7-AEAA-688B1503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4039-BF85-434D-93AE-8879BE50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D49-BB92-4BBD-9EED-8CE17B3C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0B454-5CE1-4912-A6A3-E868EAE4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B7A92-AED3-4076-8589-0D475948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DD76-C2CF-42F6-BB68-53A29934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901D2-724D-40C6-9F72-52E7E15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795D1-3AE8-4AC0-8534-41CCE0D3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A539C-686C-46AF-8C5B-5A3DB14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700A5-20BF-4B04-889C-D639A872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6AA53-C7D3-46B7-A5F7-488AE543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C843-FCCF-4AB9-8E08-6CA8D0B8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B8514-8AE2-4ABD-BB8C-F757E471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382-7A3D-46D3-B4BD-A5D4A0BB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29D6E-BC3B-486B-9525-C6AAC658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BAFB-E2D1-4281-ABC2-370B1B27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E2734-0119-4504-B7AC-D06960CB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9D99C-8404-4EF3-A4A1-4779620E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32BDF-4738-42A8-B5DA-E2E5300C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FF54-88FB-4408-8ED1-9A6A8E8C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EA374-4F21-47FF-BE58-727C55A5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E663-AC09-4669-B82A-9AE1EDD0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5131-D7BC-4DD9-BF14-75ACA9D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677BF-AB50-4364-BC99-FD387D02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93B-91E2-4C9B-B2A9-C28A8DA1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1BE91-67B6-4740-8FE7-3C0C9EC5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0EDA7-C3D5-45A9-85B0-D88BD366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B6E1-667B-4CA9-B763-763BF969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0146B-B39C-448D-ABFC-DBD44987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BA54B-85A9-474C-B6B5-E48EAE85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1EE0B-8591-4582-8B6F-937D7F19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E7692-8D00-43F3-A332-16CB6C6D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FD22A-5377-4D3E-8DD7-E55D78D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706F0-BDCD-4031-9986-92B21595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9B29-C958-4236-9AD8-E6D7530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BAF-E289-45CD-ADC8-BF8CA6E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95804-A1FF-4485-B56C-BE754EC5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E7183-60A9-46DA-ADC4-4062100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289A5-C094-470B-8A3D-552E9071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836C2-B02D-433E-B572-C91156F4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B5E3-63A6-4898-ABDB-6E31BC90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37504-FB9A-4231-B14C-15BB68BD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6E534-456D-4AEA-BC1B-70729A61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DD2DA-B0B2-4664-8F88-811C9401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601F0-BA76-4C98-ADAB-F0AA62DE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272ED-6CA2-46A6-AAE5-774DA994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35D-AB27-48C7-B0F6-FAC550CB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352F-3055-49B1-9AF2-FE446AF8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B0C8D-29EF-49C0-8632-D4E879C8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5E364-A130-4AA5-8B26-0B77BB8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7FC4-CF5C-43B0-BBC3-AFA7D692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4A4B-F4E8-43E3-BBC5-9065DE55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08C50-A25E-4AD3-BFBE-359ABDE8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90025-7C0F-4447-8F50-15DB2B40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AEB4-0805-4DF8-88C3-4640644C02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0368-523B-414F-A1A4-43362E5369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218E-8FB8-449A-9591-8FCD875340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B6A5-229D-4792-9876-7BE047461A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CB7-F4CF-4C6D-80AB-A5307B4399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13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1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21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C87F-0393-42C2-9035-2708C253EA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6E92-7499-4901-91B6-E3AACF1BE46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FA2F-8A62-45A0-ADD9-3F8B536660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Users/GEELOO/AppData/Local/Temp/Temp1_Portofolii.zip/fisa%20postului.doc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LATIN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5</a:t>
            </a:r>
            <a:r>
              <a:rPr b="1" lang="ro-RO" sz="2800" spc="-1" strike="noStrike">
                <a:solidFill>
                  <a:srgbClr val="696464"/>
                </a:solidFill>
                <a:latin typeface="Perpetua"/>
              </a:rPr>
              <a:t>-</a:t>
            </a:r>
            <a:r>
              <a:rPr b="1" lang="ro-RO" sz="2800" spc="-1" strike="noStrike">
                <a:solidFill>
                  <a:srgbClr val="696464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ro-RO" sz="2800" spc="-1" strike="noStrike">
                <a:solidFill>
                  <a:srgbClr val="696464"/>
                </a:solidFill>
                <a:latin typeface="Perpetua"/>
              </a:rPr>
              <a:t>SEPTEMBRIE 201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7302-51E8-4FE7-8530-9B7FD3B402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CONSFĂTUIRILE NAŢIONALE </a:t>
            </a:r>
            <a:br>
              <a:rPr sz="2800"/>
            </a:b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ALE INSPECTORILOR </a:t>
            </a:r>
            <a:r>
              <a:rPr b="0" lang="en-US" sz="2800" spc="-1" strike="noStrike">
                <a:solidFill>
                  <a:srgbClr val="f2f2f2"/>
                </a:solidFill>
                <a:latin typeface="Franklin Gothic Book"/>
              </a:rPr>
              <a:t> </a:t>
            </a: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ȘCOLARI </a:t>
            </a:r>
            <a:br>
              <a:rPr sz="2800"/>
            </a:br>
            <a:r>
              <a:rPr b="0" lang="ro-RO" sz="2800" spc="-1" strike="noStrike">
                <a:solidFill>
                  <a:srgbClr val="f2f2f2"/>
                </a:solidFill>
                <a:latin typeface="Arial"/>
              </a:rPr>
              <a:t>PENTRU</a:t>
            </a:r>
            <a:br>
              <a:rPr sz="2800"/>
            </a:br>
            <a:r>
              <a:rPr b="0" lang="en-US" sz="2800" spc="-1" strike="noStrike">
                <a:solidFill>
                  <a:srgbClr val="f2f2f2"/>
                </a:solidFill>
                <a:latin typeface="Franklin Gothic Book"/>
              </a:rPr>
              <a:t>LIMBI MODERN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ţi metodico-ştiinţifice ale catedrei pentru anul școlar  în curs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şcolare valabile în anul şcolar în curs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pentru examenele naţionale (bacalaureat) şi concursurile şcolare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ificări le calendaristice ale membrilor catedre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rile 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dru pentru anul şcol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pectiv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abel  nominal cu membrii catedrei şi datele lor personale (telefon, adresa de e-mail, şcoala de provenienţă, grad didactic, specialitatea, vechimea în învăţământ etc.)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catedre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şi tematica activităţilor de catedră.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– verbale ale şedinţelor de catedră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atedră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RESPONSABILULUI</a:t>
            </a: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 DE CERC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colilor arondate cerculu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ți al şefului cercului metodic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atica şedinţelor de cerc, data şi locul de desfăşur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-verbale încheiate la activităţile de cer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erc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8B0A-7A5E-436E-9DAB-B1DEB74AFAD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PORTOFOLIUL PROFESORULUI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ubstituent număr diapozitiv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F991-3531-4EE3-889D-B07CF990CE2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(pentru profesorii debutanț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9C8F-F555-41A1-9009-904E8DD36B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perfecțion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/formare în domeniul discipline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A359-EBB3-45C0-8572-910B34F667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PORTOFOLIUL ELEVULUI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PORTOFOLIUL ELEVULU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prezintă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“acord”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de învăţare ale elevului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96464"/>
                </a:solidFill>
                <a:latin typeface="Arial Narrow"/>
              </a:rPr>
              <a:t>Portofoliul cuprind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440" y="152352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conţinutului acestu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(sumarul, care include titlul fiecărei lucrări/fiş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tc. şi numărul paginii la care se găseşt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ucrările pe care le face elevul individual sau în grup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rezum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seur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ticole, referate, comunicăr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fişe individuale de studiu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iecte şi experimen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ele ziln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robleme rezolv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apoarte scrise – de realizare a proiectel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teste şi lucrări semestrial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hestionare de atitudin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bservaţii pe baza unor ghiduri de observaţi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flecţiile proprii ale elevului asupra a ceea ce lucreaz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autoevaluări scrise de elev sau de membrii grupulu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interviuri de evaluar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9BD0-63DF-4E0E-B0FF-A3EAD8179B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erpetua"/>
              </a:rPr>
              <a:t>PORTOFOLIUL INSPECTORULUI </a:t>
            </a:r>
            <a:r>
              <a:rPr b="1" lang="ro-RO" sz="4800" spc="-1" strike="noStrike">
                <a:solidFill>
                  <a:srgbClr val="000000"/>
                </a:solidFill>
                <a:latin typeface="Perpetua"/>
              </a:rPr>
              <a:t>ȘCOLAR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PENTRU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Perpetua"/>
              </a:rPr>
              <a:t>LIMBI MODERNE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80DD-9928-40D7-8A79-08AC4DED7A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biective viitoar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piniile elevilor privind activităţile desfăşur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D846-9810-475B-BE55-0C1556B49C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SUCCES TUTUR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ÎN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 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ANUL ȘC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 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201</a:t>
            </a:r>
            <a:r>
              <a:rPr b="1" lang="en-US" sz="2800" spc="-1" strike="noStrike">
                <a:solidFill>
                  <a:srgbClr val="cc9900"/>
                </a:solidFill>
                <a:latin typeface="Georgia"/>
              </a:rPr>
              <a:t>7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-201</a:t>
            </a:r>
            <a:r>
              <a:rPr b="1" lang="en-US" sz="2800" spc="-1" strike="noStrike">
                <a:solidFill>
                  <a:srgbClr val="cc9900"/>
                </a:solidFill>
                <a:latin typeface="Georgia"/>
              </a:rPr>
              <a:t>8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Structura portofoliului/mapei inspectorului școlar pentru limbi moderne -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 normativ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 manageriale, baze date, documen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specifice disciplinei: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ACE7-E21A-478B-9C2D-DF3AE3ADD2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Fişa postului operaţionalizată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 Narrow"/>
                <a:hlinkClick r:id="rId1"/>
              </a:rPr>
              <a:t>fisa postului.do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urriculum Vitae Europa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iagnoza disciplinei……; Starea disciplinei……, în anul şcolar….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noza, realizată de Consiliul Consultativ al profesorilor de limbi modern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 manageriale anuale şi semestrial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anual şi semestrial al inspecţiei şcolare, corelat cu Graficul unic de inspecţie şcolară al Inspectoratului Şcolar Județean..../al Municipiului Bucureșt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Rapoarte periodic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lunare, semestriale, anuale (Fişa săptămânală/lunară de raportare a inspectorului şcolar de limbi modern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3475-5F1B-477F-83D1-D9A9082F24A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onsiliul Consultativ al profesorilor de limbi moderne (componenţa şi atribuții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profesorilor metodişti şi a sarcinilor delegate (criterii de selecţie, vechime în învăţământ, gradul didactic, competenţă profesională dobândită prin studii şi activitatea didactică; CV-urile acestora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videnţa distribuţiei şi a realizării de căt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fesorii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etodişti a activităţii de  inspecţie şcolară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fesorilor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etodişti (conţinut şi fişa de evaluare a acestora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efilor de catedră /comisie metodică/persoană de contact la specialitatea…..în unităţile de învăţământ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tribuţiile cadrului didactic - şef de catedră /comisie metodică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le de proiectare, organizare şi desfăşurare a activităţii catedrelor/comisiilor metod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ortofoliul profesorului de (specialitatea)…..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7C2B-AAA2-4830-86D6-34F7D1E2C9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cadrelor didactice - formatori naţionali şi locali; evaluatori DEL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E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SD, ÖSD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responsabililor cercurilor pedagogice; evidenţa problemelor ridicate la activităţile cercurilor pedagog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activităţilor metodice, ştiinţifice şi de formare continu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(axat pe obiective specifice, corect elaborat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ontribuţii personale şi de grup în cercetarea ameliorativă a problemelor specialităţi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Implicarea în acţiuni metodice şi de perfecţionare organizate cu cadrele didactice în colaborare cu diferite instituţi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Instrumente, indicatori, criterii utilizate şi acţiuni specifice desfăşur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5089-0D61-4539-95F4-3754741346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533520"/>
            <a:ext cx="81532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valuări realizate în vederea acordării gradaţiei de merit, a participării la concursuri şi alte acţiuni similare/cursuri de formare în didactica disciplinei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Modalități de monitoritorizare și acordare consultanță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Rezultate deosebite ale cadrelor didactice şi ale elevilor în procesul de învăţare şi la concursurile şcolare; acţiuni de recompensare, ameliorare şi reglar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Lista cursurilor opţionale şi avizarea lor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videnţa manualelor şcolare existente în catalog la disciplina...... 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Lista membrilor ARPF/ale altor asociaţii profesional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Fişa anuală de evaluare a inspectorului şcolar pentru limbi modern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Calendarul examenelor naționale și al activităţilor organizate cu ocazia Zilei Europene a Limbilor (26 septembrie) şi a Francofoniei (20 martie)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PROFESORULUI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METODIS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7889-73A3-4CBA-8F14-2451D671BD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iz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 numir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/ Delegaț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urriculum Vitae(Europass).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de evidenţă a inspecţiilor efectu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inspecţiilor de specialitate şi temat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iagnoza procesului de învăţământ de specialitate (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 sectorul/zona arondat(ă), la finele fiecărui semestru);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pie a rapoartelor de inspecţi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ele de documente de planificare şi proiect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dactic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ă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a nivelul învăţământului primar, gimnazial şi liceal, după caz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gi, ordine,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H.G-uri,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ote ale M.E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,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uvernului  privind  învăţământul preuniversit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ul formularelor tip folosit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 cadrul inspecţiil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RESPONSABILULU</a:t>
            </a: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I DE CATEDRĂ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Luminita Stoian</cp:lastModifiedBy>
  <dcterms:modified xsi:type="dcterms:W3CDTF">2017-09-04T04:48:49Z</dcterms:modified>
  <cp:revision>618</cp:revision>
  <dc:subject/>
  <dc:title>Comisia Nationala de Informatica</dc:title>
</cp:coreProperties>
</file>