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A82-307D-4204-82B3-9E69B862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9EB-06E1-4C1E-B27F-16DF43AA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387-A066-4B02-BC53-B8B1C397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BE8-03B9-4E8C-B22F-D41D1A3D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C7DD-B456-419A-A3F8-30C7949C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3B9F-5798-4951-8F06-927B27BA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0B0B-8355-4D93-8A0D-59059D13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5EF2-30E0-492F-B8AB-5D33C6B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468D-7ECA-4F3E-8830-B151FACE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DA6A-ACEB-4193-9EA5-79F9150A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CC91-096A-41C1-8256-44FC38F4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CBA-49AE-478E-B26E-F2319822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63EC-EEEB-491C-A4DD-35526640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9037-B2C6-4ED3-8D6F-5ED3DA3A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1DBF-706C-4EC2-A80F-61267288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46AF-44A3-4869-85E5-A6714B42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0C73-BD59-44EA-A19C-5BAE5E76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97D6-DEDE-4182-B259-EA9422B4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4C29-9F34-4914-93E3-4756BC87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5057-CA81-4E75-8E79-3D65EC8A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765B-627B-4AF8-A47E-FF7B024C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705A-794C-4708-83E2-00F7E41F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687-E9E0-4C93-A8DE-78992864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E0CE-D084-4930-9D9E-05FC352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DCB6-CE40-45C1-A38B-8AE818A9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6F71-9CE8-423A-A1AA-2AB1FD96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E416-59ED-414D-92DD-7A0F09BE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1830E-0A37-4799-8714-5CEA3D71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D493-2853-4099-9537-44B78A70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7856-3343-4DBD-99B0-C03A5E70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3E80-251A-4427-A8A0-7464EF88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61864-7F55-4CFD-AABC-6CEE649B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5902-FFD4-414E-9755-B16FEA67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363-C133-4D2E-96B2-9ABAE5D3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3B96-F488-4D11-BA05-373A506B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516E-DF55-482B-9836-8902E287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7397-2750-44A9-AF47-D4838CF6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DF85-D090-4073-A094-70B7125E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9E04-34A3-40EA-9CBE-D9B805DD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2CFF7-0659-406D-80DC-21213DF7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8488-BDE0-4D36-A315-9E1587AF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32941-A39F-4898-94B2-6E4EBF3F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7DECD-992A-4F1D-9377-79EC4668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995-A45F-45D1-8F77-30D1CD50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15A-5BE5-4ABF-9FDC-13445634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F68-C572-4366-8590-3F2E6F1E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6F8-A22B-4A34-AE6C-E173E2B4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227-C720-41A6-A6EE-9A185F05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CE09-889D-438F-AB15-0706517150B1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87AF-EF0C-49CE-B7BF-E03D1E466FA8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EBA6-68B3-45B0-BBF8-B044FB69BCE8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FFF0-A225-40B2-8599-78C5556CF633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u.ro/index.php/articles/16313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650880"/>
            <a:ext cx="7239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CONSFĂTUIRILE NAŢIONALE </a:t>
            </a:r>
            <a:br>
              <a:rPr sz="1800"/>
            </a:b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ALE INSPECTORILOR </a:t>
            </a:r>
            <a:r>
              <a:rPr b="1" lang="en-US" sz="1800" spc="-1" strike="noStrike">
                <a:solidFill>
                  <a:srgbClr val="f2f2f2"/>
                </a:solidFill>
                <a:latin typeface="Trebuchet MS"/>
              </a:rPr>
              <a:t> </a:t>
            </a: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Ș</a:t>
            </a:r>
            <a:r>
              <a:rPr b="1" lang="en-US" sz="1800" spc="-1" strike="noStrike">
                <a:solidFill>
                  <a:srgbClr val="f2f2f2"/>
                </a:solidFill>
                <a:latin typeface="Trebuchet MS"/>
              </a:rPr>
              <a:t>COLARI </a:t>
            </a: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 PENTRU</a:t>
            </a:r>
            <a:endParaRPr b="0" lang="en-US" sz="1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24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</a:t>
            </a:r>
            <a:r>
              <a:rPr b="0" lang="ro-RO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Diagnoza procesului educaţional din anul școlar 2016-2017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404040"/>
                </a:solidFill>
                <a:latin typeface="Tahoma"/>
              </a:rPr>
              <a:t>● </a:t>
            </a:r>
            <a:r>
              <a:rPr b="1" lang="vi-VN" sz="2000" spc="-1" strike="noStrike">
                <a:solidFill>
                  <a:srgbClr val="404040"/>
                </a:solidFill>
                <a:latin typeface="Arial"/>
              </a:rPr>
              <a:t>Regulamentul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vi-VN" sz="2000" spc="-1" strike="noStrike">
                <a:solidFill>
                  <a:srgbClr val="404040"/>
                </a:solidFill>
                <a:latin typeface="Arial"/>
              </a:rPr>
              <a:t>de inspecție a unităților de învățământ preuniversitar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(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O MECTS nr. 5547/6 octombrie 2011)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se poate accesa la adresa: </a:t>
            </a:r>
            <a:r>
              <a:rPr b="0" lang="ro-RO" sz="20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://www.edu.ro/index.php/articles/163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 tipuri fundamentale de inspecție a unităților de învățământ preuniversitar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școlară generală a unităților de învățământ preuniversitar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tematic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de specialita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09480" y="3808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CONSF</a:t>
            </a:r>
            <a:r>
              <a:rPr b="1" lang="ro-RO" sz="2000" spc="-1" strike="noStrike">
                <a:solidFill>
                  <a:srgbClr val="3399ff"/>
                </a:solidFill>
                <a:latin typeface="Arial"/>
              </a:rPr>
              <a:t>ĂTUIRILE ANUALE ALE INSPECTORILOR ȘCOLARI  PENTRU LIMBI MOD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295280" y="15238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2f2f2"/>
                </a:solidFill>
                <a:latin typeface="Arial"/>
              </a:rPr>
              <a:t>            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5-8</a:t>
            </a:r>
            <a:r>
              <a:rPr b="1" lang="en-US" sz="18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SEPTEMBRI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              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Sl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d) consilierea cadrului didactic inspectat în legătură cu proiectarea și utilizarea unor strategii didactice corespunzătoare învățământului modern bazat pe competenț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e) evaluarea capacității cadrului didactic inspectat de a integra Tehnologia informației și comunicațiilor </a:t>
            </a:r>
            <a:r>
              <a:rPr b="0" i="1" lang="vi-VN" sz="2000" spc="-1" strike="noStrike">
                <a:solidFill>
                  <a:srgbClr val="404040"/>
                </a:solidFill>
                <a:latin typeface="Arial"/>
              </a:rPr>
              <a:t>(TIC) și lecțiile din cadrul Platformei de eLearning(AEL) în activitatea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f) consilierea cadrului didactic inspectat în legătură cu integrarea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TIC și a lecțiilor AEL în activitatea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g) evaluarea competențelor cadrului didactic inspectat de autiliza metodele de învățare diferențiat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h) consilierea cadrului didactic inspectat în legătură cu utilizarea unor metode de învățare diferențiat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i) evaluarea capacității cadrului didactic inspectat de a integra elementele de evaluare în cadrul activităților de predare-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78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j) consilierea cadrului didactic inspectat în legătură cu integrarea elementelor de evaluare în cadrul activităților de predare-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k) consilierea cadrelor didactice în vederea diversificării ofertei curriculare de cursuri opțional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l) consilierea cadrelor didactice în legătură cu posibilitățile de dezvoltare profesională și evoluție în carier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ă</a:t>
            </a: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23880"/>
            <a:ext cx="7315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   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) relația profesor—elev și aplicarea sistematică a strategiilor didactice centrate pe elev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b) utilizarea achizițiilor anterioare de învățare ale elevilo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c) concordanța dintre strategiile didactice utilizate și caracteristicile grupurilor de elev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) individualizarea sarcinilor și a situațiilor de învățare în funcție 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       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nevoile identificat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e) caracterul interdisciplinar și transdisciplinar — legături cu al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iscipline de studiu, în cadrul aceleeași arii, și legături cu discip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     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rii curriculare diferit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34824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25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5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5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500" spc="-1" strike="noStrike">
                <a:solidFill>
                  <a:srgbClr val="5fcbef"/>
                </a:solidFill>
                <a:latin typeface="Trebuchet MS"/>
              </a:rPr>
              <a:t>ă</a:t>
            </a:r>
            <a:br>
              <a:rPr sz="2500"/>
            </a:br>
            <a:br>
              <a:rPr sz="2500"/>
            </a:br>
            <a:r>
              <a:rPr b="1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160" y="18288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)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modul de selecție și utilizare a auxiliarelor curriculare în funcție 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specificul unității de învățământ preuniversitar și de achiziți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nterioare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e învățare ale educabililo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g) dezvoltarea capacității elevilor de a învăța din experiență și di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practic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h) modul de răspuns al cadrului didactic la cererile elevilor sau a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părinților privind acordarea de sprijin individual în învăț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i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) includerea, dacă este cazul, în cadrul activităților de predare-învăța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evaluare a elementelor specifice ale minorităților etnice, religioase sa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e altă natură existente în instituția de educați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j) utilizarea formelor de evaluare formativă și sumativă a rezultatel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vățări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ă</a:t>
            </a:r>
            <a:br>
              <a:rPr sz="2800"/>
            </a:b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1295280"/>
            <a:ext cx="7924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k) respectarea recomandărilor de igienă școlară privind echilibrul dint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ctivitatea școlară a elevului și celelalte tipuri de activități specifi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vârstei (inclusiv în privința temelor pentru acasă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l) respectarea drepturilor și îndatoririlor cadrelor didactice și ale elevil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 cadrul proceselor de predare-învățare-evalu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m) utilizarea autoevaluării și interevaluării elevilor în activitățile 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văț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n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) prezentarea produselor activității elevilor în sălile de clasă/grupă și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celelalte spații ale unității de învățământ preuniversita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o) caracterul obiectiv al evaluării formative și sumati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5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reg</a:t>
            </a:r>
            <a:r>
              <a:rPr b="0" lang="ro-RO" sz="3600" spc="-1" strike="noStrike">
                <a:solidFill>
                  <a:srgbClr val="000000"/>
                </a:solidFill>
                <a:latin typeface="Trebuchet MS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irea cadrelor didactic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Direc</a:t>
            </a:r>
            <a:r>
              <a:rPr b="1" lang="ro-RO" sz="2200" spc="-1" strike="noStrike">
                <a:solidFill>
                  <a:srgbClr val="ff0066"/>
                </a:solidFill>
                <a:latin typeface="Trebuchet MS"/>
              </a:rPr>
              <a:t>ţ</a:t>
            </a: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ii principale de preg</a:t>
            </a:r>
            <a:r>
              <a:rPr b="1" lang="ro-RO" sz="2200" spc="-1" strike="noStrike">
                <a:solidFill>
                  <a:srgbClr val="ff0066"/>
                </a:solidFill>
                <a:latin typeface="Trebuchet MS"/>
              </a:rPr>
              <a:t>ă</a:t>
            </a: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tir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unoaşterea documentelor şcolare reglatoar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(Planurile –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adru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şi programele şcolare în vigoare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Pregătirea de specialitate şi metodic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Utilizarea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manualelor şcolare, a ghidurilor metodologice  şi a ghidurilor de evaluare pentru disciplina Limba modernă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Formarea cadrelor didactice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 în vederea abordării interdisciplinare a lecţiilor de limbă modern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Dotarea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abinetelor de limbi moderne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Utilizarea  instrumentelor de evaluare, inclusiv a instrumentelor digitale de evalua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 rot="20880000">
            <a:off x="755280" y="1412640"/>
            <a:ext cx="75247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5fcbef"/>
                </a:solidFill>
                <a:latin typeface="Arial Black"/>
              </a:rPr>
              <a:t>SUCCES TUTUROR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5fcbe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5fcbef"/>
                </a:solidFill>
                <a:latin typeface="Arial Black"/>
              </a:rPr>
              <a:t>ÎN NOUL AN ŞCOLAR 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5fcbe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Inspecţia şcolară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-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reprezintă un ansamblu de acţiuni  care urmăresc îndrumarea, controlul şi evaluarea activităţii desfăşurate de cadrele didactice, colectivele de catedră / comisiile metodice, conducerile unităţilor de învăţământ, inspectorii şcolari, inspectorii şcolari de specialitate, inspectori şcolari generali adjuncţi şi inspectorii şcolari generali, în cadrul procesului de învăţământ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asigură o evaluare externă de proces a calităţii şi a nivelului atingerii standardelor educaţional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se desfăşoară prin acţiuni specifice proiectate şi realizate la nivelul unităţii de învăţământ, al inspectoratului şcolar şi al Ministerului Educaţiei Naționale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este organizată de cătr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a) Ministerul Educaţiei Național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b) Inspectoratele şcolare județene/ al municipiului București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FUNCŢIILE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 INSPEC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Ţ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EI 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Ş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COLARE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</a:t>
            </a:r>
            <a:r>
              <a:rPr b="1" lang="ro-RO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iagnoză, prognoză şi prospecţie a sistemului de învăţământ pe o perioadă determinată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planificare şi organizare a sistemului de învăţământ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orientare şi îndrumare metodologică a procesului de învăţământ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monitorizare a eliminării disfuncţiilor constatate prin aplicarea planului de măsur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reglare/autoreglare a sistemului şi/sau a procesului de învăţământ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SCOPU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L 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Ţ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EI 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Ş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COLARE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sprijinirea unităţilor şcolare şi a personalului didactic în creşterea calităţii procesului educativ prin consiliere şi revizuire continu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sprijinirea evaluării calităţii ofertei educaţionale şi a nivelului de performanţă atins de elevi, la nivel naţional, regional, judeţean şi local, prin furnizarea către cei în drept a rapoartelor de inspecţi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Principiile inspecţiei şcolare sunt: 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calităţii ofertei educaţional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galităţii şanselor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ameliorării şi dezvoltări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autoevaluări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feed-back-ului constructiv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competenţei şi profesionalismulu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miterii judecăţilor de valoar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xaminării multicriterial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transparenţei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53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Inspecţia de</a:t>
            </a:r>
            <a:r>
              <a:rPr b="0" lang="en-US" sz="32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specialitate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În evaluarea şi consilierea cadrelor didactice în cadrul inspecţiei de specialitate se va urmări cu precăder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unoaşterea programei şcol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Gradul în care demersul didactic este conceput din perspectiva atingerii competenţelor specifice incluse în  cadrul programei şcol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Asocierea în cadrul planificării şi proiectării didactice 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onţinuturilor în funcţie de competenţele specific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Utilizarea unor strategii didactice bazate pe metode moderne şi alternarea formelor de activitat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Integrarea  elementelor de evaluare  în cadrul strategiilor didactice prin  utilizarea unor forme şi metode diversificate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- evaluare inițială, evaluare formativă, evaluare sumativ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metode tradiţionale şi metode alternative şi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omplementare, inclusiv evaluarea digital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Inspecţia de</a:t>
            </a: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specialitate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2160360"/>
            <a:ext cx="69343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Gradul de adecvare al strategiei didactice la particularităţile claselor de elevi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Realizarea unor conexiuni inter şi trans-disciplin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Evaluarea activităţii didactice din perspectiva eficienţei învăţării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5fcbef"/>
                </a:solidFill>
                <a:latin typeface="Trebuchet MS"/>
                <a:ea typeface="Tahoma"/>
              </a:rPr>
              <a:t>Inspecția de specialitate</a:t>
            </a: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2 tipuri majore de activități</a:t>
            </a:r>
            <a:r>
              <a:rPr b="0" i="1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Activități de asistență la lecție/lecții, analiză, autoevaluare, evaluare și consilier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2. Analiza documentelor și a activităților catedrei și consilierea membrilor catedrei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Scopul inspecției de specialitate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îl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 constitui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 evaluarea și/sau monitorizarea activității didactice, în mod fundamental a activității de proiectare, predare-învățare-evaluare, prin raportare la sistemul de competențe al profesiei didactice, consilierea cadrelor didactice în legătură cu activitatea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lor profesională și posibilitățile de dezvoltare profesională și evoluție în carier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Principalele obiective urmărite în cadrul inspecției de specialitate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sunt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a) evaluarea competențelor cadrului didactic inspectat de a elabora, pe baza unei lecturi personalizate a programei școlare, planificările calendaristice și proiectele unităților de 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b) consilierea cadrului didactic inspectat în legătură cu realizarea activităților de planificare și proiectare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c) evaluarea capacității cadrului didactic inspectat de a proiecta și utiliza strategii didactice corespunzătoare învățământului modern bazat pe competenț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9:04:12Z</dcterms:created>
  <dc:creator>Manuela-Delia Anghel</dc:creator>
  <dc:description/>
  <dc:language>en-US</dc:language>
  <cp:lastModifiedBy>Luminita Stoian</cp:lastModifiedBy>
  <dcterms:modified xsi:type="dcterms:W3CDTF">2017-09-04T04:47:38Z</dcterms:modified>
  <cp:revision>139</cp:revision>
  <dc:subject/>
  <dc:title>CURRICULUM ŞI INSPECŢIE ŞCOLARĂ</dc:title>
</cp:coreProperties>
</file>