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dica Cherciu" initials="RC" lastIdx="8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7-08-28T16:02:47.289000000" idx="6">
    <p:pos x="1337" y="2016"/>
    <p:text>trebuie sa gasim un sinonim</p:text>
  </p:cm>
  <p:cm authorId="0" dt="2017-08-28T16:03:07.562000000" idx="7">
    <p:pos x="5410" y="2921"/>
    <p:text>de invatare ale elevului</p:text>
  </p:cm>
</p:cmLst>
</file>

<file path=ppt/comments/comment15.xml><?xml version="1.0" encoding="utf-8"?>
<p:cmLst xmlns:p="http://schemas.openxmlformats.org/presentationml/2006/main">
  <p:cm authorId="0" dt="2017-08-28T16:05:15.098000000" idx="8">
    <p:pos x="1954" y="453"/>
    <p:text>Obiective viitoare</p:text>
  </p:cm>
</p:cmLst>
</file>

<file path=ppt/comments/comment5.xml><?xml version="1.0" encoding="utf-8"?>
<p:cmLst xmlns:p="http://schemas.openxmlformats.org/presentationml/2006/main">
  <p:cm authorId="0" dt="2017-08-28T15:41:34.894000000" idx="1">
    <p:pos x="1831" y="2304"/>
    <p:text>Nu este plan managerial</p:text>
  </p:cm>
</p:cmLst>
</file>

<file path=ppt/comments/comment7.xml><?xml version="1.0" encoding="utf-8"?>
<p:cmLst xmlns:p="http://schemas.openxmlformats.org/presentationml/2006/main">
  <p:cm authorId="0" dt="2017-08-28T15:47:18.040000000" idx="2">
    <p:pos x="1831" y="1461"/>
    <p:text>Planul de activitati, rapoarte</p:text>
  </p:cm>
</p:cmLst>
</file>

<file path=ppt/comments/comment9.xml><?xml version="1.0" encoding="utf-8"?>
<p:cmLst xmlns:p="http://schemas.openxmlformats.org/presentationml/2006/main">
  <p:cm authorId="0" dt="2017-08-28T15:49:04.288000000" idx="3">
    <p:pos x="4567" y="1265"/>
    <p:text>obiectelor de studiu</p:text>
  </p:cm>
  <p:cm authorId="0" dt="2017-08-28T15:49:44.120000000" idx="4">
    <p:pos x="4320" y="3322"/>
    <p:text>nu din scoala</p:text>
  </p:cm>
  <p:cm authorId="0" dt="2017-08-28T15:50:09.982000000" idx="5">
    <p:pos x="2921" y="3734"/>
    <p:text>Este portofoliul profesorului...ca om de rand, nu ca sef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5DD-D1CF-4DAA-B893-03045D47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242-A9BF-42DD-8F41-45617F4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AD35E-0EA2-43B7-82CA-14AD30C6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D6C11-C5F8-4266-82AC-0D6AA4AA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416B-D443-453B-92EA-7D1C724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BB998-584C-485B-819C-C304FAE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19777-2EE0-4857-B322-1B990D94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B3778-8CFB-4F5F-84AB-9ED889F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364C6-22A8-4A09-83C3-67065BA4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15033-1A29-4192-AC51-C451A13F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BC64B-07F4-40D2-AD94-06F025EF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F2733-CC4B-4059-A0F2-372AC533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79C-F725-4721-B74C-FB440CDA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3D547-BDD6-4FE7-A377-85A970BE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0E9CC-CEF7-44C7-9A31-CA33D0D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28DCC-E548-4EA9-8412-E88F261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7E141-EB28-4853-B3D6-0DF040C3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9EE6A-E546-418C-9C3A-4B6D3EEF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C7178-AE71-488B-B9CD-A02C1B0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7D5FC-07EB-4499-8D87-32B244B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6F7A6-560B-45A7-ACBB-17DFA1D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408A7-FC9E-4DCA-937D-E679531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8726C-5C50-4014-AC04-D4B954B3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A8C-128E-4AF5-8DBC-9BE5FC52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FD367-753A-4FA6-85D1-2860751A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41828-8C76-445E-89B5-DEA5CBC1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FBD7-43A4-4435-B492-67B88BE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2657D-7648-4A60-8CB6-688E97E9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5BDA-C39D-4042-B0C0-A084D38F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B8358-3058-4405-B45F-7570CE2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A55F4-8419-4580-877E-15FB6CB2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6AEE0-39DE-4175-9359-0F6F4F2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9EC16-8B2F-4373-888E-E0CAE52F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2F32E-4093-479A-A432-DFC6D06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28D-B209-4919-956A-01451E8B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C4E66-EEB2-41E6-B63A-6A3C757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6DE2D-AF28-44B7-B64B-DED1D6B3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D43EA-7619-4441-A042-0ED153F8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86DB-E9BC-4B7D-BEDE-85F67C2E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F69-48E4-417C-9FB6-D3297324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3F4-702F-4FC9-99A6-C6585A55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7473-1D4E-4878-B9D0-223598BB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84D-6A6F-4995-8ECE-CA21491C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1380-4FD3-4477-B172-A2FBA21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AA6-6CBF-41A5-8498-32EC606B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0720-123E-4929-ADD4-3C623721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F74F-BDE8-4ABD-AD2E-A3D5586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9DD0-1F68-4B21-B733-183F5E4C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2F33-CE6E-4228-871F-859A4528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3C73-B975-4182-A547-8316D301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7050-6241-41CF-9FF5-3ABD2D7C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8D40-C857-41F9-8BAA-12F78AAC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7C92-D30E-4A5A-8227-D1D05CB7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98A8-63FF-4A80-A58E-47B39DAF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DF63-83A5-4CA1-8670-3DE3CB5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3C8-3A13-412F-93FA-255A576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9BEB-348A-4782-9631-F82CC73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8DF8-5620-4C55-BCB6-EF320D1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48EB-D475-46F0-AC8A-954B267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6DBF-6146-4CAC-B6E9-6E6628B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DF35-FD6F-4999-A3AB-8E2E6EB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6BD1-C916-44B9-8B6E-8A8F6B38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3A9C-4631-435D-AAF2-7E17750D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C089-0D2E-4460-B17C-829F6A43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196B-F081-4B02-925B-CA590288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FE05-16F0-40E8-AE7F-BC00EC7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D98-7EEB-4025-99C0-A2F2EB2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41AC-5590-4575-B463-8526ABC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F34B8-371D-4FDD-B21C-9B97843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4032-87D4-47C1-92B1-88BDBCB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E1ED-BF6E-4B0E-BAD3-B69ED28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11E4-78D7-4FBA-A921-84397FE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5822-AE21-45B6-8403-226FCD8B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43CE-1EAC-4682-9F73-2762E12A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BE29-A323-4145-828C-5CF98FC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F503-3348-45A6-8220-1A2C177B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55A6-E676-4A74-BC4D-9A156226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8E9-FE6C-4076-A726-198BF12F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B0AD-5DBF-4C85-A623-40FD38B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83DD-15D2-489B-A6B7-C31083EC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3915-CE4A-486F-B6FD-E2A45DF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B4426-7F0C-44CC-B3EC-3CDCA5A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A57E-5ACB-487E-8011-6C72FCBC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12607-723C-48D8-A4A1-5165E71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A319-5D6C-4DAB-B6FA-1F78A93E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438F-8CB6-4FBE-A2C9-0182022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B04A-DACD-43E5-8496-ADD34EF3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438A7-D308-4822-84A6-D5B476D3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B97-DA8E-4895-A968-AB156AD7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9CFC-D645-4531-907B-62608D70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5EC31-916E-4D97-AD3C-1C34CAFF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90524-4132-43E5-A463-176FF2A1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690C-9C6D-4E7E-AAB6-FEC1010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DCC0-DDE0-4844-83E0-494B0F48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8400-9918-4ED2-836F-A18BEB1D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FB11-5743-489B-B8CF-CD548381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7018F-9A2F-40A8-A605-162A1F6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B3CA-D501-4B8D-9FAE-C9EC710A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74E5-D3F5-445A-A761-658AB2B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BFA-73AB-407F-AC03-FBF485BB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C983-75EF-4D8D-B683-A558ECE2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D8AE-D260-48FE-A1B4-C4278A89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F28C-1931-417C-8993-7718535A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703C-6864-43B2-BFBB-1590E056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1CE7B-AE40-4AAC-B119-C5F19A6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F164-2FD3-4F9A-8851-29C5CF73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DDDD-9E6F-4CA0-8B97-31B0E97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962C-FB38-4F63-93A5-5223F8D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484B7-B0D0-4749-8F0B-555C4D3A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2C6A-E309-45F8-A5D1-E7076FA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727-1DB5-4E4B-AB11-ECFDF929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AE99-E8DC-4D96-8BBD-2EF44FEF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BC82B-CEE0-4513-998B-7A20A03A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32C2-8B4D-4CB7-8E81-5E6EC31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3058-E04C-40A3-B566-40622B88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8528-A9A6-4FC4-B4DD-F7D1A877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5B793-0B49-4C4D-9CB3-BF4381FE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3F0A-F51D-4735-A129-CECB61D4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5723-E275-425F-9411-06D140FB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56AA-B905-4485-9D91-4CE3495D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B713-5D90-4BDB-BD0F-21695FA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570-FB9A-4C53-B2AA-7A5FB07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1AD90-8861-4561-87F2-1E60CA78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D1547-4110-4C9A-AB64-F4A5D29F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40629-3689-485E-B31F-968538B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C6A01-CD8F-4E19-97F0-6FB35E6E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41B6-5F41-4502-B889-F5BBBED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63E5-C946-4BC9-967A-4378F0B6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7539A-5B42-4092-9AF5-0DE42750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3D32-CBF8-42B4-BF19-0B10091D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97DA4-17BC-4B3A-AD80-7A77C411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1CD2-BE0C-461A-BDA5-247C6C92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4C02-BBE4-4E9C-A8C4-5CCC94C19B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97D1-AE48-4CB3-8168-57AA07902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5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44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44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85CE-6081-424A-8520-F9DC4BE5B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7F8D-FD30-4F97-96B8-1977230EBD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8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8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8B9-C144-42DB-918F-46321ED669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A2BE-B6D8-4ED7-9FA6-D12B634AED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72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grpSp>
          <p:nvGrpSpPr>
            <p:cNvPr id="17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7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pic>
          <p:nvPicPr>
            <p:cNvPr id="17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7C2A-771B-435B-8B6E-53E3E47D73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2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2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E1B9-15B9-479B-9231-822EE93A9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7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AC44-19C6-46A2-810A-C01614C5A7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6F5-1217-4C78-86D2-247F310ED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35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3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0DC-9F17-42EF-9ED4-991EF4F50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8242200" cy="3828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18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SEPTEMBRIE 201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1A33-6E18-4F8E-9EA8-63DB47362B2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  <p:pic>
        <p:nvPicPr>
          <p:cNvPr id="496" name="Picture 4" descr="Image result for langues modernes"/>
          <p:cNvPicPr/>
          <p:nvPr/>
        </p:nvPicPr>
        <p:blipFill>
          <a:blip r:embed="rId2"/>
          <a:stretch/>
        </p:blipFill>
        <p:spPr>
          <a:xfrm>
            <a:off x="2286000" y="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076-9247-42D8-8803-D367FE1A96B4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923E-B65E-41F2-B841-501B39860404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5440" y="14173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viitoare obiective pornind de la realizările curente ale elevului/grupului, pe baza intereselor şi a progreselor înregist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55E-E8F8-4FC1-81C0-AB9F90A39A93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Decizi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 numi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proiect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 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H.G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6B4-361A-47C9-B3B6-237D2D7228AD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şefului cercului metodi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CF54-EEC4-4769-9680-51ED4A51033B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Substituent număr diapozitiv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350-801D-4497-BED8-765EB0F7430A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7-09-17T19:56:54Z</dcterms:modified>
  <cp:revision>621</cp:revision>
  <dc:subject/>
  <dc:title>Comisia Nationala de Informatica</dc:title>
</cp:coreProperties>
</file>