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03D-BB9F-4483-919E-7DA3CDCA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F3B-AFFB-41A4-8A1C-A75DF01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DBE-51EF-4983-B8E9-AD762293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C0A-483B-4E7B-AC7C-95FB1A62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F821-ACD3-4903-93EE-2D020D5D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4C6-D9F7-4C0C-A69F-323BE8C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9663-5FC7-4242-BFFC-ADAF611D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539B-BF8A-482A-830A-0D6CAAE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9D31-5ACF-4CC7-B8CF-0B800D1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A294-29EF-4F20-8DCC-A2CA98CE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EA91-821F-469F-8F03-979849B6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56D9-88CB-4CB6-B78F-5DC017AF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498-A172-44C1-887F-D73DFA4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DB5-1F89-4A8D-A73C-A17A924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1C77-6924-4F59-87D6-FC99C648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FAC8-F292-4855-A989-A3B8763C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247A-ED6A-427D-9A1B-C5FED90D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C9C3-3842-4A86-84BA-7EE27832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BC9D-3DFC-4DC1-8A47-876ED37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C7C38-196C-4ADA-A2C5-CE71A94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1B99-B12C-49EE-88CD-D5856F8D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ED54-74EC-4477-B9C9-A0DE4C53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6AD-D8BE-47DC-80FA-DA76B3B8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8A26-AF13-49F7-9CC2-EE5A1289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4C2F-F6AF-42A5-9F34-51EDE320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055A-E384-40DB-B6ED-7A7A954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25A0-5D7E-4A6E-AC6B-89C8C35D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081C-D172-43DF-B4BF-DFD09197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2016-6062-4216-A12F-5397A518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3604-A745-4799-A058-862640FD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3145-2A4B-457A-92CF-9B2410FF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9477D-1D93-40CE-AB0C-71365AF6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53E6-4CCB-4B46-8F7C-B8628858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EB9-26CE-4E0F-83DC-95B4F18A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4F2C9-5B89-4657-8F76-0C92FF1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A024-FC8B-4A4F-A9CB-7C46123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AD48-3FD7-4303-A3FE-F899FF03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3CADA-8025-446F-A4B5-842032F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1385C-569C-4EFA-9E4A-79FA73B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205A-785D-422A-BAA9-81EE60F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F5BE-C34D-4B6C-903E-11DE2BDE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73E3-4AE4-4FAE-91F9-A4D1C482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B9C5-B455-4140-8330-E8A9AB76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7F162-BC76-4E17-8EF6-347F46E5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660-6010-46E8-BD54-AB55C8C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9EFB-7003-4629-B764-A180D3C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E5EB-84D4-49D8-98CE-FE7ED8A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81D3-BE66-4701-9BD0-17213807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55A4-6F0E-4859-937E-DD7C10D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A275-F066-45D4-9BA0-1A3A630F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FBCE1-E1AC-45C9-AB34-E6CA937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6D79-9427-42C1-B19F-5437024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286CC-19B4-418B-B9B7-564111AA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63204-44AE-4A39-86DB-13ACA811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6BB4-0A14-462F-8897-86360D18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DA2-7F97-407F-959B-002C777C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51A97-869B-46B9-B242-C1BE37E1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6E64-FC05-4ADC-B803-C0AFD591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7262-0A69-422C-A070-39F9B0E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BB163-8819-4444-A28D-4ED8B28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FDA3-45CF-48B0-884B-F209369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5C6B9-5133-4A8B-A658-F802BB0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12FF0-C90C-4763-9549-0547A134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2CC2-B1F7-4C94-8425-17675D9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6E7F-FFA9-42A4-9B02-968ADBE3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A174F-3349-49A9-A199-075D606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F2E-118B-4DB2-B588-4D4E25BD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DB16-771F-4CCD-9228-34DD35C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EC5EF-CA81-4DB0-B1DC-2E687FD9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7367F-CAAC-46B4-AC84-BF7319CF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1569-AA0D-41A9-8520-B2F0981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523FA-3C8F-41EA-AB45-CA8C95F3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DC6D5-9A22-48D7-BF16-4CF721B0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31A7-8C06-4455-B44B-5B46E60C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233B-D231-44AA-A73F-41B6FC22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DABA-28F8-450B-92BB-A5E6E03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6D9D-A7A2-4DDE-8BB2-5DC2057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E6F-49A9-4A7D-9531-719E26FA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1702-E887-45C6-87A7-543C2523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4658-9F4B-47D4-88FC-AA7A980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8AD5-F91A-4BB4-88C2-84FC6EF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A25A-2F3A-4361-B425-8614BE17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2FF40-FF05-483E-A84C-71CFB747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BC6BB-1F27-451A-A767-B7F5629D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9AF6-FB51-4BF9-ABE9-1CBC4887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E4671-8364-4B9B-B930-5D74F1C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6285D-F28F-4D60-B1C6-54EAF1A1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A01B-CCA7-4CF4-8A22-9989D09F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914-4DDC-4A6D-B99D-F5B129C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7E41-9C9A-4305-8C5E-DCD24D94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239B8-B46C-4038-87DB-62C703B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D5487-7982-40B2-9994-8426B1FA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0FCC9-28B2-4B06-B4BC-A2A74EE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800D8-C775-4D2F-9534-B50FD14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C5BA-E316-49BD-BDF1-723CC4F9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601A3-47C5-480D-A21D-FAD0A158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D68E8-ECB3-49B7-99CD-65B272A91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12201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4680" y="4952880"/>
            <a:ext cx="12196800" cy="1911600"/>
            <a:chOff x="-4680" y="4952880"/>
            <a:chExt cx="12196800" cy="1911600"/>
          </a:xfrm>
        </p:grpSpPr>
        <p:sp>
          <p:nvSpPr>
            <p:cNvPr id="49" name="Freeform 16"/>
            <p:cNvSpPr/>
            <p:nvPr/>
          </p:nvSpPr>
          <p:spPr>
            <a:xfrm>
              <a:off x="2255040" y="4952880"/>
              <a:ext cx="9930960" cy="486720"/>
            </a:xfrm>
            <a:custGeom>
              <a:avLst/>
              <a:gdLst>
                <a:gd name="textAreaLeft" fmla="*/ 0 w 9930960"/>
                <a:gd name="textAreaRight" fmla="*/ 9931320 w 9930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54360" y="5236560"/>
              <a:ext cx="12131640" cy="786240"/>
            </a:xfrm>
            <a:custGeom>
              <a:avLst/>
              <a:gdLst>
                <a:gd name="textAreaLeft" fmla="*/ 0 w 12131640"/>
                <a:gd name="textAreaRight" fmla="*/ 12132000 w 1213164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1080" y="4992120"/>
              <a:ext cx="12191040" cy="1872360"/>
              <a:chOff x="1080" y="4992120"/>
              <a:chExt cx="1219104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12191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8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12196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017BE-810C-459F-9744-D7E0B0965B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4848120" y="300528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4600440" y="3005280"/>
            <a:ext cx="243000" cy="228600"/>
          </a:xfrm>
          <a:custGeom>
            <a:avLst/>
            <a:gdLst>
              <a:gd name="textAreaLeft" fmla="*/ 0 w 243000"/>
              <a:gd name="textAreaRight" fmla="*/ 243360 w 2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61F9E-5157-4386-81B2-34C05ADF43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3C100-F546-42B2-A5B3-2E7DDA9FC0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8AB81-41D9-4BB4-99B6-D07A4DE0E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9BABA-B20B-49B6-A52A-7589935417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0B2AA-16F8-4638-839A-E8654477C7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1155240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1130292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2DFBF-5D71-4F86-800A-43A82391FA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re 1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8942400" cy="2457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60200" y="3433680"/>
            <a:ext cx="879156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STRUCTURA SECȚIUNII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LIMBA FRANCEZĂ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nivel așteptat, A1 – pagina 8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analiza și interpretarea rezultatelor obținute de elevi – pagina 8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a famille, mes amis et ... moi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(de la pagina 83 la pagina 89), cuprind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 (suite)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’adore;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vous présente mes am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d. Unitatea a II-a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Ma vie quotidienne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90 la pagina 96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Une journ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e de ma vi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trucs pour être en form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le heure est-il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temps fait-il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, les amis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9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6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!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Comment tu t’appelles?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âge as-tu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Les noms des couleurs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Dans mon cartable il y 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b.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a II-a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i, à l’école et en famille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1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n emploi du temps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a famill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vous présente ma famill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cousins en Europ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activités préféré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9T11:13:02Z</dcterms:modified>
  <cp:revision>18</cp:revision>
  <dc:subject/>
  <dc:title>Elemente de noutate ale programei școlare pentru disciplina</dc:title>
</cp:coreProperties>
</file>