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0FC-FF64-466E-8A9B-265DDA11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128-75E4-4963-9240-397702C3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72F-B43D-408A-9835-B1D4BB03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9B1-446E-4BC4-BF8F-F0AE8116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6F27-D147-4B63-80E0-06C42B06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0039-9C23-4ED5-A4BD-676DA4D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9D4-8595-492A-8853-9E4B95E3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B10D-DFA1-4597-B9DE-5F166777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1423-C21B-4190-A803-579C6159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04F8-51E4-45D5-8D6F-B54B4160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B4BE-8D4D-48E7-B686-CEF9E56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A44-B02B-4866-87E8-A246F08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831E-E065-4B3A-94EC-2E16BD81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563F-2628-44E6-A473-F87F29F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A269-06C2-4CBC-A17D-09AF2C9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AE64-32FD-40A4-9C23-711EC9F6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6019-94D8-43ED-B0F9-50F617F6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20CC-D914-40B4-9C63-AF83EE64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76B6-9B1B-4902-BE2F-8950446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7F1F-F1F3-481A-8250-1AC9846B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9101-3960-4AE6-AEBC-87763F9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129B-8094-4454-A781-66B32AA7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890-B5E7-456C-9CDE-3AB1B72B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B463-968D-4516-9F10-6BFAD30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A98D-01C2-48B2-BF46-1B99230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0AFD-2E94-421C-8C86-56CE0D5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65E46-9AB4-42C6-A6DD-EC7907D9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EA73-E2E9-4CE3-A2EA-6F973B3C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E3F6-0983-4813-B6B5-4A966572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93A7-659A-400F-ACDF-D11DB4C0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855-27FB-4139-9785-0E07E13D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CD2-FFC1-4A17-AB55-BA12BC47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47A-71CA-4B7A-88D3-E8164C27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20A-9F00-45E4-8066-84FE53B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427-EBE3-4245-930C-FF649850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CC0-FBF3-4C65-A516-D9FC7E7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F7FE6-70EE-4C32-A7CD-07254F606E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-6480" y="-6480"/>
            <a:ext cx="23115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DE1C0-CB11-4C63-A524-34FA173F10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4AB2B-AD1E-4A63-B864-A0C30E16AA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60200" y="669960"/>
            <a:ext cx="8791560" cy="17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ELEMENTE DE NOUTAT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ALE PROGRAMEI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Ş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COLAR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PENTRU DISCIP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60200" y="2808360"/>
            <a:ext cx="879156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 – STUDIU INTENS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FRANCEZĂ / SPANIOLĂ / ITALIAN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2) PRECIZAREA NIVELURILOR DIN CECRL LA INTRAREA ELEVILOR ÎN CICLUL DE ÎNVĂȚĂMÂNT GIMNAZIAL, PRECUM ȘI A NIVELURILOR AȘTEPTATE LA FINALUL CICLULUI GIMNAZIAL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1560" y="2451240"/>
          <a:ext cx="9905760" cy="41148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  <a:gridCol w="3301920"/>
              </a:tblGrid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8720" y="914040"/>
            <a:ext cx="990612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ALIEREA FIEC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MPETEN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GE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L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ÎN COMPETENȚE SPECIFICE, ULTIMA COMPETENȚĂ SPECIFICĂ FIIND DE NATURĂ SOCIO-CULTURAL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141560" y="3446640"/>
            <a:ext cx="99057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) PREZENTAREA DETALIATĂ A RECOMANDĂRILOR ȘI A SUGESTIILOR METODOLOGICE, PRECUM ȘI A STRATEGIILOR DE PRED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1301760" y="428760"/>
            <a:ext cx="99061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 EXEMPLE SPECIFICE FIECĂREI LIMBI, PREZENTAREA DE TEME RECOMANDATE CE EVOLUEAZĂ PROGRESIV DE LA O CLASĂ LA AL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1301760" y="209880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AREA DE TEME DE PROIECT INTRODUSE PROGRESIV DE LA UN NIVEL LA ALT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1239840" y="3801960"/>
            <a:ext cx="103647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REA GRAMATICI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UNCȚ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TR-O DUBLĂ PERSPECTIV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TELOR DE VORBIRE / A FUNCȚIILOR LIMB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 A ELEMENTELOR DE CONSTRUCȚIE A COMUNICĂRII CE CONTRIBUIE LA REALIZAREA DIVERSELOR ACTE DE VORB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1100160" y="412920"/>
            <a:ext cx="99061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SCRIPTIVĂ, ÎN ANEXĂ, A ELEMENTELOR DE CONSTRUCȚIE A COMUNICĂRII SPECIFICE FIECĂREI CLASE / NI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1168560" y="2286000"/>
            <a:ext cx="99057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DICAREA RESURSELOR ON LINE UTILE PARCURGERII PROGRAM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1130400" y="4043520"/>
            <a:ext cx="987588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10) CORELAREA PROGRAMELOR ȘCOLARE PENTRU LIMBI MODERN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SPANIOL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TALIAN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CU NIVELURILE DIN CECRL, PRECUM ȘI CU INSTRUMENTELE CONEXE, PRECUM REFERENȚIALUL PENTRU CECRL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LIMBA 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7T19:36:40Z</dcterms:modified>
  <cp:revision>18</cp:revision>
  <dc:subject/>
  <dc:title>Elemente de noutate ale programei școlare pentru disciplina</dc:title>
</cp:coreProperties>
</file>