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A61-6F65-4CBD-A99C-41A9129B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9D2-A140-4E47-90B3-9E19431E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9DE-8E46-4902-AF32-9D4F7191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D41-FD1C-46C7-BE81-4ECDB4A1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D719-1FD6-4DE5-8E55-88354BF9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BD38-00A4-46EA-83ED-C0027AFD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F4E0-FD2E-404D-9FD2-592291B7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7BC2-21E1-4AF9-884B-D684AD96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1D43-6634-4F72-BA3E-A46AC366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92C4-DBD7-40E6-9B7C-580B91DD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0B0E-4CF6-4CEC-8091-3648EAF1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026-6C85-4C69-A30B-74C17839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CFF3-F85D-4350-B887-0D7BD830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804C-648F-4B71-95B4-338AA17F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D937-5D8D-4107-B339-EAB3CF09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8B9A-F8C3-47FF-B476-E59E24D9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AD86-E826-41BA-8DB5-AD90B65A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E0476-EF39-4E7F-B2FD-9FB0D793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48D36-858E-4EB8-A0C4-38FE6DE7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AAFF3-A533-4494-942A-CC30E3D6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6A11-DB9E-423E-86E5-36485DE4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01577-DE1B-40CE-A300-5C0DA870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1EB-780A-4544-B60F-9FB9C1BA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6F9F-618E-4FE1-9A7D-6B304000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5441B-79D1-4884-B573-9E36C1CD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A80D7-BDCE-4CC7-B6C0-6A23F9FF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13E6E-4673-481B-B270-E8B857E3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496B-4F5D-4700-B894-B4ADE239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0E61C-44AB-4496-95BA-D01D960D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2836D-1C60-42C6-8EB3-2322441F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587A0-0FEF-4DD1-909E-D635E255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1719D-F154-47F2-A21C-9E3B430B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A0761-6CBC-49AD-8126-754F04ED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6A1-33BD-4D80-BCC6-09727ABC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B28FD-0EF4-4613-9071-EC86B252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F7199-3196-4EB5-8875-AB1E6469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CBD19-1AF2-4547-9F4C-A97944F9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2B82A-F14D-4A4D-8580-3B84AAF6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87EFF-472F-4EFD-8ED8-3B89603F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0CBB9-D24B-4490-8109-2263F81C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DA8D4-1807-4EAC-BF81-512AC813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01190-F8C6-44FA-BD1C-CAE40D69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70199-4F35-446A-8CAD-290EF059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8C00D-BBE5-4C14-B21B-C5116205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18B-DB6A-41DB-AA48-7D2EC664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49799-A8FB-48D9-9135-E5D929D8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8F6F3-8195-4CA2-A231-1C7BD21A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F3FF2-4BBC-4155-B49B-4C79D119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E4C6F-7726-47BB-8486-1319F0DE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8923C-40BE-4FCD-BC21-B0F9DC42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462A0-903D-45F0-8D81-5B2EA5F9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9B79E-15D1-464C-87E3-2EDC3A45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D8628-E0C6-4AE1-BAC5-5DB5DFEC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50531-2033-4F41-B7B3-4DCAD9D6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E030C-329C-439D-853A-CD7DED44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A46-8DA9-44A0-A0BA-E3DFFD44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10DFF-30B4-4AC4-BF8F-C4F0CAB9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3E580-CE8F-4FB0-9D13-F418BA75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543EB-C03D-4778-B6DC-831ECAB7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DC7A3-2CE3-4281-90FD-BCA700F2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95673-CE4F-4E38-953D-DD0FB3CC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4604A-0C23-4489-A00A-E8C1D573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ED188-4F22-42F5-B434-3120C206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F23FA-E39C-4747-BDB6-7A2A2A97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8B913-F1B5-46AA-AAA8-8071175F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34CDD-A677-4839-880E-98C98614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4EA-8E02-4FF0-94FB-B0C5C509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9A5DA-775E-47EF-BAD2-B02C9D2D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ABEF9-EE74-43A4-81AB-70E1D677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1D0A0-56AE-4D1A-A5CE-938B1F05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6C27E-0985-4124-9D36-A0CD009B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3896C-C981-48C2-B707-005E242B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B9A78-1529-4E3C-868C-65177E1A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E09C2-6ECC-42F7-9EBC-0EEA48B2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C2306-D6C8-4EF0-8A8B-C45AE7C0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C7B5C-CF6F-4CF7-92F6-FE86BA9F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5E175-1C9B-4869-9B6E-A343AD80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0819-6BE7-4095-A97A-D7FFA269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78C8A-265B-4963-8646-37149C1A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3C5DC-3B84-4BC7-A24D-81EB410F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C7D7B-ADFC-4E18-B483-6363F4C3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1240C-0EB6-431C-8F9C-754D48AE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205B5-ADA1-45FC-A2F7-D5C8EE45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9EACB-FD87-4C6C-96C8-72350177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1281D-0539-4E85-9D76-F0D36FE5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D502C-0C37-498C-B0FE-46B754A8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93034-8F8B-4D07-A432-AF95511C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D571D-FC3F-48A6-B15C-1220E8DC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A25-331F-4102-9688-33C8178A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00F3A-F92A-45BD-8AE9-3C733E8D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ADE1A-A4BA-43D7-8A90-E3D236D8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5212B-440A-44C4-B0B0-0CA5D772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09D9A-470B-4ABF-88CA-38428FE2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CF95D-A765-4694-B942-3F566172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5D1F5-B862-4FE9-A770-6EA376E3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FD2DB-B898-4B2E-A744-492D28FD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D72F-025C-46CB-A9E5-5E0DAECCEFFA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E207-295D-45ED-9741-6FDE91A54F3E}" type="slidenum"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D53E-8602-4C84-A1EF-FEFF2B751C3F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10DA-1341-447E-A46B-65CE05E622B7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1D9F-A731-4FD8-BB31-C61433B345A2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441E-8244-4E24-AE23-98683A7F7DB7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0E2C-4630-4244-ABFD-C7123836E01F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2007-44E1-4662-948E-DE80A62A977C}" type="slidenum"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5356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w Cen MT"/>
              </a:rPr>
              <a:t>PENT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00000"/>
                </a:solidFill>
                <a:latin typeface="Tw Cen MT"/>
              </a:rPr>
              <a:t>LIMBI MODER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Image result for limbi moderne"/>
          <p:cNvPicPr/>
          <p:nvPr/>
        </p:nvPicPr>
        <p:blipFill>
          <a:blip r:embed="rId2"/>
          <a:stretch/>
        </p:blipFill>
        <p:spPr>
          <a:xfrm>
            <a:off x="324000" y="333360"/>
            <a:ext cx="3619440" cy="2381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PRIN FUNCȚIA COMUNICATIV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ORIENTAREA ȘI EVALUAREA REACȚIEI VERBALE/NON-VERB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ELECTAREA FAPTELOR, IDEI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MBINAREA FAPTELOR, IDEIL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FORMULAREA UNUI RĂSPU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281160" y="274680"/>
            <a:ext cx="8424720" cy="1206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APTAREA STRATEGIEI LA SCOPUL COMUNICĂRI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LAȚIONAREA COMPETENȚELOR ÎN SCOPUL COMUNICĂRI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ECVAREA SITUAȚIEI DE COMUNICARE ȘI CONTEXTUALIZAREA COMUNICĂRI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ALIZAREA STRATEGIILOR DIDACTICE (PREDARE – EVALUARE) PENTRU OBȚINEREA ACHIZIȚIILOR DE CUNOAȘTERE</a:t>
            </a: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LAȚIONAREA CONȚINUTULUI CU COMPETENȚE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LAȚIONAREA COMPETENȚELOR CU  FUNCȚIILE COMUNICĂRII ȘI ELEMENTELE DE CONSTRUCȚIE A ACESTO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VIZIBILITATEA PROGRESIEI COMPETENȚEI PRIN VALORIFICAREA CONȚINUTULUI ȘI ADECVAREA ACTIVITĂȚILOR DE PREDARE - ÎNVĂȚARE – EVALUARE</a:t>
            </a:r>
            <a:r>
              <a:rPr b="0" lang="ro-RO" sz="1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ALORIFICAREA ȘI RELAȚIONAREA CUNOȘTINȚELOR ȘI ACHIZIȚIILOR CULTURALE ALE ELEVILOR CU PROCESUL ÎNVĂȚĂRII-EVALUĂR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CTIVITĂȚI DE ÎNVĂȚARE APLICATE, ACTUALIZATE, RACORDATE LA CULTURA ȘI INTERESELE COGNITIVE A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OR, PRIN CARE SE STIMULEAZĂ CREATIVITATEA ȘI EXPRIMAREA OPINIEI PERS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OFERIREA DE EXEMPLE DE ACTIVITĂȚI DE ÎNVĂȚARE ȘI EVALUARE CENTRATE PE COMPETENȚE MULT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UTILIZAREA INSTRUMENTELOR DE INFORMARE MODERNE FOLOSITE FRECVENT DE GENERAȚIA ACTUAL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900000" y="1447560"/>
            <a:ext cx="77868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IECTAREA ACESTORA ASTFEL ÎNCÂT SĂ ABORDEZE NEVOILE DE ÎNVĂȚARE ALE ELEVIL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Ă ÎNCURAJEZE ȘI SĂ MOTIVEZE ELEVII PENTRU A ÎȘI EXERSA COMPETENȚELE ȘI UTILIZA CUNOȘTINȚE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Ă REFLECTE ACHIZIȚIA ȘI CAPACITATEA ELEVILOR DE A UTILIZA CUNOȘTINȚELE ÎN CONTEXTE N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VALORIFICAREA FEEDBACK-ULUI OFERIT DE ACESTEA ATÂT ASUPRA PERFORMANȚEI DIDACTICE, CÂT ȘI ASUPRA PROGRESULUI ELEVIL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ELABORAREA PROGRAMELOR PENTRU LIMBI MODERNE CONFORM 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RECOMANDĂRII PARLAMENTULUI EUROPEAN VIZÂND </a:t>
            </a:r>
            <a:r>
              <a:rPr b="1" i="1" lang="ro-RO" sz="2800" spc="-1" strike="noStrike">
                <a:solidFill>
                  <a:srgbClr val="ff0000"/>
                </a:solidFill>
                <a:latin typeface="Arial"/>
              </a:rPr>
              <a:t>COMPETENŢELE CHEIE DE ÎNVĂȚARE PE TOT PARCURSUL VIEȚII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ȘI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i="1" lang="ro-RO" sz="2800" spc="-1" strike="noStrike">
                <a:solidFill>
                  <a:srgbClr val="ff0000"/>
                </a:solidFill>
                <a:latin typeface="Arial"/>
              </a:rPr>
              <a:t>CADRULUI EUROPEAN COMUN DE REFERINŢĂ PENTRU LIMBI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ÎN CEEA CE PRIVEȘTE NIVELURILE LINGVISTICE DE REFERINȚ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82520" y="244440"/>
            <a:ext cx="8802720" cy="1279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ONTRIBUȚIA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PROGRAMELOR PENTRU LIMBI MODERNE LA DEZVOL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REA COMPETENȚELOR CHEIE PRIN RELAȚIONAREA CELOR LINGVISTICE CU CELE SOCIALE, CIVICE, DIGITALE ȘI DE SENSIBILIZARE ȘI EXPRIMARE CULTURAL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1400" indent="-2214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APORTUL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PROGRAMELOR PENTRU LIMBI MODERNE  LA DEZVOLTAREA COMPETENȚELOR CARE SPRIJINĂ INTEGRAREA TINERILOR ÎN EPOCA GLOBALIZĂRII PRIN RACORDAREA LA INSTRUMENTELE DE COMUNICARE TIPICE PENTRU SOCIETATEA CONTEMPORANĂ ȘI FACILITAREA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ONTRIBUȚIA PROGRAMELOR PENTRU LIMBI MODERNE LA CREAREA UNUI MEDIU DE ÎNVĂȚARE FACTUAL,  MOTIVANT PENTRU STUDIU ȘI DE CONTEXT SEMNIFICATIV PENTRU TINERII DE 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Arial"/>
              </a:rPr>
              <a:t>FLEXIBILITATE ȘI INOVARE </a:t>
            </a: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– PROGRAMA DE LIMBA MODERNĂ 1/ LIMBA MODERNĂ 2/ LIMBA MODERNĂ 1 – STUDIU INTENSIV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Arial"/>
              </a:rPr>
              <a:t>PROGRAMA PENTRU LIMBA MODERNĂ 1  </a:t>
            </a: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ASIGURĂ PROGRESIA ACCELERATĂ A ACHIZIȚIEI DE COMUNICARE (CONFORM </a:t>
            </a:r>
            <a:r>
              <a:rPr b="0" i="1" lang="ro-RO" sz="2700" spc="-1" strike="noStrike">
                <a:solidFill>
                  <a:srgbClr val="000000"/>
                </a:solidFill>
                <a:latin typeface="Arial"/>
              </a:rPr>
              <a:t>PRECIZĂRILOR </a:t>
            </a:r>
            <a:r>
              <a:rPr b="0" i="1" lang="ro-RO" sz="2700" spc="-1" strike="noStrike">
                <a:solidFill>
                  <a:srgbClr val="ff0000"/>
                </a:solidFill>
                <a:latin typeface="Arial"/>
              </a:rPr>
              <a:t>44961</a:t>
            </a:r>
            <a:r>
              <a:rPr b="0" lang="ro-RO" sz="2700" spc="-1" strike="noStrike">
                <a:solidFill>
                  <a:srgbClr val="ff0000"/>
                </a:solidFill>
                <a:latin typeface="Arial"/>
              </a:rPr>
              <a:t>/25.10.2016</a:t>
            </a: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) DE LA NIVELUL A1 (STRUCTURAT LA FINALUL ÎNVĂȚĂMÂNTULUI PRIMAR) PÂNĂ LA B1 (LA FINALUL GIMNAZIULUI</a:t>
            </a:r>
            <a:r>
              <a:rPr b="0" lang="ro-RO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676440" y="255600"/>
            <a:ext cx="800388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26920" y="1557360"/>
            <a:ext cx="8066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TRUCTURAREA PROGRAMELOR PE DEZVOLTAREA ȘI EXERSAREA COMPETENȚE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ORMULAREA COMPETENȚELOR SPECIFICE CONFORM DESCRIPTORILOR AFERENȚI FIECĂRUI NIVEL LINGVISTIC DE REFERINȚĂ ȘI EVIDENȚIEREA PROGRESIEI DE LA UN NIVEL LA ALTUL A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ABORDAREA INTERDISCIPLINARĂ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ABORDAREA PROCESULUI PREDĂRII – ÎNVĂȚĂRII ÎNTR-O MANIERĂ INTEGRATĂ: PORNIND DE LA SITUAȚII ȘI CONTEXTE FAPTICE DE ÎNVĂȚARE CARE RELAȚIONEAZĂ COMPETENȚA CU FUNCȚIILE ȘI ELEMENTELE DE CONSTRUCȚIE A COMUNICĂRII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ASOCIEREA EXPLICITĂ A FUNCȚIILOR COMUNICĂRII CU ELEMENTELE DE CONSTRUCȚIE A ACESTO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24000" y="1052640"/>
            <a:ext cx="88200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Arial"/>
              </a:rPr>
              <a:t>DETERMINAREA UTILIZĂRII METODELOR DE PREDARE- EVALUARE CENTRATE PE GÂNDIREA CRITICĂ,  DISCRIMINATIVĂ, CREATIVĂ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Arial"/>
              </a:rPr>
              <a:t>PREPONDERENȚA ÎNVĂȚĂRII DE TIP </a:t>
            </a:r>
            <a:r>
              <a:rPr b="0" i="1" lang="ro-RO" sz="2300" spc="-1" strike="noStrike">
                <a:solidFill>
                  <a:srgbClr val="000000"/>
                </a:solidFill>
                <a:latin typeface="Arial"/>
              </a:rPr>
              <a:t>LEARNING BY DOING</a:t>
            </a:r>
            <a:r>
              <a:rPr b="0" lang="ro-RO" sz="23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i="1" lang="fr-FR" sz="2300" spc="-1" strike="noStrike">
                <a:solidFill>
                  <a:srgbClr val="000000"/>
                </a:solidFill>
                <a:latin typeface="Arial"/>
              </a:rPr>
              <a:t>APPRENTISSAGE </a:t>
            </a:r>
            <a:r>
              <a:rPr b="0" i="1" lang="ro-RO" sz="2300" spc="-1" strike="noStrike">
                <a:solidFill>
                  <a:srgbClr val="000000"/>
                </a:solidFill>
                <a:latin typeface="Arial"/>
              </a:rPr>
              <a:t>EN FAISA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Arial"/>
              </a:rPr>
              <a:t>STIMULAREA IMPLICĂRII ELEVILOR ÎN ACTUALIZAREA PERMANENETĂ A CUNOȘTINȚELOR, PRIN VALORIFICAREA LIMBILOR MODERNE CA MODALITATE DE DESCOPERIRE ȘI TRANSMITERE A INFORMAȚIILOR DE ULTIMĂ ORĂ DIN DIVERSE DOMENII ALE VIEȚII SOCIA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6144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06:23:42Z</dcterms:created>
  <dc:creator>Cismaru, Mihai</dc:creator>
  <dc:description/>
  <dc:language>en-US</dc:language>
  <cp:lastModifiedBy>Micky</cp:lastModifiedBy>
  <dcterms:modified xsi:type="dcterms:W3CDTF">2017-09-17T19:31:14Z</dcterms:modified>
  <cp:revision>29</cp:revision>
  <dc:subject/>
  <dc:title>NOUL CONCEPT al programelor școlare</dc:title>
</cp:coreProperties>
</file>