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C05-B728-4CE8-AB74-28D9DAEB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CEC-E38F-47D8-B51F-F8437BFF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5E2-8839-4515-A7B6-1A90A2F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486-9582-4FBE-A8F3-D61B865C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EB3B-54D0-4DB8-A0CB-E473A923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3A2-161C-4243-8E69-7027678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7F30-1290-4C00-8F6C-0815A247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FB86-F9A9-448B-AD4E-7C99C9CC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5FEE-FEBB-4A15-8D65-3815513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0938-5C3B-4D01-ACDB-6D5BB96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9E8-EC6E-40DF-B08E-D4E39AF1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08B-A500-46FA-A638-B414AAE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CDD5-D115-477F-9C09-4EA1EF8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14F3-8E87-4382-ABC0-84A2B60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2233-2677-4379-97E0-A5E2F6F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CC46-FA8B-4F05-A4F8-1805CAE6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62D9-4C2E-486A-8B69-F2FA622C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EB80-4A91-49AB-A249-BBD55F61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2C0E-278C-4C55-9385-E292440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11CB-D1AE-47F4-B6EB-4ED8C113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CBAA-86AC-4C3D-A60F-35F9591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75A5-6506-4848-A058-B97047CB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333-123E-4C15-A2ED-18C5155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90BA-161C-434F-B54C-D0A2A2B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FEED-12E6-4EAD-A40B-94F00AD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F8DA-8FC1-43BC-8042-C590C7C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23BC-25A0-4AA4-B1A5-293C4A6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55BD-E470-4AA0-A182-9E174468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A463-8FEB-48D8-9065-6BB6F1EB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850A-2E12-47AE-AD58-C871D55B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16C3-8D15-4579-A7DE-E4C80A87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B028-B105-4814-BD11-2B447C86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D977-C0FA-4457-95AF-2798F503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26F-9598-4289-879D-F17AC37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57E7-E99A-4601-9930-413385B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5266A-E3A9-4461-BE69-B49F56A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E975-4C19-49CE-BBAC-1E645795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9743-D042-4C31-BFA5-DE5921B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F22E-39CA-4A66-81B7-D56C3E3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2278-48C2-42A6-BDAB-DEC76AC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83C2-36EF-42BC-9D3B-A0C0045B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8689-24DE-4278-90ED-C42A4DE6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9DDA-DCD6-4255-B1ED-BD7FBF0C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E71-C56B-495D-9CB8-65B3982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F2F-1B62-4527-B2DF-A136594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AE8-0896-48C7-B830-6B2E8CB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DD4-6DF8-40BE-A951-947BC62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E34-96E8-4826-89F5-5927E92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D7D5-9363-4A4E-B5E7-047043C14BFA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DEF-B1FA-4B97-BA3D-055FEF75FADF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93E-83E5-44A3-9643-57406DEFADB1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9FD3-8FE4-4350-B560-49F33FE2CB57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120" y="1599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Proiectarea, organizarea şi evaluarea activităţilor didactice 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o-RO" sz="3000" spc="-1" strike="noStrike">
              <a:solidFill>
                <a:srgbClr val="8ad0d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sociază elemente ale programei (competenţe generale, specifice, conţinuturi) cu alocarea de timp pe parcursul unui an şcol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Etap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asocierilor dintre competenţele specifice şi conţinuturi (extrase din programa şcolară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mpărţirea în unităţi de învăţare (teme stabilite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Stabilirea succesiunii de parcurgere a unităţilor de învăţare (stabilită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locarea timpului considerat necesar pentru fiecare unitate de învăţare, în concordanţă cu competenţele general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/ specific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şi conţinuturile vizate (stabilită de profesor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. Etapa 3. Proiectarea unei unităţi de învăţ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Anul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iectul unităţii de învăţar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Unitatea de învăţare: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Nr. ore alocate: 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3429000"/>
          <a:ext cx="8076960" cy="190512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ţi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808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ce scop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50532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 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0292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m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66294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ât s-a realiz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6002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32004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4686480" y="22860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6248520" y="2209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9828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ea competenţ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8380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1828800" y="3581280"/>
            <a:ext cx="152388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electar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onţinuturi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251460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3505320" y="3581280"/>
            <a:ext cx="1371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resurs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40384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502920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rea activităţilor de învăţ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5562720" y="2971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7010280" y="3581280"/>
            <a:ext cx="18288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abilirea instrumentelor de eval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3"/>
          <p:cNvSpPr/>
          <p:nvPr/>
        </p:nvSpPr>
        <p:spPr>
          <a:xfrm>
            <a:off x="72388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4419720" y="5029200"/>
            <a:ext cx="4724280" cy="914400"/>
          </a:xfrm>
          <a:custGeom>
            <a:avLst/>
            <a:gdLst>
              <a:gd name="textAreaLeft" fmla="*/ 0 w 4724280"/>
              <a:gd name="textAreaRight" fmla="*/ 3689280 w 472428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3990" y="72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7"/>
          <p:cNvSpPr/>
          <p:nvPr/>
        </p:nvSpPr>
        <p:spPr>
          <a:xfrm flipH="1">
            <a:off x="-720" y="5029200"/>
            <a:ext cx="4419720" cy="914400"/>
          </a:xfrm>
          <a:custGeom>
            <a:avLst/>
            <a:gdLst>
              <a:gd name="textAreaLeft" fmla="*/ 0 w 4419720"/>
              <a:gd name="textAreaRight" fmla="*/ 3451320 w 441972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8100"/>
                </a:lnTo>
                <a:lnTo>
                  <a:pt x="13990" y="81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8100"/>
                </a:lnTo>
                <a:lnTo>
                  <a:pt x="21600" y="81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lement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Tema (numele unităţii de învăţare) – enunţ legat de analiza scopurilor învăţării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Competenţe specifice din programa şcolară (numerele acestora);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ctivităţi de învăţare – activităţi pe care elevii le realizează în vederea formării competenţelor vizate; presupun orientarea către un scop, redat prin tema activităţii. Activităţile sunt propuse elevilor spre rezolv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Resurse – specificări de timp, de loc, forme de organizare a clasei, material didactic folosit etc. pentru fiecare activitate de învăţar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Forme de organizare a clase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Mijloace de învăţămâ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locare de timp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rice alte elemente util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valuare – instrumente sau modalităţi de evaluare aplicate la clasă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bs. la finalul fiecărei unităţi de învăţare se realizează evaluare sumativă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secvenţială a lecţiilor</a:t>
            </a: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Lecţ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onentă operaţională, pe termen scurt, a unităţii de învăţar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Oferă înţelegerea procesului din perspectivă operativă, tactic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Identificarea celor mai adecvate metode şi activităţi de învăţare; conceperea şi organizarea situaţiilor de învăţ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8600" y="2286000"/>
          <a:ext cx="8686800" cy="429732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elev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măreşte prelegerea, expunerea, explicaţ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imă puncte de vedere prop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cearcă să reţină şi să reproducă ideile auz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ează un schimb de idei cu ceilalţ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ă în mod pasiv ideile transm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umentează, pune întrebări cu scopul de a înţelege sensul unor id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crează izol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perează în rezolvarea sarcinilor de luc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6320" y="2133720"/>
          <a:ext cx="8839080" cy="4389480"/>
        </p:xfrm>
        <a:graphic>
          <a:graphicData uri="http://schemas.openxmlformats.org/drawingml/2006/table">
            <a:tbl>
              <a:tblPr/>
              <a:tblGrid>
                <a:gridCol w="1828800"/>
                <a:gridCol w="304776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profesorul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une, ţine preleg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ează şi moderează învăţ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ne puncte de ved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jută elevii să înţeleagă şi să explice punctele de vedere prop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nsideră şi se manifestă ca un pări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e partener în învăţ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28600" y="1371600"/>
          <a:ext cx="8686800" cy="539424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2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 de realizare a învăţă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memorare şi reproducere de cunoştinţe, prin apel la metode clasice şi vali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formare de competenţe şi deprinderi 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conduce la competiţie între elevi, cu scopul de ierarhiz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se realizează prin coope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0880" y="1447920"/>
          <a:ext cx="8458200" cy="5486400"/>
        </p:xfrm>
        <a:graphic>
          <a:graphicData uri="http://schemas.openxmlformats.org/drawingml/2006/table">
            <a:tbl>
              <a:tblPr/>
              <a:tblGrid>
                <a:gridCol w="1532160"/>
                <a:gridCol w="3498840"/>
                <a:gridCol w="3427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unoştinţe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ompetenţelor (ce poate face cu ceea ce şti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aspectul cantitativ (cât de multă informaţie deţine elevu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elementele de ordin calitativ (valori, atitudin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clasificare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progresul în învăţare pentru fiecare ele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evaluării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etenţele de evalua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forman</a:t>
            </a: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ţele minime, medii şi superioare pe care le pot atinge elev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specificul colectivului de elev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momentul (iniţială, continuă, finală) şi scopul (predictivă, formativă, sumativă) evaluăr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instrumentele de evalua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ea6312"/>
                </a:solidFill>
                <a:latin typeface="Century Gothic"/>
              </a:rPr>
              <a:t>Este necesară….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Identificarea elementelor definitorii ale curriculumului şi rolului aces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unoaşterea etapelor proiectării demersului didact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planificării şi proiectării didactice pentru modulele din programa școlar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Rol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Century Gothic"/>
              </a:rPr>
              <a:t>Curriculumul național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prezintă ansamblul coerent 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lanurilor-cadru de învățămân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și a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or școlare di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nvățământul preuniversit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Planurile-cadru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isciplinele, domeniile de studiu, respectiv modulele de pregătir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bligatorii și opțional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numărul minim și maxim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re aferente acesto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Trunchiul comun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disciplinele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urriculumul diferen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ţiat – disciplinele 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, diferenţiat în funcţie de specializ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urriculumul la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cizia școlii se constituie din disciplinele/ domeniile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studiu/ modulele de pregătire opțional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e școlare stabilesc, pentru fiecare disciplină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domeniul de studiu/ modulul de pregătire din planul de învățămân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inalitățile urmări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 competen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ţe generale şi specifice, valori şi atitudini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onținuturile fundamentale de ordin teoretic, experimental și aplicativ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ientări metodologice genera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peră 75% din orele de predare și evaluare, lăsând l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poziția cadrului didactic 25% din timpul aloc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ciplinei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omeniului de studiu respectiv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învățar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remedială, în cazul copiilor cu probleme speci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nsolidarea cunoștințelor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stimularea elevilo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apabili de performanțe superioare, conform unor planuri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individuale de învățare elaborate pentru fiecare elev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demersului didactic – activitatea desfăşurată de profesor care constă în anticiparea etapelor şi acţiunilor concrete de realizare a pred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Lectura personalizată a programelor şcola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lanificarea calendaristică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unităţilor de învăţar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lecţiilo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iectarea evalu</a:t>
            </a: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1. Lectura personalizată a programelor şcol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mersul didactic personalizat – dreptul profesorului de a lua decizii cu privire la un parcurs şcolar individualizat: asociază opti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elementele programei (competenţe generale, specifice, conţinuturi, activităţi de învăţare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alocarea de resurse (metodologice, temporale şi materiale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grama stabileşte competenţe, conţinuturi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fesorul poate opta pentru activităţi de învăţare, ordinea de parcurgere a conţinuturilor, mijloace didactice etc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mpetenţă -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gt; 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mpetenţ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-&gt;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nţinuturi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&gt;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Activităţ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generală        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  specific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 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&lt;-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învăţar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 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lanificare calendaristic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(Anul 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lar ....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Filiera teoretică, profil real, specializarea .................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3809880"/>
          <a:ext cx="8076960" cy="198144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atea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 de ore aloc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ăptămâ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a Calugaru</dc:creator>
  <dc:description/>
  <dc:language>en-US</dc:language>
  <cp:lastModifiedBy>Daniela Calugaru</cp:lastModifiedBy>
  <dcterms:modified xsi:type="dcterms:W3CDTF">2017-08-31T12:08:12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