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5FE9-8C6D-46EF-9F46-E0AA5DA2EF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0497-B08B-4B90-BF1D-BE5747EE8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6E37-BE8A-4D68-9181-4435EBA25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CB36-4545-451F-9A16-AE3402BF2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8D17-3D72-40EE-892C-9652A71CFE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5FEE-7A07-4989-83B4-4D39E2178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EB0E-022F-44D7-84A2-8E88D53E1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1A29-F73A-4DE2-8823-F26D60E53A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3398-12D2-4162-B06C-57FB9C041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2138-6562-468D-838F-73005BD1A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5DBF-2769-47DC-998F-0E9957D73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B9DC-AA8C-416A-B23A-35EB450C2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A76-0374-4319-B6C8-ED918B2ABD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CFC7-D744-4C11-8126-1B525F636A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B151-DB7B-4E66-9D36-B6DD50A69C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0B7E-465D-4A40-8DBA-3C5816339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EC2D-E4C9-4525-B883-1BB8194D1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357C-9F0C-4E4D-89E3-5F3DF0C6D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6C39-0EB9-4457-B8C7-4683CB624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307D-4942-412A-9427-9B1DE6029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03E2-93E5-47F2-BF0D-C2CE5C1D5E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9B6B-6EAC-401A-92F6-78EA45BE7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3D65-E1A9-4F34-B03D-83F0D5233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67D1-37F1-46B9-AA23-E305EF8E7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296-C09C-4F5C-A51D-ED3278D1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A56-5396-4706-8436-798AF073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99B-A1D9-4E0D-98C3-0FD31B24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2E5-699D-457B-A6D6-0CC62529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F6CF-D981-468B-A767-B8B5DA5C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7D58-1CE6-4279-AB3A-13E1E714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211C-581C-4751-84EB-CA0645EA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B8B8-5AA9-45D5-9AA9-9621C72A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50E9-8E9D-4E2B-AB08-7D062608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537D-4CE0-4253-8A50-04DE7E43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D0E3-68DE-4F5C-81CB-798C5F5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9B4-3A37-487C-8153-13C87A6F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010F-AFFF-41DE-B4D7-710AFFF8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B83E-9149-4B04-8316-D5D8601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4531-9BE2-47C3-AC4C-345D0C86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B5D3-26B5-438C-9084-975183D1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E547-D1A1-4CFE-B282-96A8E158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F23-E3CF-4BEB-89D1-452BEBF1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38B-0D53-4B31-8B74-EB77B8EC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CE3-6E54-4CD3-9578-BF2E7A8E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6D7-A69E-4526-AD28-A4234361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4A4-8212-4802-A998-60A420D9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C44-B1BE-4C4A-AC46-A037E529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5F5-7A2A-42FC-8B23-72711659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977d67">
                  <a:alpha val="85098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0B67-6226-4A17-B825-D2022FA6CE8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1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977d67">
                  <a:alpha val="85098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684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574560" y="5479920"/>
            <a:ext cx="8569440" cy="1368720"/>
          </a:xfrm>
          <a:prstGeom prst="rect">
            <a:avLst/>
          </a:prstGeom>
          <a:gradFill rotWithShape="0">
            <a:gsLst>
              <a:gs pos="0">
                <a:srgbClr val="977d67">
                  <a:alpha val="60000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3995-43C9-470C-8C03-60D25CC81B7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c_speranta@ise.ro" TargetMode="External"/><Relationship Id="rId2" Type="http://schemas.openxmlformats.org/officeDocument/2006/relationships/hyperlink" Target="mailto:c_speranta@ise.ro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ldr.ro/wp-content/uploads/2016/04/2.-Document_fundamentare_plan-cadru-gimnaziu_ISE.pdf" TargetMode="External"/><Relationship Id="rId2" Type="http://schemas.openxmlformats.org/officeDocument/2006/relationships/hyperlink" Target="http://www.ise.ro/wp-content/uploads/2015/07/Document-politici-curriculum_draft_mai_2016.pdf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edu.ro/sites/default/files/Lista%20GrupLucruCurriculum%20V-VIII_0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1680" y="2276640"/>
            <a:ext cx="40719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Programa școlară </a:t>
            </a:r>
            <a:br>
              <a:rPr sz="2300"/>
            </a:b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Consiliere și dezvoltare personală </a:t>
            </a:r>
            <a:br>
              <a:rPr sz="2300"/>
            </a:b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gimnaziu</a:t>
            </a:r>
            <a:br>
              <a:rPr sz="2300"/>
            </a:b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5643720"/>
            <a:ext cx="87487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peranţa Ţibu</a:t>
            </a:r>
            <a:br>
              <a:rPr sz="2400"/>
            </a:b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stitutul de Ştiinţe ale Educaţiei Bucur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Sinaia, septembri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Programa şcolară Consiliere și dezvoltare personală gimnaziu</a:t>
            </a:r>
            <a:r>
              <a:rPr b="0" lang="en-US" sz="2000" spc="-1" strike="noStrike">
                <a:solidFill>
                  <a:srgbClr val="0849a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849a0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dezvoltarea potenţialului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ai albi"/>
          <p:cNvPicPr/>
          <p:nvPr/>
        </p:nvPicPr>
        <p:blipFill>
          <a:blip r:embed="rId1"/>
          <a:stretch/>
        </p:blipFill>
        <p:spPr>
          <a:xfrm>
            <a:off x="539640" y="285264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amila"/>
          <p:cNvPicPr/>
          <p:nvPr/>
        </p:nvPicPr>
        <p:blipFill>
          <a:blip r:embed="rId2"/>
          <a:stretch/>
        </p:blipFill>
        <p:spPr>
          <a:xfrm>
            <a:off x="3780000" y="2970360"/>
            <a:ext cx="2449440" cy="38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oacaze"/>
          <p:cNvPicPr/>
          <p:nvPr/>
        </p:nvPicPr>
        <p:blipFill>
          <a:blip r:embed="rId3"/>
          <a:stretch/>
        </p:blipFill>
        <p:spPr>
          <a:xfrm>
            <a:off x="971640" y="4653000"/>
            <a:ext cx="2665440" cy="194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Fetita in campul cu maci"/>
          <p:cNvPicPr/>
          <p:nvPr/>
        </p:nvPicPr>
        <p:blipFill>
          <a:blip r:embed="rId4"/>
          <a:stretch/>
        </p:blipFill>
        <p:spPr>
          <a:xfrm>
            <a:off x="6300720" y="3284640"/>
            <a:ext cx="2843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507672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1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50920" y="3284640"/>
            <a:ext cx="8137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ocupare pentru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tarea de bin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a copilului cu sine şi în relaţie cu alţ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ştintizarea propriilor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resurs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şi a mecanismelor personale de a face faţă situaţiilor dific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reşterea autonomiei în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învăţ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gătirea pentru 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“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lumea mare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”– </a:t>
            </a:r>
            <a:r>
              <a:rPr b="1" lang="en-US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arier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ă</a:t>
            </a:r>
            <a:r>
              <a:rPr b="1" lang="en-US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,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 prof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e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sie,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ocupaţie, meser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ocupare pentru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ănătatea personală şi a mediul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92360" y="1663200"/>
            <a:ext cx="51436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gimnaz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Fundamentarea pe date ale </a:t>
            </a:r>
            <a:r>
              <a:rPr b="1" lang="ro-RO" sz="24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ercetă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Review de literatură - competenţe, metode de implementare, metode de evaluare (ISE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Dezvoltarea abilităţilor noncognitive la adolescenţii din România (UNICEF,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Studii de caz – consilierea în curriculumul altor ţări (ISE,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orezu_BogdenP"/>
          <p:cNvPicPr/>
          <p:nvPr/>
        </p:nvPicPr>
        <p:blipFill>
          <a:blip r:embed="rId1"/>
          <a:stretch/>
        </p:blipFill>
        <p:spPr>
          <a:xfrm>
            <a:off x="179280" y="1773360"/>
            <a:ext cx="3024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“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etențele noncognitive sunt un concept umbrelă care acoperă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acele competențe care nu pot fi măsurate prin teste de inteligență sau de performanță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” (Kautz et al., OECD 2014). În literatură le regăsim sub diferite denumiri: competențe socio-emoționale, </a:t>
            </a:r>
            <a:r>
              <a:rPr b="0" i="1" lang="ro-RO" sz="2000" spc="-1" strike="noStrike">
                <a:solidFill>
                  <a:srgbClr val="0849a0"/>
                </a:solidFill>
                <a:latin typeface="Arial"/>
              </a:rPr>
              <a:t>soft-skills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, abilități de viață, inteligență emoțională, trăsături de personalitate sau caracter, calități morale. Se referă la un set de cunoștințe, abilități și atitudini care stau la baza succesul școlar și profe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67280" y="1663560"/>
            <a:ext cx="489744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Trei domenii de inter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șc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socio-emoț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ezvoltarea carierei (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American School Counselor Association – ASCA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riterii de selecț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maleabilitatea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– măsura în care s-a dovedit că respectiva competență poate fi dezvoltată prin intervenții de tip educaț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pot fi subsumate competențelor-cheie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, în mod special competențelor: sociale și civice, spirit de inițiativă și antreprenoriat, competența de a învăța să înveți, competența de comunicare în limba maternă, competențelor digit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omeniul școlar: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uprinde competențe noncognitive a căror bună dezvoltare influențează în mod pozitiv succesul școlar al elevil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x: concept de sine școlar, autoeficacitate școlară, autoreglarea învăță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omeniul socio-emoțional: s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 referă la acele cunoștințe, abilități și atitudini care îi ajută pe elevi să își gestioneze stările emoționale și să aibă relații funcționale cu ceilalț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x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mpetențe emoționale (exprimare emoțională, înțelegerea emoțiilor, reglarea emoțional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mpetențe interpersonale (cooperarea, disponibilitatea de folosi ceva în comun/de a împărți cu alții, sprijinul, comunicarea, exprimarea empatiei, oferirea de încurajare sau susținere verbală, în general abordarea prietenoasă sau amabil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49a0"/>
                </a:solidFill>
                <a:latin typeface="Arial"/>
              </a:rPr>
              <a:t>Domeniul dezvoltarea carierei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: se referă la capacitatea unei persoane de a se orienta în spațiul educațional și de munc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Ex: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 c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apacitatea de a căuta, colecta și înțelege informații, precum și de a distinge între cele relevante și cele irelevante; selectarea unei alegeri din opțiunile disponib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66920" y="1663200"/>
            <a:ext cx="456876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45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826920" y="3284640"/>
            <a:ext cx="770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5 arii de dezvolt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Autocunoașt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Dezvoltare socio-emoțional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Învăț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Carier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Stild e viața sănătos și ecilibr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1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500040" y="3141720"/>
            <a:ext cx="73580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4 Competențe generale (C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1. Adoptarea atitudinilor pozitive faţă de sine şi a unui stil de viaţ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Sănătos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ș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e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chilibrat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2. Relaţionarea armonioasă cu ceilalţ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în contexte școlare ș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extrașcol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3. Reflectarea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asupra motivației ș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eficacității strategiilor pentru progres în învăț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4.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Luarea deciziilor legate de continuarea studiilor şi carieră prin valorificarea informațiilor despre sine, educație și ocupaț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8 Competențe specif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76720" y="1628640"/>
            <a:ext cx="5867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</a:rPr>
              <a:t>Consiliere şi dezvoltare personală la gimnaziu (clasele V-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Baloane"/>
          <p:cNvPicPr/>
          <p:nvPr/>
        </p:nvPicPr>
        <p:blipFill>
          <a:blip r:embed="rId1"/>
          <a:stretch/>
        </p:blipFill>
        <p:spPr>
          <a:xfrm>
            <a:off x="0" y="1484280"/>
            <a:ext cx="2556000" cy="3024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2627280" y="3141720"/>
            <a:ext cx="62658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</a:rPr>
              <a:t>Timpul schim</a:t>
            </a:r>
            <a:r>
              <a:rPr b="1" lang="en-US" sz="2800" spc="-1" strike="noStrike">
                <a:solidFill>
                  <a:srgbClr val="0849a0"/>
                </a:solidFill>
                <a:latin typeface="Arial"/>
              </a:rPr>
              <a:t>b</a:t>
            </a:r>
            <a:r>
              <a:rPr b="1" lang="ro-RO" sz="2800" spc="-1" strike="noStrike">
                <a:solidFill>
                  <a:srgbClr val="0849a0"/>
                </a:solidFill>
                <a:latin typeface="Arial"/>
              </a:rPr>
              <a:t>ării: prez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If you don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`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t step forward, 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y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ou will alwa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y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s be in the same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are este modelul învățării la Consiliere și dezvoltare personal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714840" y="2786040"/>
            <a:ext cx="52149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experiențială (Kolb 1984: experiență concretă, observare reflexivă, conceptualizarea abstractă, experimentare activ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prin comunicare și prin observarea alt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reflexiv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Ciclul dezvoltării unei competențe (Pacearcă 2013: explorare, analiză, sinteză, reinvesti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are este specificul evaluării la ora de Consiliere și dezvoltare personal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857680" y="2786040"/>
            <a:ext cx="607212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Promovarea unei culturi a evaluării achizițiilor elevului și nu a evaluării elevul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Sultana, 201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reflecția și auto(evaluarea), evaluare între egal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interviuri, proiecte sau sarcini specif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demonstrație multimed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jurnale reflec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simulări, demonstrarea practică a competenței, produse ale activităț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monitorizarea planului individual de dezvolt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portofoliul de învățare (proces și produs) include elemente semnificative din activitatea elevului, care reflectă nivelul atins în formarea şi dezvoltarea competenţelor cheie, oferind o imagine comprehensivă asupra progresului elev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22860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Resurse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lasa a V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0040" y="3141720"/>
            <a:ext cx="73580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314316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14840" y="2786040"/>
            <a:ext cx="48578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Sarcini de învăț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Reflecție, (auto)evalu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tinuare, aprofundare (acas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exiuni interdisciplin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663560"/>
            <a:ext cx="863604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oncluz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26920" y="2428920"/>
            <a:ext cx="77058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Programa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școlară Consiliere şi dezvoltare personal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la gimnazi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Un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ogram coerent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de consiliere şi dezvoltare personală derulat pe 4 a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Rol de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evenţi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, lucrul cu clasa de elevi, implică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toţi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elevii de gimnazi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silierea ca şi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ontinuum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(lifelong guidan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tribuţie la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ofilul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de form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“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Spa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iu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” pentru discu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ie, reflec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ie, analiză, planificare, empowerment, growth mind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silierul şcolar -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prijin, coordonare pentru profesorii diriginţ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Consilierea și orientarea în învățământul gimnazial, </a:t>
            </a:r>
            <a:br>
              <a:rPr sz="1800"/>
            </a:b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în contextul reformei curricul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1773360"/>
            <a:ext cx="48578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49a0"/>
                </a:solidFill>
                <a:latin typeface="Arial"/>
              </a:rPr>
              <a:t>My daily routi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49a0"/>
                </a:solidFill>
                <a:latin typeface="Arial"/>
              </a:rPr>
              <a:t>get up, be amazing, go back to b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49a0"/>
                </a:solidFill>
                <a:latin typeface="Arial"/>
              </a:rPr>
              <a:t>V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ă mulţumesc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Speranţa 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nstitutul de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tiin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e ale Educa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c</a:t>
            </a:r>
            <a:r>
              <a:rPr b="0" lang="en-US" sz="200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_speranta@ise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1" descr="Dare"/>
          <p:cNvPicPr/>
          <p:nvPr/>
        </p:nvPicPr>
        <p:blipFill>
          <a:blip r:embed="rId3"/>
          <a:stretch/>
        </p:blipFill>
        <p:spPr>
          <a:xfrm>
            <a:off x="4929120" y="1413000"/>
            <a:ext cx="421488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6760" y="1663200"/>
            <a:ext cx="827892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L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egea Educa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ției Naționale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1/2011 –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curriculumul naţional este centrat pe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formarea şi dezvoltarea/diversificarea </a:t>
            </a:r>
            <a:r>
              <a:rPr b="1" lang="vi-VN" sz="1600" spc="-1" strike="noStrike">
                <a:solidFill>
                  <a:srgbClr val="0849a0"/>
                </a:solidFill>
                <a:latin typeface="Arial"/>
              </a:rPr>
              <a:t>competenţelor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 cheie care conturează profilul de formare al elev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Clasa pregătitoare la ciclul primar, învățământ obligatoriu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– începând cu anul școlar 2012/2013. Anul școlar 2017/2018: generația ajunge în clasa a V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Reforma curriculară în domeniul Consilieri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2013 aprobare curriculum clasele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0-2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Dezvoltare personală (OM </a:t>
            </a:r>
            <a:r>
              <a:rPr b="0" lang="en-US" sz="1600" spc="-1" strike="noStrike">
                <a:solidFill>
                  <a:srgbClr val="0849a0"/>
                </a:solidFill>
                <a:latin typeface="Arial"/>
              </a:rPr>
              <a:t>418/19.03.2013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2014 aprobare curriculum învățământ profesional de stat cu durata de 3 ani clasele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IX-X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nsiliere și orientare (OM </a:t>
            </a:r>
            <a:r>
              <a:rPr b="0" lang="en-GB" sz="1600" spc="-1" strike="noStrike">
                <a:solidFill>
                  <a:srgbClr val="0849a0"/>
                </a:solidFill>
                <a:latin typeface="Arial"/>
              </a:rPr>
              <a:t>4437/29.08.2014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643120" y="5000760"/>
            <a:ext cx="328608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71840" y="1642680"/>
            <a:ext cx="6572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Document de fundamentare a noului Plan-cadru pentru gimnaziu (ISE 2016) </a:t>
            </a:r>
            <a:r>
              <a:rPr b="0" lang="ro-RO" sz="18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://scldr.ro/wp-content/uploads/2016/04/2.-Document_fundamentare_plan-cadru-gimnaziu_ISE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49a0"/>
                </a:solidFill>
                <a:latin typeface="Arial"/>
              </a:rPr>
              <a:t>OM</a:t>
            </a:r>
            <a:r>
              <a:rPr b="1" lang="ro-RO" sz="1800" spc="-1" strike="noStrike">
                <a:solidFill>
                  <a:srgbClr val="0849a0"/>
                </a:solidFill>
                <a:latin typeface="Arial"/>
              </a:rPr>
              <a:t> 3590/ 5 aprilie 2016 – aprobarea Planurilor cadru pentru gimnaz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Planurile cadru pentru învăţământul gimnazial precizează 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849a0"/>
                </a:solidFill>
                <a:latin typeface="Arial"/>
              </a:rPr>
              <a:t>omeniile 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şi </a:t>
            </a:r>
            <a:r>
              <a:rPr b="0" i="1" lang="en-US" sz="1800" spc="-1" strike="noStrike">
                <a:solidFill>
                  <a:srgbClr val="0849a0"/>
                </a:solidFill>
                <a:latin typeface="Arial"/>
              </a:rPr>
              <a:t>disciplinele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studiate pe parcursul fiecărui an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 şi resursele de timp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alocate aces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Document de politici educaţionale - Repere pentru proiectarea şi reactualizarea curricumlumului national (ISE 2016) </a:t>
            </a:r>
            <a:r>
              <a:rPr b="0" lang="ro-RO" sz="180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http://www.ise.ro/wp-content/uploads/2015/07/Document-politici-curriculum_draft_mai_2016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afele_Anemona"/>
          <p:cNvPicPr/>
          <p:nvPr/>
        </p:nvPicPr>
        <p:blipFill>
          <a:blip r:embed="rId3"/>
          <a:stretch/>
        </p:blipFill>
        <p:spPr>
          <a:xfrm>
            <a:off x="357120" y="1714680"/>
            <a:ext cx="21430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61672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Aria curriculară Consiliere şi ori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Disciplina Consiliere şi dezvoltare pers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                               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TC                      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-a  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I-a 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II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-a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Clasa a VIII-a           1                         0-2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TC=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runchi com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CDS=Curriculum la deci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zia şcolii (opţ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ebe superb"/>
          <p:cNvPicPr/>
          <p:nvPr/>
        </p:nvPicPr>
        <p:blipFill>
          <a:blip r:embed="rId1"/>
          <a:stretch/>
        </p:blipFill>
        <p:spPr>
          <a:xfrm>
            <a:off x="5867280" y="1700280"/>
            <a:ext cx="3276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5572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Iunie-iulie 2016: constituirea grupului de lucru pentru elaborarea programelor școlare CDP (GLC 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2 întâlniri la București (august și noiembrie 2016 sprijin Euroguidance Româ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lucru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nsultare publică (decembrie-ianuarie 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integrar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avizare Comisia Nați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trimitere la ordin februarie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Bufnita"/>
          <p:cNvPicPr/>
          <p:nvPr/>
        </p:nvPicPr>
        <p:blipFill>
          <a:blip r:embed="rId1"/>
          <a:stretch/>
        </p:blipFill>
        <p:spPr>
          <a:xfrm>
            <a:off x="6215040" y="1428840"/>
            <a:ext cx="264312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643040"/>
            <a:ext cx="6072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onența grupurilor de lucru (toate disciplinele): </a:t>
            </a:r>
            <a:r>
              <a:rPr b="0" lang="ro-RO" sz="20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s://www.edu.ro/sites/default/files/Lista%20GrupLucruCurriculum%20V-VIII_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onența GLC 66 precizată și la finalul  programei școlar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ordonare MEN : Daniela Călugă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ordonare științifică ISE: Magdalena Balica, Speranța Țibu, Angela And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2 reprezentanți CND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15 cadre didactice (AR, B, CT, MH, MM, PH, SV), inclusiv coordonatori CJRAE, consilieri școlari, profesori diriginți de diferite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28760" y="6429240"/>
            <a:ext cx="54291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162840" y="1785960"/>
            <a:ext cx="26953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1663200"/>
            <a:ext cx="456876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442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357120" y="3284640"/>
            <a:ext cx="81756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PROVOCĂRI la început de dr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regândirea programelor şcolare pornind de l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competenţe.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Ce competențe vom avea în vedere pentru această disciplin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regândirea demersului didactic din perspectiv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achiziţiilor final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ale învăţării și a unui model al învățării (Cum învață elevii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luarea în considerare a faptului că elevii din clasele V-VIII se află într-o anumită etapă 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evoluţiei lor cognitive și a dezvoltării socio-emoți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asigurarea unui echilibru între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vechi şi nou (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Cum asigurăm preluarea elementelor de inovație, cum păstrăm ce a fost valoros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elaborare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competenţelor specific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în corelaţie cu activităţile de învăţare şi conţinuturile învăţăr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elaborare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sugestiilor metodologic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prin reflectarea specificului claselor V-VIII în ceea ce priveşte studierea disciplinei (Ce metode vom avea în vedere? Cum se va realiya evaluarea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Elena</cp:lastModifiedBy>
  <dcterms:modified xsi:type="dcterms:W3CDTF">2017-10-02T12:19:39Z</dcterms:modified>
  <cp:revision>38</cp:revision>
  <dc:subject/>
  <dc:title>PowerPoint Presentation</dc:title>
</cp:coreProperties>
</file>