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C77-27C1-4D71-BA67-6CEAA1A6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521-13C2-40EB-8A84-2424F58E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93F-A059-4E13-AD95-AB1E60DC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3A3-3656-4FF5-92B5-B638646B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4B1-2179-48E7-8A35-238AB595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280-9444-47BA-BEBB-7F688F87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B69-F42D-4FBC-A71B-E0D6CAD6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948-42F1-40E2-AD15-491A69C2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6B6-3441-4A95-A1C9-D990FEB8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DE3-05A4-4AFB-AEC7-658C07FF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91F-B70F-4180-8815-F60CAF5C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5D3-AF19-46CA-9C06-BFE3B16C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CAEE9-B37D-4911-BD56-CBC96663EF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PRECIZAREA NIVELURILOR DIN CECRL LA INTRAREA ELEVILOR ÎN CICLUL DE ÎNVĂȚĂMÂNT GIMNAZIAL, PRECUM ȘI A NIVELURILOR AȘTEPTATE </a:t>
            </a: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LA FINALUL CICLULUI GIMNAZIAL (a)</a:t>
            </a:r>
            <a:br>
              <a:rPr sz="2600"/>
            </a:b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- limbile engleză, franceză, spaniolă, italiană -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- limbile germană, rusă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TALIEREA FIEC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I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OMPETENȚ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GE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L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ÎN COMPETENȚE SPECIFICE, ULTIMA COMPETENȚĂ SPECIFICĂ FIIND DE NATURĂ SOCIO-CULTURAL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9) INDICAREA RESURSELOR ON LINE UTILE PARCURGERII PROGRAM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icky</cp:lastModifiedBy>
  <dcterms:modified xsi:type="dcterms:W3CDTF">2018-09-16T16:57:30Z</dcterms:modified>
  <cp:revision>25</cp:revision>
  <dc:subject/>
  <dc:title>Elemente de noutate ale programei școlare pentru disciplina</dc:title>
</cp:coreProperties>
</file>