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0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</p:sldMasterIdLst>
  <p:sldIdLst>
    <p:sldId id="256" r:id="rId36"/>
    <p:sldId id="257" r:id="rId37"/>
    <p:sldId id="258" r:id="rId38"/>
    <p:sldId id="259" r:id="rId39"/>
    <p:sldId id="260" r:id="rId40"/>
    <p:sldId id="261" r:id="rId41"/>
    <p:sldId id="262" r:id="rId42"/>
    <p:sldId id="263" r:id="rId43"/>
    <p:sldId id="264" r:id="rId44"/>
    <p:sldId id="265" r:id="rId45"/>
    <p:sldId id="266" r:id="rId46"/>
    <p:sldId id="267" r:id="rId47"/>
    <p:sldId id="268" r:id="rId48"/>
    <p:sldId id="269" r:id="rId49"/>
    <p:sldId id="270" r:id="rId50"/>
    <p:sldId id="271" r:id="rId51"/>
    <p:sldId id="272" r:id="rId52"/>
    <p:sldId id="273" r:id="rId53"/>
  </p:sldIdLst>
  <p:sldSz cx="12193588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" Target="slides/slide1.xml"/><Relationship Id="rId37" Type="http://schemas.openxmlformats.org/officeDocument/2006/relationships/slide" Target="slides/slide2.xml"/><Relationship Id="rId38" Type="http://schemas.openxmlformats.org/officeDocument/2006/relationships/slide" Target="slides/slide3.xml"/><Relationship Id="rId39" Type="http://schemas.openxmlformats.org/officeDocument/2006/relationships/slide" Target="slides/slide4.xml"/><Relationship Id="rId40" Type="http://schemas.openxmlformats.org/officeDocument/2006/relationships/slide" Target="slides/slide5.xml"/><Relationship Id="rId41" Type="http://schemas.openxmlformats.org/officeDocument/2006/relationships/slide" Target="slides/slide6.xml"/><Relationship Id="rId42" Type="http://schemas.openxmlformats.org/officeDocument/2006/relationships/slide" Target="slides/slide7.xml"/><Relationship Id="rId43" Type="http://schemas.openxmlformats.org/officeDocument/2006/relationships/slide" Target="slides/slide8.xml"/><Relationship Id="rId44" Type="http://schemas.openxmlformats.org/officeDocument/2006/relationships/slide" Target="slides/slide9.xml"/><Relationship Id="rId45" Type="http://schemas.openxmlformats.org/officeDocument/2006/relationships/slide" Target="slides/slide10.xml"/><Relationship Id="rId46" Type="http://schemas.openxmlformats.org/officeDocument/2006/relationships/slide" Target="slides/slide11.xml"/><Relationship Id="rId47" Type="http://schemas.openxmlformats.org/officeDocument/2006/relationships/slide" Target="slides/slide12.xml"/><Relationship Id="rId48" Type="http://schemas.openxmlformats.org/officeDocument/2006/relationships/slide" Target="slides/slide13.xml"/><Relationship Id="rId49" Type="http://schemas.openxmlformats.org/officeDocument/2006/relationships/slide" Target="slides/slide14.xml"/><Relationship Id="rId50" Type="http://schemas.openxmlformats.org/officeDocument/2006/relationships/slide" Target="slides/slide15.xml"/><Relationship Id="rId51" Type="http://schemas.openxmlformats.org/officeDocument/2006/relationships/slide" Target="slides/slide16.xml"/><Relationship Id="rId52" Type="http://schemas.openxmlformats.org/officeDocument/2006/relationships/slide" Target="slides/slide17.xml"/><Relationship Id="rId53" Type="http://schemas.openxmlformats.org/officeDocument/2006/relationships/slide" Target="slides/slide18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A6F3-C99A-4FC4-9CC5-79D1314B9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1699-8776-419F-8E46-5CC57D464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79E000-EBDB-47B5-93A2-EBD293139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953FFB-A4BB-418E-94F4-CEFE008A5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0BDC09-2887-4454-AAC4-CEAE6D966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02C877-32A7-4584-ACA1-013DDFB92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AEAD5C-A01C-46F9-AE12-5D7735B0A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5E2700-7083-4912-81CA-79A0D24FB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FAE353-E21A-4D02-8C29-EA012A70A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EFFF26-BBAC-414F-8AA9-CAE549737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702C96-7A64-4C46-94BD-8DB672A57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B6E5B4-F1BE-4050-831C-615F84A99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570D-6275-4549-A0EA-AE1B2DA75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023CF7-7A1A-4950-9A02-0ACB8853D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E4F7EB-5EA6-4E39-8390-42615832B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84322A-CD9F-4B67-8AA8-882104F2F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21066A-020D-4854-B918-98262A18A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A7DBA7-611C-4099-BCE0-17D331361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876684-1A30-4C38-93C0-656878A33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6405B7-E918-4FFF-A119-2B50BEEB1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3C97E9-B4E4-4EF2-90BF-DF2FA91BF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2BF442-75F1-4434-AC80-FDE482E94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385B39-5861-4AE8-AD5D-504BB8DF3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C01B-9E24-4CAC-87A5-15779C25F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8D6854-437C-4470-BD0E-4F3308848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2EF475-338C-4690-967D-FE8F00956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582AAF-D256-4FFD-933F-BB2CACABF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7FD3EB-75FB-41DA-9970-7CF1BAC47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C253B5-4001-4281-A1D2-0CB76FA37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E4E775-D74F-4A36-BC5C-34C3C256F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F05A68-CAA5-4599-994C-DF3B4ED14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5FC91D-628D-427D-8EB0-B5F9676F6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68B7EE-BDFC-44B9-9C17-EACE6FEDA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84071C-E946-4B88-AD10-E9DF49DB5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5C515-ACBF-4086-A7B9-C0DA43D51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2FBF2A-C8CC-4CF0-9FEA-7D37CEDC2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8C885F-E486-47F4-9E28-2E1BB7A7F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56078F-F195-4FAB-B207-58723A8E2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133BE7-607B-4E7F-AA89-B3817EC19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446858-C767-42A3-83E8-7789069A2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B7275A-4A04-4E44-B990-F19A2505F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1AFA7E-DB84-44E9-AEDF-E8286C61C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F2D843-DD9F-4A5D-99BF-49F236453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501B03-E153-4F01-A76A-C5166B3C7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519507-FC48-487A-BE7B-73B62757D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007E3-782C-461B-B5CD-6DE5689DB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9E9BD2-7611-4FC4-8893-5C2C1391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C70312-EF92-4EC6-970E-32BA076FE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51DC66-8BFF-49FB-916C-306C49454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14CAB1-BE34-4A60-9E2A-BAB987B61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BEB049-F331-4BEE-92B2-6B1FC9B60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2B58DA-AFC2-4325-9AC4-12A3C3A8F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083597-6910-4984-B27A-4F2676603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5EB47B-054A-4E07-A810-D69D0EEFC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4D6244-F88C-45AD-8BD8-E6837AC37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0C3751-5E24-4C39-80C6-284689C9C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85DB1-66B0-4DAC-B40F-3A06A0D48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C715C9-7477-4E1A-9F5A-AAAC26986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DE0D47-1AE2-4F67-A0EB-559F4614D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AAF949-EBC6-4E88-8CE1-87CDD1540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271FD8-02EF-4CE6-86BE-04AE5CB55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54135D-EAE7-4AB2-B66E-37DAE2FFC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4011C6-46ED-4107-9AED-37C9643AF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2C93F8-60CF-40CC-B16F-91EAE65E1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883D6A-B3FC-405A-BAE1-70C41573D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FBF300-6149-4C72-84DC-42AB1707C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B40586-2C35-421F-BEC7-6C479CFD0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C9877-FED5-4082-BB7E-EAE73FB57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4F22E3-EF2F-46FB-AE85-082F572EB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2FA628-110F-414B-B624-88F2A11F1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AC8B06-2D9A-4924-98AE-608F3D8A0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D87C50-D4AD-4F95-BD6F-1ADA3D397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959C8E-AF7E-400D-8524-F8E25D0AE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E79D9F-8BF2-4496-B5C8-2ADBE1CC1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1D637B-624C-4833-B521-70F5AF12C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3D1520-B05F-42FA-9206-0F05B0C1B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9BC1F5-238B-48D9-BE38-6BB397727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15FDFD-3B9F-407E-BBE9-9CAE1CDFB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011A4-E4A1-4682-90BC-18691BC49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5DF8ED-1DF4-4707-9D47-57C771448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D5F809-4620-4261-954E-7ADD50CDD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98E661-AD72-48E7-944A-563B86074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4DF4DE-6A14-490D-9464-FD72A8678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5BE4CF-C525-4FCC-84F9-675D36064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47A63D-DA26-4EBE-9A5F-CEF26C6C6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5C7973-4547-4872-AEDD-D19149B02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D54C1C-4BAF-4117-8113-5B9A39942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487499-BD7B-471C-96E3-DB0FC740A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6F86F7-5F27-4BA2-B9CE-8AAB0CC7D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11799-4B74-4B36-905F-CF56A0AAF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065E26-2902-4CF0-8A97-79BD0D191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F4EAA5-FD2D-46E6-9F9C-8695B367F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C256C3-0747-44D3-B1B8-A51FF272D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369F96-22AF-4F42-BB16-D124528DC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BCC79C-C130-4965-955A-A932430CA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F501A1-7F42-40B2-A91F-00962D934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016735-C6C8-45E1-AB38-8D2D39986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374950-98F2-4DB7-A4E6-C1026CF72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84B4FA-54C1-49E5-9F3A-A922EDD2E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26559E-740A-49F1-84B1-B6AD4AF92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294D9-4A78-4F5F-BDEC-8F00F86EA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794193-C0BC-41CA-995E-D15E280EC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F7FEA2-1AF0-4C94-B239-84DB6B837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38C521-09B2-4F13-B1D6-DBD5FA138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DDC731-B8CA-4828-86CE-173EA6CB3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2089AC-F3B8-4573-862C-7503AE980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FAEA99-43E9-4A4A-BC6A-5E176B3A6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2D7F82-EDDE-4224-8FEE-275E39D0C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28A0BF-445F-47FB-B555-AD279B7D6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462C0A-7320-4F6F-9AAD-93C228966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F19D50-B666-4187-BB79-A3BD81352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C354-C0C3-4810-BFA3-140235F3D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07CDC-784E-4176-B9D7-C773BEF7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F49620-726D-42BC-BA32-2B8B00EFF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D6457E-8800-4444-A817-9D8F1920E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94E45B-86DC-46B5-9D1C-703C3DD75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C646DC-EF61-444E-8A2A-E102E65E9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29766B-5A86-474C-8E7E-C5914140C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871C99-99E8-44E4-86DD-30B6DDAAB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AA241B-C3E4-4B1F-8989-220F68F54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BF1CD1-E0CC-4FD0-BE95-2A574190B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321BE0-C2BE-4838-B7BF-45C49383E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FB45FC-77DF-4E2B-9A6F-B17C1F28E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6C2D7-00A9-484A-9E32-7A40AC15D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1332DD-1C25-407D-B7B4-4F1C5AAFA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5EE2AC-D4DD-4EB7-AAE5-036D79DC8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ABE8CB-870F-4552-AFE1-08E926C1E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126F37-C7FF-4FAA-87DA-242A4A612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90A61B-56CF-4243-A7BE-4CA96D243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CDFC1E-B468-43D5-B0E6-259F11DA2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1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2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3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E0E7E3-AB74-4146-A01B-768D588E9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DB05D3-3918-445D-8BE4-9378EEBFA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1FB6FF-D792-4821-8E07-064CA019E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6FB653-F03F-468B-A98E-DCCD715A7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E7036-47A3-454E-ABF0-3824E063C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1450AA-B229-4805-8057-2AA2AEFBA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E66915-5F15-43F7-BA88-E4C894CD0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FD4D7B-8BFC-4C3B-BDBF-A456AFF4B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CED81E-9C14-447C-9B44-58909A654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05A388-A693-41A9-9592-7E8F50C38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45463F-367C-4926-B00F-BAD3B07DA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5A4B33-A68A-44B5-9D58-29B04CB51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5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9F7D27-1148-4869-AA7A-012F89834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10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11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12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055E3D-B58E-4BD1-AD2C-627376F45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148B69-08AC-43A9-A16A-A94F8E6FE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C1F36-0002-4327-A8F8-8B4F8B17F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9FC400-FA42-4506-88ED-CD5A1F122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A05622-8F51-4DA6-AC83-04E353AFE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AD8589-4FA4-4402-BF6F-D8D57C860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016A31-E473-4762-BE4C-93950C56D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FBFD49-066A-481F-8739-7F1DA7283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79675A-7930-478A-870B-66341A27F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90D40E-3AF3-438B-8D8A-3EF8C26D0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33C62A-DFEB-4898-8DE6-CBBD1F64B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9D31E2-AF7E-4C1D-A41F-5F0308412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4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88D24B-FCD7-4A3A-9AF6-703292718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26789-790B-4F3B-8743-0C0D7B2D7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9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80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81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4DB238-E700-4EA3-996E-C4697A0BF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7D76856-689A-4655-80C2-59FC77638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F2B1AFE-0EF9-440F-894B-CDC3D13A3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5A9FFA-2073-481E-9615-AD64C13D4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DC742EF-11E6-44C8-B334-BB977ECD4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ADB931-9DC0-4FC9-9ACB-D60353BB1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9B386D-BA5E-48DC-8BD6-5B428B6D3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2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74EF305-B11D-4B46-8BDE-7FACB4AA4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94F7C6D-8393-4671-9E82-12A1E1E3A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3E27D8-BBB4-43B0-9D39-FF8534411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0B389-14F1-49D3-8F5E-A423A26F8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87ECE4-F7FD-46D5-A834-2E8DC8F44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43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65F04D3-D71E-4FD2-93EB-1A9280226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47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48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49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50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1AE4AC-0D55-4A67-9BCA-E96A09FE4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EB3847B-AF17-48E0-A3DF-47B295F43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D7520FC-235D-4B3E-AAB0-0B535B88B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D5A24BC-739D-41E3-8C68-3CA586C6E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5EE201F-1BC1-45EF-955F-4E05FFA3C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A06E87A-A47D-4DC8-B746-85A6422B3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CA809CF-20A2-4F18-888E-A1CD7598D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6F8F849-5F53-4195-8B75-4D50831D3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04173-81FD-42F9-8E4A-81D56BD2F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00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81BFEF6-C936-4F41-B3EE-4FE259F0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390C511-708A-43CE-9DEF-504FBC374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20339A2-E934-42DA-83CB-E4F10E743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1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12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CFD0410-4518-453B-BD1D-75C9891CF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16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17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18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19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CF68076-29D4-4D72-883B-63E69A64C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9563E72-7C77-45C7-9E53-A279D2E85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55964A2-0DEE-434A-8C00-9FB15726A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4A3141C-B839-4173-A032-47419A4E2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3046862-FE6F-4006-9C61-B5385B000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03D0D9C-A94F-48A7-A397-9BD1942E4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960B0-A11A-4C7D-9033-E1ACA4EB9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F9655C5-9658-4EE7-9735-5947822F0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6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C4D68FB-F4AA-48C4-ADC2-630ED22FF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6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F046D5A-2304-45B7-8550-9D116604A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F5DD3B0-C298-4FB7-88FB-3948581FD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E5A2DCC-480A-4CB6-A4E2-2DBD498E0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8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8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3EDD5EB-4ECD-4184-8D3D-B9270C117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8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8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8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8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8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55FB558-3870-44D4-B427-EB2A35E91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2C39F01-662A-47FB-B9E1-4245B0673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CD4E84A-F0E4-48AA-91B0-A71F50B2F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C0D955B-2525-4C78-A58A-8E9428026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AD48B-E00F-4333-A5D3-EDB02C0E5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49A68D8-D6E9-403C-896E-BB28BED6D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575C17B-81EE-4443-A7DD-97BC91914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ACB6DD0-87F2-4AD0-84EB-CA2AA988F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3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3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16322A5-F3F1-41D5-92CE-C54EDE6B3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3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3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D7FEA82-8C0D-45AB-AB70-489D6F001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084CA6C-DAF2-4227-AE8B-85CFAE5F1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4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60E6C52-AAE4-4E1F-B078-D11693690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4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5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509FD5D-2B66-48A9-AAA5-28D22276D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5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5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5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5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5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DA4FEEB-8808-416B-9687-1FDC09F4B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3A6D74F-3FE8-430A-AEB5-40B11D040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DA089-06E4-45C0-820E-EC101647A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459D7A5-36F1-4C49-A87C-3D0C576FD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784966E-5063-4E2D-BC14-CBBF15D49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499CC62-3596-4C3F-A12B-8986DFCB9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6FC5828-CC5A-4A7B-BF9C-6A87C0D1D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092E0CA-30B9-4CD2-962D-46668A5BB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0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0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373C16F-AF4E-4FAB-9E64-F1A03BD8F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0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0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D336632-D180-4F08-8DF2-D62F82EA5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1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1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6E244B5-F772-4B5F-A071-04B593587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1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778F393-43F3-437F-B907-EA47E90EC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1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1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1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D8CF530-6EA6-48E5-97CA-3BC12743D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817C-E201-42FF-9C1A-441DFD077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E4912-3E14-4E61-AB16-4373C7DB7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2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2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2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2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2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8A187C3-3566-44F3-A37E-CBA618ADE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859A5C0-9812-4A3B-A42A-41A4AFD2A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6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940D75A-EF5B-4F4A-B921-6A459D2D1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5FB1176-EC62-4145-A542-2CA0ACCEE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466ADBA-45CB-42B2-9D18-F8ECDB7EA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99E6F6A-DCC3-4718-A60B-DD48A3F90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434FABC-61CC-4697-827E-B9CB577B1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7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7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D1B76E6-15CF-4064-BD66-3FF5A456F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7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7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C73F40B-8FD6-49AF-862B-4E29E521C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7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8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29D0005-5D74-4833-B574-9131E1BDB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D40D8-D26A-457A-B27F-B3377DB69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8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7807943-969F-4A38-8595-F77C566C5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8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8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8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BD34AEF-B510-4E99-AC65-7B20EFE3B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9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9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9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9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07BD289-D729-45F4-B866-C30A32896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18A599F-9F79-4DD2-A77C-460D8F0B1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30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4F95B09-841A-4746-8248-3C1D29386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6C40FBF-410F-45A9-9A33-AC1ACF32B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3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42C8134-0102-4EAC-8351-83C3A3E60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51DBC7E-C984-4E3E-985B-15B564CC1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0D309A0-647A-4E4C-99CE-CAD75C606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4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4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EF5F22C-5D80-43CD-BA64-1C88D7F2A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3A33F-479C-4240-8A40-959BF0DD5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4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45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72C506C-EEF0-4D4B-A900-3DBC7C279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4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5637080-E54E-4C5B-B7D3-8638BC90F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2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1677C46-3BF1-4CEE-BFAB-A6952FBFB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7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E7B5DEE-E743-40D4-8093-884A497AA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0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1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2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3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4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D3FF16D-F5EE-4133-917F-6BAC92648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DE12122-D38F-497A-8A81-A017CE1EB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1257839-1045-409C-A4A3-FD9219A63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EBDD449-1EEA-4959-AEE9-8A34A35A3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0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3783830-C38E-47EE-A62A-02FEEE2D2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D4003B4-C62E-4896-8939-6632E1FB4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E884A-D0EC-4C8C-ACC4-F88BCFC80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1B758D0-6745-4829-BCA8-D90D58001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0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1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93A6222-F085-4265-BA9B-8D75591A6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1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14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3392A76-22EF-4ADE-AC5F-16C575CCC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1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1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1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9A3BF7E-A502-452F-958B-68F239FF8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21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E92AB1F-E480-4654-86F9-3C18E6E10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2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2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26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108A29D-E5B9-4B00-9A38-0687FA254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29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0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1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2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3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807CE13-CF15-4D3B-A5D1-7020F8304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87EE9BD-55C2-4191-B403-B98A0A493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70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213152E-CA57-4418-A5E8-02596AA86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58DA343-E700-4D76-8505-31C56F027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99EFB-B805-4EEB-BBAF-7A0161D9F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7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734B4AE-0E1E-45BA-9D44-518DCAEFE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ED7FB68-EBD3-490B-ADBD-A6E93B912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EC97F73-AC58-4357-A685-180BBCF3E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7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ED6C71D-AD3C-4536-A960-210849B4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5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C994854-B33D-4AB4-867C-7433F41EE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179ABB6-3AE8-41AA-B14B-26097D7C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FEEA083-6413-45FA-A80E-F23E8261A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9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9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9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97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8F5920F-47F3-4CC0-A76E-9BC9853A1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00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01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02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03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04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A958D1E-5BB1-4058-9560-E92A98820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E59048E-2D46-4CA6-A96C-5014AF102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853C6-744C-49E2-854A-7DEC47608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39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0423AE7-5677-46BC-A878-3A2BC95AC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4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CF53205-1BF7-40E8-956D-A7A25C348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7D8D56E-3D6E-46D6-B97B-663471408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1CC064D-639D-4EAC-98E4-E59DA452F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FE9A51D-2AE8-454E-8685-C304A7FA0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4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BB98D9B-F3F4-4319-87F5-C0F221036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5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4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90710AC-E30F-4664-8257-23396CC43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169846B-A62C-400A-AAF3-154732EE0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4A5941C-0F35-457E-82D6-07ECBAEA9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6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6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66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1605DB3-6CC1-4B0A-9F9E-6933FF883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062D4-8346-45A0-B238-989095F72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69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70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71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72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73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D07D464-2867-4B54-B00F-282BB233D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0CC27ED-0B0F-4AAD-8312-7C437F976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E503794-1486-40F5-A040-3423B158F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1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0F2E816-9589-484A-AD11-FAA47E58E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1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ABC9D6C-9621-484E-8B96-F4B58B2A1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2EE21C2-71FA-4D1A-A3AE-C44D1354D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F3E08C8-C211-4F23-B502-AEE6132A1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1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2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2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A9111DE-6C72-4E3D-BDE3-6C871616F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2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25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8F0FD11-9736-479A-907C-6543DB40E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2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B40E1FC-426F-444E-8263-7EBD79A97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81033-5B8A-4B1B-A194-173E3507C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3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32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FBED4F1-9D5F-41C1-992B-A4A98DFA7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3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3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3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37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A2AE87C-E1EA-4ED6-B614-97DEED3A8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3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40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41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42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43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44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512BD3E-944A-46C0-920D-35F8AB36D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8FAF72D-9B59-475A-8517-A02C5F5A8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79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3C9528B-E10F-4B9D-B902-FB8FF67BC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8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6B182E8-9328-42E5-9BC8-C5DB3BECE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8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8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7934433-7F1E-4F35-9BF7-B6960C0E5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95A5BC3-8FE4-4588-9244-646BEA946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AAC7569-E3AA-4E1B-A45F-C5D1267B8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8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9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D41C6DD-0D64-4B65-9FBE-B8F7004AF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D49BD-D0E5-42F1-9EB1-013C5305B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9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94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205783A-9371-43B7-A80E-3202003CA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9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9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B907245-E722-4F29-B801-3290FD1AA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0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01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D939047-E6B7-4D0D-B584-B4B03B3E2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0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0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06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A8C9625-4A9E-43F2-B080-B47F007A0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0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09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10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11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12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13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F182F6D-69C5-40ED-9017-1EBE56569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F9F2C79-FE07-4E29-B836-E63C39AF7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48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E346C2F-A02E-4E21-A5B0-1A3FC23BC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371A10D-3EFC-496A-8224-1BDD00B46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5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5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9CA7F9D-7210-457F-B460-D5E3C585A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58AC161-36B8-496F-B035-4FFA0D41C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95C5B-B3D4-4B8B-80B4-3DE84EBCB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241C5B9-621B-4A35-A046-0C828941B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94E2AA6-E14B-4CB8-8E9F-CB67F3125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6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6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63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2A85EFA-AA75-4522-9D66-C5A44D331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6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6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6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454097B-B507-46A2-B3B8-741680B8A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6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70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3B56635-476E-4B0C-B1FE-0247F4761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7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7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7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75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CA48F14-0AD8-44B0-84E9-0DE990E29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7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78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79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80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81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82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0396404-042A-4645-86C5-E49B647A8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6CC95A0-FBF2-450A-82D5-AC375D87D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17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40CCC39-33BF-40F4-9001-B1581F5E6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1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4BA39B5-6932-4745-80BD-587C9C2C3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578B-22DB-4354-9362-59F126986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AEC708-A11C-4B1F-B171-89936A089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2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2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DFC4C43-E447-4B23-97B0-F19B23006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C2B7996-4E88-4B03-9CB3-B6FA5B803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4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07C141E-3C51-443B-A1D9-748DFEF65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DB078CE-6D93-46DB-8FA6-51973B006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3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3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32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CB26219-EC1C-4E9A-B6D2-948DF189E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3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3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3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D61CEAF-7F37-417E-B8A6-E3BD4B01A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39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386C2A9-9064-4D0C-A473-924E653A3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4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4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4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44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D1FE7EF-37D4-47D8-8150-C18DA2DB7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4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47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48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49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50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51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BFDAEF3-EBE4-4929-B1C4-E2AE3A803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AF2A8-627C-4E01-B304-81E07576C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71619-9A55-4600-A646-8E38A9363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3B7F4-F2F2-4551-AEDA-AB5AD0955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D4049-16E3-4A17-BDCC-B1B6A3BD5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9BAE11-E0C8-4B2C-B29C-1FABB34F6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2EA0E-6125-4085-A98E-F3F0588EB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7196A-3643-4B57-B1B0-5AD617D4F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B2F41-CFB0-4B4D-8542-552311383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4AB5BE-1799-457B-9817-BB4636004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7E07-0436-41EA-BD74-F7E48DB92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DAFEC7-53BA-4D3C-8E04-E4CFEC64B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E4A3AF-1FE1-4CF5-BEE0-B3989923E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201486-6D4A-4C4D-85B5-66525B81B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59D995-7026-46D7-83FA-0EC5F36DF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852F8-6BED-4A52-A18D-34481748C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ED549E-B9B6-4201-A5C5-6C7D8B1AE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7255E8-417C-4FC3-A499-9F72AF90C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6FC500-FBC3-49BE-9367-DFBB69BDD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7DC13A-02D1-4B02-9DE2-02DC942C0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98428B-64DF-4BC3-AEC0-E1E0D4B6C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B290-FB96-482F-AC74-1CA04E2F5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1EB7EE-31AC-457B-9869-02D0ECEB0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8C6236-229D-4E20-8B2C-9823471C0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846614-475D-4C2A-85A2-6C15041C6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46FAD8-9195-4637-B723-6F0B0089E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1EB008-530F-4672-8B19-C13EA633F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7A4A41-DCCB-4072-8642-9BE5A7123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BF7289-9AE6-4A38-9BF0-CDCE9A3EA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F379EB-456E-4276-9B00-D92A58B0F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A5DA4B-FAFA-4419-AE8F-32F0FD13F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CE5E07-EDB5-4EE9-9A14-4E93AB268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D778-E93E-41DB-ACA0-9ED1655FD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EB9E8E-0594-4940-AAB4-4314A4B1D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CC6ABD-62C3-4D7B-8795-8E4685A67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D6270B-8DF5-403F-81CF-F05633AD6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6C64B7-9678-4CE4-BAB7-EEDE4FE61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72C045-AD9E-44DC-A906-33687653F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5716DD-952C-41BA-8276-A8AAE3CD6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837E33-6EF3-46F8-A02E-A39A51B27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65BA5E-326F-40DE-B743-B3F235A26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A8ABF6-1254-46C7-B8BC-AAEF90292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E70E2D-B3DD-4BC9-823F-816297071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C734-B988-46F1-BAA9-F4A101E91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183912-DAFE-4B67-BDDF-454F6C820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51DD30-690E-422E-97E9-75A44F868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2AF8C1-108A-430E-ACBF-1ABEF0706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BC47CD-A7EF-43D8-93D1-DB8C37211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8967E2-42B8-41EC-8640-6DE3216D0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44EDD6-2AC6-4D67-AB0E-C2F36CD39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A1AD49-04B3-4E71-8A19-81B53CCEC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7A002E-2200-49BA-8B9A-1AEAC11D2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773E5A-13D2-497A-BACB-CC2DAA612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6B9A17-1894-4C92-B686-B3D0BEB59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4654-7D37-4E1D-82FB-4CFD9BFBA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E29FB7-89D8-4176-B982-1312758DB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1383B4-133F-41FD-B829-C93882F5C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0E4F54-1D1E-4047-A152-46F9C923B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F58FC3-EB04-41D3-A3FF-C2857DE89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E00141-0179-40F7-9CD7-F5C2A853D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807B04-CD87-4A7D-9390-3A6DF3259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620944-4E2E-47FA-BCDA-2FB18AF01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851218-425F-4561-B29B-DA8E10481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6F4F62-FD03-4AF9-BF9B-7784A4FDA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33CC3D-79E1-4845-89C8-E25B1DD02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4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78CD5-8D94-41A3-9E52-C3FA7CDB1A52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20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633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 type="dt" idx="28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 type="ftr" idx="29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 type="sldNum" idx="30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94E04-52AD-48CC-A8ED-F11DFD86FCA4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89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702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 type="dt" idx="3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 type="ftr" idx="3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 type="sldNum" idx="33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618F3-6376-4930-A1DD-F592EA954CB9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758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771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 type="dt" idx="3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 type="ftr" idx="3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 type="sldNum" idx="36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61CA0-9449-4717-9733-F70D68470DF1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6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27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40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2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Box 13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Box 14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 type="dt" idx="3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 type="ftr" idx="3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 type="sldNum" idx="39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C7AC3-84AC-4949-8612-1FB49DEEEC3B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98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911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 type="dt" idx="4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 type="ftr" idx="4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5"/>
          <p:cNvSpPr>
            <a:spLocks noGrp="1"/>
          </p:cNvSpPr>
          <p:nvPr>
            <p:ph type="sldNum" idx="42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B4836-8988-4D5F-AB70-D00BAB924E74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967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9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980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TextBox 16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TextBox 17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 type="dt" idx="4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 type="ftr" idx="4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 type="sldNum" idx="45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81B5F-15AF-4E5E-AD8C-A40F461A93F3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038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051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dt" idx="4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 type="ftr" idx="4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 type="sldNum" idx="48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7FE9A-4172-4691-AB8E-D717F366E726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6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107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9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120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2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4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ftr" idx="5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 type="sldNum" idx="5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F80C4-7D0D-4C8F-8CA1-18057AAD6E5A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5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176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8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189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1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 type="dt" idx="52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 type="ftr" idx="53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5"/>
          <p:cNvSpPr>
            <a:spLocks noGrp="1"/>
          </p:cNvSpPr>
          <p:nvPr>
            <p:ph type="sldNum" idx="54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68FCC-BAF4-4400-9BF8-4C1724323372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4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245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7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258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0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Freeform 6"/>
          <p:cNvSpPr/>
          <p:nvPr/>
        </p:nvSpPr>
        <p:spPr>
          <a:xfrm>
            <a:off x="0" y="4324320"/>
            <a:ext cx="1744560" cy="777960"/>
          </a:xfrm>
          <a:custGeom>
            <a:avLst/>
            <a:gdLst>
              <a:gd name="textAreaLeft" fmla="*/ 0 w 1744560"/>
              <a:gd name="textAreaRight" fmla="*/ 1744920 w 1744560"/>
              <a:gd name="textAreaTop" fmla="*/ 0 h 777960"/>
              <a:gd name="textAreaBottom" fmla="*/ 778320 h 777960"/>
            </a:gdLst>
            <a:ahLst/>
            <a:rect l="textAreaLeft" t="textAreaTop" r="textAreaRight" b="textAreaBottom"/>
            <a:pathLst>
              <a:path w="372" h="166">
                <a:moveTo>
                  <a:pt x="287" y="166"/>
                </a:moveTo>
                <a:cubicBezTo>
                  <a:pt x="290" y="166"/>
                  <a:pt x="292" y="165"/>
                  <a:pt x="293" y="164"/>
                </a:cubicBezTo>
                <a:cubicBezTo>
                  <a:pt x="293" y="163"/>
                  <a:pt x="294" y="163"/>
                  <a:pt x="294" y="163"/>
                </a:cubicBezTo>
                <a:cubicBezTo>
                  <a:pt x="370" y="87"/>
                  <a:pt x="370" y="87"/>
                  <a:pt x="370" y="87"/>
                </a:cubicBezTo>
                <a:cubicBezTo>
                  <a:pt x="372" y="85"/>
                  <a:pt x="372" y="81"/>
                  <a:pt x="370" y="78"/>
                </a:cubicBezTo>
                <a:cubicBezTo>
                  <a:pt x="294" y="3"/>
                  <a:pt x="294" y="3"/>
                  <a:pt x="294" y="3"/>
                </a:cubicBezTo>
                <a:cubicBezTo>
                  <a:pt x="294" y="2"/>
                  <a:pt x="293" y="2"/>
                  <a:pt x="293" y="2"/>
                </a:cubicBezTo>
                <a:cubicBezTo>
                  <a:pt x="292" y="1"/>
                  <a:pt x="290" y="0"/>
                  <a:pt x="28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66"/>
                  <a:pt x="0" y="166"/>
                  <a:pt x="0" y="166"/>
                </a:cubicBezTo>
                <a:lnTo>
                  <a:pt x="287" y="166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 type="dt" idx="55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PlaceHolder 4"/>
          <p:cNvSpPr>
            <a:spLocks noGrp="1"/>
          </p:cNvSpPr>
          <p:nvPr>
            <p:ph type="ftr" idx="56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5"/>
          <p:cNvSpPr>
            <a:spLocks noGrp="1"/>
          </p:cNvSpPr>
          <p:nvPr>
            <p:ph type="sldNum" idx="57"/>
          </p:nvPr>
        </p:nvSpPr>
        <p:spPr>
          <a:xfrm>
            <a:off x="531360" y="452916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B6912-72F9-47DE-9BA7-8B2D48E57DF9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2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1A886-4941-4C08-821B-660604CCF250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3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314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6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327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9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 type="dt" idx="58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 type="ftr" idx="59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 type="sldNum" idx="60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8E39C-29CF-4422-B543-CD2282B0FC16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2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383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5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396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8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 type="dt" idx="6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 type="ftr" idx="6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5"/>
          <p:cNvSpPr>
            <a:spLocks noGrp="1"/>
          </p:cNvSpPr>
          <p:nvPr>
            <p:ph type="sldNum" idx="63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0959A-6141-413F-BBC8-BE53FF37380B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1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452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4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465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7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 type="dt" idx="6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PlaceHolder 4"/>
          <p:cNvSpPr>
            <a:spLocks noGrp="1"/>
          </p:cNvSpPr>
          <p:nvPr>
            <p:ph type="ftr" idx="6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5"/>
          <p:cNvSpPr>
            <a:spLocks noGrp="1"/>
          </p:cNvSpPr>
          <p:nvPr>
            <p:ph type="sldNum" idx="66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A2FAA-B0D4-4BBA-A4DF-DA132A1E3167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521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534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50" name="PlaceHolder 3"/>
          <p:cNvSpPr>
            <a:spLocks noGrp="1"/>
          </p:cNvSpPr>
          <p:nvPr>
            <p:ph type="dt" idx="6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PlaceHolder 4"/>
          <p:cNvSpPr>
            <a:spLocks noGrp="1"/>
          </p:cNvSpPr>
          <p:nvPr>
            <p:ph type="ftr" idx="6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5"/>
          <p:cNvSpPr>
            <a:spLocks noGrp="1"/>
          </p:cNvSpPr>
          <p:nvPr>
            <p:ph type="sldNum" idx="69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865EF-71A2-4DD2-99CF-D4CC9C22068C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590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603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 type="dt" idx="7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 type="ftr" idx="7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5"/>
          <p:cNvSpPr>
            <a:spLocks noGrp="1"/>
          </p:cNvSpPr>
          <p:nvPr>
            <p:ph type="sldNum" idx="72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4EB4A-FC49-456F-923A-DD1040DB81FC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659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672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88" name="PlaceHolder 3"/>
          <p:cNvSpPr>
            <a:spLocks noGrp="1"/>
          </p:cNvSpPr>
          <p:nvPr>
            <p:ph type="dt" idx="7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PlaceHolder 4"/>
          <p:cNvSpPr>
            <a:spLocks noGrp="1"/>
          </p:cNvSpPr>
          <p:nvPr>
            <p:ph type="ftr" idx="7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5"/>
          <p:cNvSpPr>
            <a:spLocks noGrp="1"/>
          </p:cNvSpPr>
          <p:nvPr>
            <p:ph type="sldNum" idx="75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8BB14-A7C2-4E22-B629-0FEF843689E0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728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741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57" name="PlaceHolder 3"/>
          <p:cNvSpPr>
            <a:spLocks noGrp="1"/>
          </p:cNvSpPr>
          <p:nvPr>
            <p:ph type="dt" idx="7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PlaceHolder 4"/>
          <p:cNvSpPr>
            <a:spLocks noGrp="1"/>
          </p:cNvSpPr>
          <p:nvPr>
            <p:ph type="ftr" idx="7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5"/>
          <p:cNvSpPr>
            <a:spLocks noGrp="1"/>
          </p:cNvSpPr>
          <p:nvPr>
            <p:ph type="sldNum" idx="78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91612-E10D-41F0-A1ED-71FBFA493E0F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6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797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9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810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2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25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6" name="PlaceHolder 3"/>
          <p:cNvSpPr>
            <a:spLocks noGrp="1"/>
          </p:cNvSpPr>
          <p:nvPr>
            <p:ph type="dt" idx="7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PlaceHolder 4"/>
          <p:cNvSpPr>
            <a:spLocks noGrp="1"/>
          </p:cNvSpPr>
          <p:nvPr>
            <p:ph type="ftr" idx="8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PlaceHolder 5"/>
          <p:cNvSpPr>
            <a:spLocks noGrp="1"/>
          </p:cNvSpPr>
          <p:nvPr>
            <p:ph type="sldNum" idx="81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A30B6-4CF0-4A2A-82A0-1448D26CF524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5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866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8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879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1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5" name="PlaceHolder 3"/>
          <p:cNvSpPr>
            <a:spLocks noGrp="1"/>
          </p:cNvSpPr>
          <p:nvPr>
            <p:ph type="dt" idx="82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PlaceHolder 4"/>
          <p:cNvSpPr>
            <a:spLocks noGrp="1"/>
          </p:cNvSpPr>
          <p:nvPr>
            <p:ph type="ftr" idx="83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PlaceHolder 5"/>
          <p:cNvSpPr>
            <a:spLocks noGrp="1"/>
          </p:cNvSpPr>
          <p:nvPr>
            <p:ph type="sldNum" idx="84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9B0D0-B24B-454F-A897-289EC270F88B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4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935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7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948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0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TextBox 13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TextBox 14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65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6" name="PlaceHolder 3"/>
          <p:cNvSpPr>
            <a:spLocks noGrp="1"/>
          </p:cNvSpPr>
          <p:nvPr>
            <p:ph type="dt" idx="85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PlaceHolder 4"/>
          <p:cNvSpPr>
            <a:spLocks noGrp="1"/>
          </p:cNvSpPr>
          <p:nvPr>
            <p:ph type="ftr" idx="86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PlaceHolder 5"/>
          <p:cNvSpPr>
            <a:spLocks noGrp="1"/>
          </p:cNvSpPr>
          <p:nvPr>
            <p:ph type="sldNum" idx="87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B78AA-03D2-489F-B101-5C09C63478B6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37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50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6"/>
          <p:cNvSpPr/>
          <p:nvPr/>
        </p:nvSpPr>
        <p:spPr>
          <a:xfrm>
            <a:off x="0" y="4324320"/>
            <a:ext cx="1744560" cy="777960"/>
          </a:xfrm>
          <a:custGeom>
            <a:avLst/>
            <a:gdLst>
              <a:gd name="textAreaLeft" fmla="*/ 0 w 1744560"/>
              <a:gd name="textAreaRight" fmla="*/ 1744920 w 1744560"/>
              <a:gd name="textAreaTop" fmla="*/ 0 h 777960"/>
              <a:gd name="textAreaBottom" fmla="*/ 778320 h 777960"/>
            </a:gdLst>
            <a:ahLst/>
            <a:rect l="textAreaLeft" t="textAreaTop" r="textAreaRight" b="textAreaBottom"/>
            <a:pathLst>
              <a:path w="372" h="166">
                <a:moveTo>
                  <a:pt x="287" y="166"/>
                </a:moveTo>
                <a:cubicBezTo>
                  <a:pt x="290" y="166"/>
                  <a:pt x="292" y="165"/>
                  <a:pt x="293" y="164"/>
                </a:cubicBezTo>
                <a:cubicBezTo>
                  <a:pt x="293" y="163"/>
                  <a:pt x="294" y="163"/>
                  <a:pt x="294" y="163"/>
                </a:cubicBezTo>
                <a:cubicBezTo>
                  <a:pt x="370" y="87"/>
                  <a:pt x="370" y="87"/>
                  <a:pt x="370" y="87"/>
                </a:cubicBezTo>
                <a:cubicBezTo>
                  <a:pt x="372" y="85"/>
                  <a:pt x="372" y="81"/>
                  <a:pt x="370" y="78"/>
                </a:cubicBezTo>
                <a:cubicBezTo>
                  <a:pt x="294" y="3"/>
                  <a:pt x="294" y="3"/>
                  <a:pt x="294" y="3"/>
                </a:cubicBezTo>
                <a:cubicBezTo>
                  <a:pt x="294" y="2"/>
                  <a:pt x="293" y="2"/>
                  <a:pt x="293" y="2"/>
                </a:cubicBezTo>
                <a:cubicBezTo>
                  <a:pt x="292" y="1"/>
                  <a:pt x="290" y="0"/>
                  <a:pt x="28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66"/>
                  <a:pt x="0" y="166"/>
                  <a:pt x="0" y="166"/>
                </a:cubicBezTo>
                <a:lnTo>
                  <a:pt x="287" y="166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9"/>
          </p:nvPr>
        </p:nvSpPr>
        <p:spPr>
          <a:xfrm>
            <a:off x="531360" y="452916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D9608-0035-4CC2-BB02-7DD0803CB8C3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5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006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8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019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1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34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5" name="PlaceHolder 3"/>
          <p:cNvSpPr>
            <a:spLocks noGrp="1"/>
          </p:cNvSpPr>
          <p:nvPr>
            <p:ph type="dt" idx="88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PlaceHolder 4"/>
          <p:cNvSpPr>
            <a:spLocks noGrp="1"/>
          </p:cNvSpPr>
          <p:nvPr>
            <p:ph type="ftr" idx="89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PlaceHolder 5"/>
          <p:cNvSpPr>
            <a:spLocks noGrp="1"/>
          </p:cNvSpPr>
          <p:nvPr>
            <p:ph type="sldNum" idx="90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40FAD-0699-4D15-A30A-B38932E10063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4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075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7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088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0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TextBox 16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TextBox 17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05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06" name="PlaceHolder 3"/>
          <p:cNvSpPr>
            <a:spLocks noGrp="1"/>
          </p:cNvSpPr>
          <p:nvPr>
            <p:ph type="dt" idx="9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PlaceHolder 4"/>
          <p:cNvSpPr>
            <a:spLocks noGrp="1"/>
          </p:cNvSpPr>
          <p:nvPr>
            <p:ph type="ftr" idx="9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PlaceHolder 5"/>
          <p:cNvSpPr>
            <a:spLocks noGrp="1"/>
          </p:cNvSpPr>
          <p:nvPr>
            <p:ph type="sldNum" idx="93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BB2B4-13B0-452C-914D-8F95146A26F0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5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146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8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159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1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74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75" name="PlaceHolder 3"/>
          <p:cNvSpPr>
            <a:spLocks noGrp="1"/>
          </p:cNvSpPr>
          <p:nvPr>
            <p:ph type="dt" idx="9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PlaceHolder 4"/>
          <p:cNvSpPr>
            <a:spLocks noGrp="1"/>
          </p:cNvSpPr>
          <p:nvPr>
            <p:ph type="ftr" idx="9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PlaceHolder 5"/>
          <p:cNvSpPr>
            <a:spLocks noGrp="1"/>
          </p:cNvSpPr>
          <p:nvPr>
            <p:ph type="sldNum" idx="96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FB53A-788C-43F2-9210-69B4953154AB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4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215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7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228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0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43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44" name="PlaceHolder 3"/>
          <p:cNvSpPr>
            <a:spLocks noGrp="1"/>
          </p:cNvSpPr>
          <p:nvPr>
            <p:ph type="dt" idx="9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PlaceHolder 4"/>
          <p:cNvSpPr>
            <a:spLocks noGrp="1"/>
          </p:cNvSpPr>
          <p:nvPr>
            <p:ph type="ftr" idx="9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PlaceHolder 5"/>
          <p:cNvSpPr>
            <a:spLocks noGrp="1"/>
          </p:cNvSpPr>
          <p:nvPr>
            <p:ph type="sldNum" idx="99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982A1-4EF1-4F3C-A479-0145C8F63F75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3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284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6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297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9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12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13" name="PlaceHolder 3"/>
          <p:cNvSpPr>
            <a:spLocks noGrp="1"/>
          </p:cNvSpPr>
          <p:nvPr>
            <p:ph type="dt" idx="10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PlaceHolder 4"/>
          <p:cNvSpPr>
            <a:spLocks noGrp="1"/>
          </p:cNvSpPr>
          <p:nvPr>
            <p:ph type="ftr" idx="10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PlaceHolder 5"/>
          <p:cNvSpPr>
            <a:spLocks noGrp="1"/>
          </p:cNvSpPr>
          <p:nvPr>
            <p:ph type="sldNum" idx="102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0CB59-AEBB-4225-8A21-9C9FF4F37949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06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19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12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D5126-1355-4501-BBF2-5D50AEF19D74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75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88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1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1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15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760C2-76A7-49B1-8006-87E5CF0A4FF6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344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357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1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1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18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DC5C4-23A3-485F-B095-43214EAE4467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13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426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1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2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2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21CB8-84FB-4B4E-BD67-A0AE042E4BCA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1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82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4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495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7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22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ftr" idx="23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sldNum" idx="24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B94E7-F22F-44FA-966A-4A14D764DC90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551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564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 type="dt" idx="25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 type="ftr" idx="26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 type="sldNum" idx="27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28DC0-63EE-4514-8DF9-EFCDC4845E6C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programe.ise.ro/actuale.aspx" TargetMode="External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www.manuale.edu.ro/" TargetMode="External"/><Relationship Id="rId2" Type="http://schemas.openxmlformats.org/officeDocument/2006/relationships/hyperlink" Target="https://www.manuale.edu.ro/" TargetMode="External"/><Relationship Id="rId3" Type="http://schemas.openxmlformats.org/officeDocument/2006/relationships/hyperlink" Target="http://www.edu.ro/" TargetMode="External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ubiecte2019.edu.ro/" TargetMode="External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2" name="PlaceHolder 1"/>
          <p:cNvSpPr>
            <a:spLocks noGrp="1"/>
          </p:cNvSpPr>
          <p:nvPr>
            <p:ph type="title"/>
          </p:nvPr>
        </p:nvSpPr>
        <p:spPr>
          <a:xfrm>
            <a:off x="2066400" y="247680"/>
            <a:ext cx="8915400" cy="464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5400" spc="-1" strike="noStrike">
                <a:solidFill>
                  <a:srgbClr val="19017f"/>
                </a:solidFill>
                <a:latin typeface="Calisto MT"/>
              </a:rPr>
              <a:t>CONSFĂTUIREA PROFESORILOR DE </a:t>
            </a:r>
            <a:br>
              <a:rPr sz="5400"/>
            </a:br>
            <a:r>
              <a:rPr b="0" lang="ro-RO" sz="5400" spc="-1" strike="noStrike">
                <a:solidFill>
                  <a:srgbClr val="19017f"/>
                </a:solidFill>
                <a:latin typeface="Calisto MT"/>
              </a:rPr>
              <a:t>LIMBI ROMANICE</a:t>
            </a:r>
            <a:endParaRPr b="0" lang="en-US" sz="5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3" name="PlaceHolder 2"/>
          <p:cNvSpPr>
            <a:spLocks noGrp="1"/>
          </p:cNvSpPr>
          <p:nvPr>
            <p:ph type="subTitle"/>
          </p:nvPr>
        </p:nvSpPr>
        <p:spPr>
          <a:xfrm>
            <a:off x="1689120" y="4776480"/>
            <a:ext cx="10104480" cy="112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800" spc="-1" strike="noStrike">
                <a:solidFill>
                  <a:srgbClr val="00cc00"/>
                </a:solidFill>
                <a:latin typeface="Calisto MT"/>
              </a:rPr>
              <a:t>17</a:t>
            </a:r>
            <a:r>
              <a:rPr b="1" lang="en-US" sz="2800" spc="-1" strike="noStrike">
                <a:solidFill>
                  <a:srgbClr val="00cc00"/>
                </a:solidFill>
                <a:latin typeface="Calisto MT"/>
              </a:rPr>
              <a:t> </a:t>
            </a:r>
            <a:r>
              <a:rPr b="1" lang="ro-RO" sz="2800" spc="-1" strike="noStrike">
                <a:solidFill>
                  <a:srgbClr val="00cc00"/>
                </a:solidFill>
                <a:latin typeface="Calisto MT"/>
              </a:rPr>
              <a:t> SEPTEMBRIE 2018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PlaceHolder 1"/>
          <p:cNvSpPr>
            <a:spLocks noGrp="1"/>
          </p:cNvSpPr>
          <p:nvPr>
            <p:ph type="title"/>
          </p:nvPr>
        </p:nvSpPr>
        <p:spPr>
          <a:xfrm>
            <a:off x="1430280" y="623520"/>
            <a:ext cx="1007424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sto MT"/>
                <a:ea typeface="Times New Roman"/>
              </a:rPr>
              <a:t>METODOLOGII/CONVENȚII</a:t>
            </a:r>
            <a:r>
              <a:rPr b="0" lang="en-US" sz="3200" spc="-1" strike="noStrike">
                <a:solidFill>
                  <a:srgbClr val="000000"/>
                </a:solidFill>
                <a:latin typeface="Calisto MT"/>
                <a:ea typeface="Times New Roman"/>
              </a:rPr>
              <a:t> DE PARTENERIAT </a:t>
            </a:r>
            <a:r>
              <a:rPr b="0" lang="ro-RO" sz="3200" spc="-1" strike="noStrike">
                <a:solidFill>
                  <a:srgbClr val="000000"/>
                </a:solidFill>
                <a:latin typeface="Calisto MT"/>
                <a:ea typeface="Times New Roman"/>
              </a:rPr>
              <a:t>/ACORDURI DE COLABORARE </a:t>
            </a:r>
            <a:br>
              <a:rPr sz="3200"/>
            </a:b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68" name=""/>
          <p:cNvSpPr txBox="1"/>
          <p:nvPr/>
        </p:nvSpPr>
        <p:spPr>
          <a:xfrm>
            <a:off x="1751040" y="1904760"/>
            <a:ext cx="943128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404040"/>
                </a:solidFill>
                <a:latin typeface="Calisto MT"/>
                <a:ea typeface="Tahoma"/>
              </a:rPr>
              <a:t>Metodologia de organizare a secțiilor bilingve francofone incluse în proiectul bilateral franco-român “De la învățământul bilingv către filierele universitare francofone“ aprobată prin ordinul ministrului educației naționale nr. 4424/28.08.2014, publicată în M. Of. nr. 658/08.09.2014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01680" indent="-301680" algn="just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01680" indent="-301680" algn="just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404040"/>
                </a:solidFill>
                <a:latin typeface="Calisto MT"/>
                <a:ea typeface="Tahoma"/>
              </a:rPr>
              <a:t>Convenția de parteneriat nr. 9801/29.08.2014 între Institutul Francez din România și Ministerul Educației Naționale în vederea implementării unei serii de acțiuni culturale și educative adresate elevilor și cadrelor didactice pentru promovarea limbii franceze și a francofoniei în învățământul preuniversitar (recunoașterea și echivalarea DELF A1, A2 sau superior)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01680" indent="-3016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01680" indent="-301680" algn="just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404040"/>
                </a:solidFill>
                <a:latin typeface="Calisto MT"/>
                <a:ea typeface="Tahoma"/>
              </a:rPr>
              <a:t>Acord de colaborare (nr. 43 /DS/ 04.02.2014) între Institutul Francez din România și Ministerul Educației Naționale privind recunoașterea participării cadrelor didactice la activitățile de formare continuă realizate de Institutul Francez din România și acordarea de credite profesionale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01680" indent="-3016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01680" indent="-3016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9" name="PlaceHolder 1"/>
          <p:cNvSpPr>
            <a:spLocks noGrp="1"/>
          </p:cNvSpPr>
          <p:nvPr>
            <p:ph type="title"/>
          </p:nvPr>
        </p:nvSpPr>
        <p:spPr>
          <a:xfrm>
            <a:off x="1531800" y="623520"/>
            <a:ext cx="997272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sto MT"/>
                <a:ea typeface="Times New Roman"/>
              </a:rPr>
              <a:t>METODOLOGII/CONVENȚII</a:t>
            </a:r>
            <a:r>
              <a:rPr b="0" lang="en-US" sz="3200" spc="-1" strike="noStrike">
                <a:solidFill>
                  <a:srgbClr val="000000"/>
                </a:solidFill>
                <a:latin typeface="Calisto MT"/>
                <a:ea typeface="Times New Roman"/>
              </a:rPr>
              <a:t> DE PARTENERIAT </a:t>
            </a:r>
            <a:r>
              <a:rPr b="0" lang="ro-RO" sz="3200" spc="-1" strike="noStrike">
                <a:solidFill>
                  <a:srgbClr val="000000"/>
                </a:solidFill>
                <a:latin typeface="Calisto MT"/>
                <a:ea typeface="Times New Roman"/>
              </a:rPr>
              <a:t>/ACORDURI DE COLABORARE</a:t>
            </a:r>
            <a:br>
              <a:rPr sz="3200"/>
            </a:b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70" name=""/>
          <p:cNvSpPr txBox="1"/>
          <p:nvPr/>
        </p:nvSpPr>
        <p:spPr>
          <a:xfrm>
            <a:off x="1698120" y="2042640"/>
            <a:ext cx="9806040" cy="38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sto MT"/>
                <a:ea typeface="Tahoma"/>
              </a:rPr>
              <a:t>Protocol de colaborare </a:t>
            </a:r>
            <a:r>
              <a:rPr b="0" lang="ro-RO" sz="3200" spc="-1" strike="noStrike">
                <a:solidFill>
                  <a:srgbClr val="000000"/>
                </a:solidFill>
                <a:latin typeface="Calisto MT"/>
                <a:ea typeface="Tahoma"/>
              </a:rPr>
              <a:t>între Ministerul Educației Naționale și Asociația Română a Profesorilor de Limba Franceză privind </a:t>
            </a:r>
            <a:r>
              <a:rPr b="0" lang="ro-RO" sz="3200" spc="-1" strike="noStrike">
                <a:solidFill>
                  <a:srgbClr val="000000"/>
                </a:solidFill>
                <a:latin typeface="Calisto MT"/>
              </a:rPr>
              <a:t>implementarea unei serii de acțiuni</a:t>
            </a:r>
            <a:r>
              <a:rPr b="1" lang="ro-RO" sz="3200" spc="-1" strike="noStrike">
                <a:solidFill>
                  <a:srgbClr val="000000"/>
                </a:solidFill>
                <a:latin typeface="Calisto MT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sto MT"/>
              </a:rPr>
              <a:t>culturale și educative adresate elevilor și cadrelor didactice pentru promovarea limbii franceze și a francofoniei în învățământul preuniversitar</a:t>
            </a:r>
            <a:r>
              <a:rPr b="0" lang="ro-RO" sz="3200" spc="-1" strike="noStrike">
                <a:solidFill>
                  <a:srgbClr val="000000"/>
                </a:solidFill>
                <a:latin typeface="Century Gothic"/>
              </a:rPr>
              <a:t> – </a:t>
            </a:r>
            <a:r>
              <a:rPr b="0" lang="ro-RO" sz="3200" spc="-1" strike="noStrike">
                <a:solidFill>
                  <a:srgbClr val="000000"/>
                </a:solidFill>
                <a:latin typeface="Calisto MT"/>
              </a:rPr>
              <a:t>nr. </a:t>
            </a:r>
            <a:r>
              <a:rPr b="0" lang="fr-FR" sz="3200" spc="-1" strike="noStrike">
                <a:solidFill>
                  <a:srgbClr val="000000"/>
                </a:solidFill>
                <a:latin typeface="Calisto MT"/>
              </a:rPr>
              <a:t>11372/ 12.12.2016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1" name="PlaceHolder 1"/>
          <p:cNvSpPr>
            <a:spLocks noGrp="1"/>
          </p:cNvSpPr>
          <p:nvPr>
            <p:ph type="title"/>
          </p:nvPr>
        </p:nvSpPr>
        <p:spPr>
          <a:xfrm>
            <a:off x="1617480" y="553680"/>
            <a:ext cx="94503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sto MT"/>
                <a:ea typeface="Tahoma"/>
              </a:rPr>
              <a:t>OLIMPIADE ȘI CONCURSURI: REGULAMENTE, METODOLOGII SPECIFICE</a:t>
            </a:r>
            <a:br>
              <a:rPr sz="2400"/>
            </a:br>
            <a:br>
              <a:rPr sz="2400"/>
            </a:b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72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o-RO" sz="2400" spc="-1" strike="noStrike">
                <a:solidFill>
                  <a:srgbClr val="404040"/>
                </a:solidFill>
                <a:latin typeface="Calisto MT"/>
                <a:ea typeface="Tahoma"/>
              </a:rPr>
              <a:t>Metodologia-cadru de organizare şi desfăşurare a competiţiilor şcolare şi Regulamentul de organizare a activităţilor cuprinse în calendarul activităţilor educative, şcolare şi extraşcolare </a:t>
            </a:r>
            <a:r>
              <a:rPr b="0" lang="ro-RO" sz="2400" spc="-1" strike="noStrike">
                <a:solidFill>
                  <a:srgbClr val="404040"/>
                </a:solidFill>
                <a:latin typeface="Calisto MT"/>
                <a:ea typeface="Tahoma"/>
              </a:rPr>
              <a:t>– aprobată prin OM</a:t>
            </a:r>
            <a:r>
              <a:rPr b="0" lang="en-US" sz="2400" spc="-1" strike="noStrike">
                <a:solidFill>
                  <a:srgbClr val="404040"/>
                </a:solidFill>
                <a:latin typeface="Calisto MT"/>
                <a:ea typeface="Tahoma"/>
              </a:rPr>
              <a:t>EN</a:t>
            </a:r>
            <a:r>
              <a:rPr b="0" lang="ro-RO" sz="2400" spc="-1" strike="noStrike">
                <a:solidFill>
                  <a:srgbClr val="404040"/>
                </a:solidFill>
                <a:latin typeface="Calisto MT"/>
                <a:ea typeface="Tahoma"/>
              </a:rPr>
              <a:t> nr. 4203/2018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22200" indent="-32220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404040"/>
                </a:solidFill>
                <a:latin typeface="Calisto MT"/>
              </a:rPr>
              <a:t>Actualizarea Regulamentelor specifice de organizare și desfășurare a </a:t>
            </a:r>
            <a:r>
              <a:rPr b="0" i="1" lang="ro-RO" sz="2400" spc="-1" strike="noStrike">
                <a:solidFill>
                  <a:srgbClr val="404040"/>
                </a:solidFill>
                <a:latin typeface="Calisto MT"/>
              </a:rPr>
              <a:t>Olimpiadelor naționale de limbi moderne, </a:t>
            </a:r>
            <a:r>
              <a:rPr b="0" lang="ro-RO" sz="2400" spc="-1" strike="noStrike">
                <a:solidFill>
                  <a:srgbClr val="404040"/>
                </a:solidFill>
                <a:latin typeface="Calisto MT"/>
              </a:rPr>
              <a:t>conform OM</a:t>
            </a: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EN</a:t>
            </a:r>
            <a:r>
              <a:rPr b="0" lang="ro-RO" sz="2400" spc="-1" strike="noStrike">
                <a:solidFill>
                  <a:srgbClr val="404040"/>
                </a:solidFill>
                <a:latin typeface="Calisto MT"/>
              </a:rPr>
              <a:t> 4203/2018;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sto MT"/>
                <a:ea typeface="Calibri"/>
              </a:rPr>
              <a:t>Rezultatele olimpiadelor școlare (naționale și internaționale) la disciplina LIMBI MODERNE, aferente anului școlar 2017-2018, se găsesc pe site-ul MEN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600" spc="-1" strike="noStrike">
                <a:solidFill>
                  <a:srgbClr val="262626"/>
                </a:solidFill>
                <a:latin typeface="Calisto MT"/>
              </a:rPr>
              <a:t>PRIORITĂȚI EDUCAȚIONAL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74" name=""/>
          <p:cNvSpPr txBox="1"/>
          <p:nvPr/>
        </p:nvSpPr>
        <p:spPr>
          <a:xfrm>
            <a:off x="1456920" y="1673280"/>
            <a:ext cx="1004724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200" spc="-1" strike="noStrike">
                <a:solidFill>
                  <a:srgbClr val="404040"/>
                </a:solidFill>
                <a:latin typeface="Calisto MT"/>
              </a:rPr>
              <a:t>PREDAREA – ÎNVĂȚAREA – FORMAREA COMPETENȚELOR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200" spc="-1" strike="noStrike">
                <a:solidFill>
                  <a:srgbClr val="404040"/>
                </a:solidFill>
                <a:latin typeface="Calisto MT"/>
              </a:rPr>
              <a:t>Centrarea predării pe formarea competențelor;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200" spc="-1" strike="noStrike">
                <a:solidFill>
                  <a:srgbClr val="404040"/>
                </a:solidFill>
                <a:latin typeface="Calisto MT"/>
              </a:rPr>
              <a:t>Relaționarea formării competențelor cu evaluarea acestora;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200" spc="-1" strike="noStrike">
                <a:solidFill>
                  <a:srgbClr val="404040"/>
                </a:solidFill>
                <a:latin typeface="Calisto MT"/>
              </a:rPr>
              <a:t>Accentuarea dimensiunii conștiente a învățării, </a:t>
            </a:r>
            <a:r>
              <a:rPr b="0" lang="ro-RO" sz="2200" spc="-1" strike="noStrike">
                <a:solidFill>
                  <a:srgbClr val="404040"/>
                </a:solidFill>
                <a:latin typeface="Calisto MT"/>
              </a:rPr>
              <a:t>prin proiectarea activităților de învățare care să stimuleze gândirea critică și creativă a elevilor;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200" spc="-1" strike="noStrike">
                <a:solidFill>
                  <a:srgbClr val="404040"/>
                </a:solidFill>
                <a:latin typeface="Calisto MT"/>
              </a:rPr>
              <a:t>Crearea unor contexte de învățare care să determine exprimarea perspectivei personale și creativitatea;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200" spc="-1" strike="noStrike">
                <a:solidFill>
                  <a:srgbClr val="404040"/>
                </a:solidFill>
                <a:latin typeface="Calisto MT"/>
              </a:rPr>
              <a:t>Elaborarea unor sarcini de lucru care să evite simpla reproducere a unor informații, a regulilor gramaticale, a canoanelor;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200" spc="-1" strike="noStrike">
                <a:solidFill>
                  <a:srgbClr val="404040"/>
                </a:solidFill>
                <a:latin typeface="Calisto MT"/>
              </a:rPr>
              <a:t>Utilizarea elementelor de noutate (input audio – video, sarcini de lucru diversificate, atractive, atipice etc.)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600" spc="-1" strike="noStrike">
                <a:solidFill>
                  <a:srgbClr val="262626"/>
                </a:solidFill>
                <a:latin typeface="Calisto MT"/>
              </a:rPr>
              <a:t>PRIORITĂȚI EDUCAȚIONAL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76" name=""/>
          <p:cNvSpPr txBox="1"/>
          <p:nvPr/>
        </p:nvSpPr>
        <p:spPr>
          <a:xfrm>
            <a:off x="2588760" y="1611360"/>
            <a:ext cx="8915400" cy="43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404040"/>
                </a:solidFill>
                <a:latin typeface="Calisto MT"/>
              </a:rPr>
              <a:t>EVALUAREA – EVALUAREA COMPETENȚELOR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sto MT"/>
              </a:rPr>
              <a:t>Proiectarea și diversificarea activităților de evaluare astfel încât să stimuleze gândirea analitică, sintetică, creativă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sto MT"/>
              </a:rPr>
              <a:t>Elaborarea itemilor/sarcinilor de evaluare pe competență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sto MT"/>
              </a:rPr>
              <a:t>Utilizarea unor sarcini de lucru diverse, inedite, atractive, care să stimuleze participarea elevilor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sto MT"/>
              </a:rPr>
              <a:t>Calibrarea testelor de evaluare conform nivelului lingvistic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600" spc="-1" strike="noStrike">
                <a:solidFill>
                  <a:srgbClr val="262626"/>
                </a:solidFill>
                <a:latin typeface="Calisto MT"/>
              </a:rPr>
              <a:t>FORMAREA PROFESORILOR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78" name=""/>
          <p:cNvSpPr txBox="1"/>
          <p:nvPr/>
        </p:nvSpPr>
        <p:spPr>
          <a:xfrm>
            <a:off x="2060280" y="1363680"/>
            <a:ext cx="944388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sto MT"/>
              </a:rPr>
              <a:t>Valorificarea inspecțiilor efectuate în proiectarea activităților de formare;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sto MT"/>
              </a:rPr>
              <a:t>Includerea, cu prioritate, în cursurile/sesiunile de formare a componentelor de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sto MT"/>
              </a:rPr>
              <a:t>conținut științific și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sto MT"/>
              </a:rPr>
              <a:t>metodică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sto MT"/>
              </a:rPr>
              <a:t>Accentuarea dimensiunii creative a proiectării didactice;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sto MT"/>
              </a:rPr>
              <a:t>Alocarea unui număr mai mare de ore activităților practice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sto MT"/>
              </a:rPr>
              <a:t>Mentorat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sto MT"/>
              </a:rPr>
              <a:t>Proiectul CRED (</a:t>
            </a:r>
            <a:r>
              <a:rPr b="0" i="1" lang="ro-RO" sz="2400" spc="-1" strike="noStrike">
                <a:solidFill>
                  <a:srgbClr val="000000"/>
                </a:solidFill>
                <a:latin typeface="Calisto MT"/>
              </a:rPr>
              <a:t>Curriculum Relevant, Educație Deschisă pentru toți</a:t>
            </a:r>
            <a:r>
              <a:rPr b="0" lang="ro-RO" sz="2400" spc="-1" strike="noStrike">
                <a:solidFill>
                  <a:srgbClr val="000000"/>
                </a:solidFill>
                <a:latin typeface="Calisto MT"/>
              </a:rPr>
              <a:t>)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600" spc="-1" strike="noStrike">
                <a:solidFill>
                  <a:srgbClr val="262626"/>
                </a:solidFill>
                <a:latin typeface="Calisto MT"/>
              </a:rPr>
              <a:t>INSPECȚIA ȘCOLARĂ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80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404040"/>
                </a:solidFill>
                <a:latin typeface="Calisto MT"/>
              </a:rPr>
              <a:t>Elaborarea documentelor de proiectare didactică conform programelor în vigoare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01680" indent="-3016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404040"/>
                </a:solidFill>
                <a:latin typeface="Calisto MT"/>
              </a:rPr>
              <a:t>Aplicarea programelor școlare de limbi moderne la gimnaziu;  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01680" indent="-3016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404040"/>
                </a:solidFill>
                <a:latin typeface="Calisto MT"/>
              </a:rPr>
              <a:t>Aplicarea eficientă a programei școlare pentru clasele cu program intensiv/bilingv de studiu al unei limbi moderne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01680" indent="-3016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404040"/>
                </a:solidFill>
                <a:latin typeface="Calisto MT"/>
              </a:rPr>
              <a:t>Adecvarea procesului de predare – evaluare la fiecare regim de studiu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01680" indent="-30168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404040"/>
                </a:solidFill>
                <a:latin typeface="Calisto MT"/>
              </a:rPr>
              <a:t>Respectarea programelor școlare în raport cu criteriile de evaluare specifice examenelor finale de absolvire/de admitere în învățământul liceal.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01680" indent="-3016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1" name="PlaceHolder 1"/>
          <p:cNvSpPr>
            <a:spLocks noGrp="1"/>
          </p:cNvSpPr>
          <p:nvPr>
            <p:ph type="title"/>
          </p:nvPr>
        </p:nvSpPr>
        <p:spPr>
          <a:xfrm>
            <a:off x="2592360" y="623880"/>
            <a:ext cx="891216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600" spc="-1" strike="noStrike">
                <a:solidFill>
                  <a:srgbClr val="262626"/>
                </a:solidFill>
                <a:latin typeface="Calisto MT"/>
              </a:rPr>
              <a:t>Programa școlară – clasa a VI a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82" name=""/>
          <p:cNvSpPr txBox="1"/>
          <p:nvPr/>
        </p:nvSpPr>
        <p:spPr>
          <a:xfrm>
            <a:off x="2588760" y="1352160"/>
            <a:ext cx="8915400" cy="455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404040"/>
                </a:solidFill>
                <a:latin typeface="Calisto MT"/>
              </a:rPr>
              <a:t>Elemente de noutate – Programa: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404040"/>
                </a:solidFill>
                <a:latin typeface="Calisto MT"/>
              </a:rPr>
              <a:t>este structurată pe formarea – evaluarea competențelor;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404040"/>
                </a:solidFill>
                <a:latin typeface="Calisto MT"/>
              </a:rPr>
              <a:t> </a:t>
            </a:r>
            <a:r>
              <a:rPr b="0" lang="ro-RO" sz="2400" spc="-1" strike="noStrike">
                <a:solidFill>
                  <a:srgbClr val="404040"/>
                </a:solidFill>
                <a:latin typeface="Calisto MT"/>
              </a:rPr>
              <a:t>include procesele de construcție a competenței;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404040"/>
                </a:solidFill>
                <a:latin typeface="Calisto MT"/>
              </a:rPr>
              <a:t>indică tipuri de activități specifice formării acestora;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404040"/>
                </a:solidFill>
                <a:latin typeface="Calisto MT"/>
              </a:rPr>
              <a:t>relaționează  subcompetențele cu norma lingvistică și conținutul adecvat;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404040"/>
                </a:solidFill>
                <a:latin typeface="Calisto MT"/>
              </a:rPr>
              <a:t>face referire la modalitatea de evaluare a competențelor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404040"/>
                </a:solidFill>
                <a:latin typeface="Calisto MT"/>
              </a:rPr>
              <a:t>sugerează tipuri de activități de evaluare specifice fiecărei competențe/subcompetențe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404040"/>
                </a:solidFill>
                <a:latin typeface="Calisto MT"/>
              </a:rPr>
              <a:t>stimulează exprimarea punctului de vedere și creativitatea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3" name="PlaceHolder 1"/>
          <p:cNvSpPr>
            <a:spLocks noGrp="1"/>
          </p:cNvSpPr>
          <p:nvPr>
            <p:ph type="title"/>
          </p:nvPr>
        </p:nvSpPr>
        <p:spPr>
          <a:xfrm>
            <a:off x="2644920" y="1084320"/>
            <a:ext cx="8804160" cy="418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262626"/>
                </a:solidFill>
                <a:latin typeface="Calisto MT"/>
              </a:rPr>
              <a:t>SPOR </a:t>
            </a:r>
            <a:br>
              <a:rPr sz="4800"/>
            </a:br>
            <a:r>
              <a:rPr b="0" lang="ro-RO" sz="4800" spc="-1" strike="noStrike">
                <a:solidFill>
                  <a:srgbClr val="262626"/>
                </a:solidFill>
                <a:latin typeface="Calisto MT"/>
              </a:rPr>
              <a:t>ȘI OAMENI BUNI ALĂTURI, ÎN ANUL ȘCOLAR </a:t>
            </a:r>
            <a:br>
              <a:rPr sz="4800"/>
            </a:br>
            <a:r>
              <a:rPr b="0" lang="ro-RO" sz="4800" spc="-1" strike="noStrike">
                <a:solidFill>
                  <a:srgbClr val="262626"/>
                </a:solidFill>
                <a:latin typeface="Calisto MT"/>
              </a:rPr>
              <a:t>2018 – 2019!</a:t>
            </a: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84" name="PlaceHolder 2"/>
          <p:cNvSpPr>
            <a:spLocks noGrp="1"/>
          </p:cNvSpPr>
          <p:nvPr>
            <p:ph/>
          </p:nvPr>
        </p:nvSpPr>
        <p:spPr>
          <a:xfrm>
            <a:off x="2588760" y="5181120"/>
            <a:ext cx="8915400" cy="7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o-RO" sz="18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4" name="PlaceHolder 1"/>
          <p:cNvSpPr>
            <a:spLocks noGrp="1"/>
          </p:cNvSpPr>
          <p:nvPr>
            <p:ph type="title"/>
          </p:nvPr>
        </p:nvSpPr>
        <p:spPr>
          <a:xfrm>
            <a:off x="1531800" y="623880"/>
            <a:ext cx="997272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900" spc="-1" strike="noStrike">
                <a:solidFill>
                  <a:srgbClr val="c00000"/>
                </a:solidFill>
                <a:latin typeface="Calisto MT"/>
                <a:ea typeface="Tahoma"/>
              </a:rPr>
              <a:t>C</a:t>
            </a:r>
            <a:r>
              <a:rPr b="1" lang="en-US" sz="2900" spc="-1" strike="noStrike">
                <a:solidFill>
                  <a:srgbClr val="c00000"/>
                </a:solidFill>
                <a:latin typeface="Calisto MT"/>
                <a:ea typeface="Tahoma"/>
              </a:rPr>
              <a:t>ADRUL NORMATIV PRIVIND ORGANIZAREA </a:t>
            </a:r>
            <a:r>
              <a:rPr b="1" lang="ro-RO" sz="2900" spc="-1" strike="noStrike">
                <a:solidFill>
                  <a:srgbClr val="c00000"/>
                </a:solidFill>
                <a:latin typeface="Calisto MT"/>
                <a:ea typeface="Tahoma"/>
              </a:rPr>
              <a:t> </a:t>
            </a:r>
            <a:r>
              <a:rPr b="1" lang="en-US" sz="2900" spc="-1" strike="noStrike">
                <a:solidFill>
                  <a:srgbClr val="c00000"/>
                </a:solidFill>
                <a:latin typeface="Calisto MT"/>
                <a:ea typeface="Tahoma"/>
              </a:rPr>
              <a:t>PROCESULUI DE</a:t>
            </a:r>
            <a:r>
              <a:rPr b="1" lang="ro-RO" sz="2900" spc="-1" strike="noStrike">
                <a:solidFill>
                  <a:srgbClr val="c00000"/>
                </a:solidFill>
                <a:latin typeface="Calisto MT"/>
                <a:ea typeface="Tahoma"/>
              </a:rPr>
              <a:t> </a:t>
            </a:r>
            <a:r>
              <a:rPr b="1" lang="en-US" sz="2900" spc="-1" strike="noStrike">
                <a:solidFill>
                  <a:srgbClr val="c00000"/>
                </a:solidFill>
                <a:latin typeface="Calisto MT"/>
                <a:ea typeface="Tahoma"/>
              </a:rPr>
              <a:t>ÎNVĂȚĂMÂNT, ÎN ANUL ȘCOLAR 201</a:t>
            </a:r>
            <a:r>
              <a:rPr b="1" lang="ro-RO" sz="2900" spc="-1" strike="noStrike">
                <a:solidFill>
                  <a:srgbClr val="c00000"/>
                </a:solidFill>
                <a:latin typeface="Calisto MT"/>
                <a:ea typeface="Tahoma"/>
              </a:rPr>
              <a:t>8</a:t>
            </a:r>
            <a:r>
              <a:rPr b="1" lang="en-US" sz="2900" spc="-1" strike="noStrike">
                <a:solidFill>
                  <a:srgbClr val="c00000"/>
                </a:solidFill>
                <a:latin typeface="Calisto MT"/>
                <a:ea typeface="Tahoma"/>
              </a:rPr>
              <a:t>-201</a:t>
            </a:r>
            <a:r>
              <a:rPr b="1" lang="ro-RO" sz="2900" spc="-1" strike="noStrike">
                <a:solidFill>
                  <a:srgbClr val="c00000"/>
                </a:solidFill>
                <a:latin typeface="Calisto MT"/>
                <a:ea typeface="Tahoma"/>
              </a:rPr>
              <a:t>9:</a:t>
            </a:r>
            <a:r>
              <a:rPr b="1" lang="en-US" sz="2900" spc="-1" strike="noStrike">
                <a:solidFill>
                  <a:srgbClr val="c00000"/>
                </a:solidFill>
                <a:latin typeface="Calisto MT"/>
                <a:ea typeface="Tahoma"/>
              </a:rPr>
              <a:t> </a:t>
            </a:r>
            <a:br>
              <a:rPr sz="2900"/>
            </a:br>
            <a:br>
              <a:rPr sz="2900"/>
            </a:br>
            <a:endParaRPr b="0" lang="en-US" sz="29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2355" name="Content Placeholder 2" descr=""/>
          <p:cNvPicPr/>
          <p:nvPr/>
        </p:nvPicPr>
        <p:blipFill>
          <a:blip r:embed="rId1"/>
          <a:stretch/>
        </p:blipFill>
        <p:spPr>
          <a:xfrm>
            <a:off x="1109520" y="2255760"/>
            <a:ext cx="9461520" cy="37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200" spc="-1" strike="noStrike">
                <a:solidFill>
                  <a:srgbClr val="262626"/>
                </a:solidFill>
                <a:latin typeface="Tahoma"/>
                <a:ea typeface="Tahoma"/>
              </a:rPr>
              <a:t> </a:t>
            </a:r>
            <a:r>
              <a:rPr b="0" lang="ro-RO" sz="3200" spc="-1" strike="noStrike">
                <a:solidFill>
                  <a:srgbClr val="262626"/>
                </a:solidFill>
                <a:latin typeface="Calisto MT"/>
                <a:ea typeface="Tahoma"/>
              </a:rPr>
              <a:t>S</a:t>
            </a:r>
            <a:r>
              <a:rPr b="0" lang="en-US" sz="3200" spc="-1" strike="noStrike">
                <a:solidFill>
                  <a:srgbClr val="262626"/>
                </a:solidFill>
                <a:latin typeface="Calisto MT"/>
                <a:ea typeface="Tahoma"/>
              </a:rPr>
              <a:t>TRUCTURA ANULUI ŞCOLAR </a:t>
            </a:r>
            <a:r>
              <a:rPr b="0" lang="it-IT" sz="3200" spc="-1" strike="noStrike">
                <a:solidFill>
                  <a:srgbClr val="262626"/>
                </a:solidFill>
                <a:latin typeface="Calisto MT"/>
                <a:ea typeface="Tahoma"/>
              </a:rPr>
              <a:t>201</a:t>
            </a:r>
            <a:r>
              <a:rPr b="0" lang="ro-RO" sz="3200" spc="-1" strike="noStrike">
                <a:solidFill>
                  <a:srgbClr val="262626"/>
                </a:solidFill>
                <a:latin typeface="Calisto MT"/>
                <a:ea typeface="Tahoma"/>
              </a:rPr>
              <a:t>8</a:t>
            </a:r>
            <a:r>
              <a:rPr b="0" lang="it-IT" sz="3200" spc="-1" strike="noStrike">
                <a:solidFill>
                  <a:srgbClr val="262626"/>
                </a:solidFill>
                <a:latin typeface="Calisto MT"/>
                <a:ea typeface="Tahoma"/>
              </a:rPr>
              <a:t>-201</a:t>
            </a:r>
            <a:r>
              <a:rPr b="0" lang="ro-RO" sz="3200" spc="-1" strike="noStrike">
                <a:solidFill>
                  <a:srgbClr val="262626"/>
                </a:solidFill>
                <a:latin typeface="Calisto MT"/>
                <a:ea typeface="Tahoma"/>
              </a:rPr>
              <a:t>9</a:t>
            </a:r>
            <a:br>
              <a:rPr sz="3200"/>
            </a:b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7" name=""/>
          <p:cNvSpPr txBox="1"/>
          <p:nvPr/>
        </p:nvSpPr>
        <p:spPr>
          <a:xfrm>
            <a:off x="1061640" y="2133360"/>
            <a:ext cx="10442520" cy="41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sto MT"/>
                <a:ea typeface="Tahoma"/>
              </a:rPr>
              <a:t>Structura anului </a:t>
            </a:r>
            <a:r>
              <a:rPr b="1" lang="ro-RO" sz="1900" spc="-1" strike="noStrike">
                <a:solidFill>
                  <a:srgbClr val="000000"/>
                </a:solidFill>
                <a:latin typeface="Calisto MT"/>
                <a:ea typeface="Tahoma"/>
              </a:rPr>
              <a:t>ş</a:t>
            </a:r>
            <a:r>
              <a:rPr b="1" lang="en-US" sz="1900" spc="-1" strike="noStrike">
                <a:solidFill>
                  <a:srgbClr val="000000"/>
                </a:solidFill>
                <a:latin typeface="Calisto MT"/>
                <a:ea typeface="Tahoma"/>
              </a:rPr>
              <a:t>colar 201</a:t>
            </a:r>
            <a:r>
              <a:rPr b="1" lang="ro-RO" sz="1900" spc="-1" strike="noStrike">
                <a:solidFill>
                  <a:srgbClr val="000000"/>
                </a:solidFill>
                <a:latin typeface="Calisto MT"/>
                <a:ea typeface="Tahoma"/>
              </a:rPr>
              <a:t>8-2</a:t>
            </a:r>
            <a:r>
              <a:rPr b="1" lang="en-US" sz="1900" spc="-1" strike="noStrike">
                <a:solidFill>
                  <a:srgbClr val="000000"/>
                </a:solidFill>
                <a:latin typeface="Calisto MT"/>
                <a:ea typeface="Tahoma"/>
              </a:rPr>
              <a:t>01</a:t>
            </a:r>
            <a:r>
              <a:rPr b="1" lang="ro-RO" sz="1900" spc="-1" strike="noStrike">
                <a:solidFill>
                  <a:srgbClr val="000000"/>
                </a:solidFill>
                <a:latin typeface="Calisto MT"/>
                <a:ea typeface="Tahoma"/>
              </a:rPr>
              <a:t>9 </a:t>
            </a:r>
            <a:r>
              <a:rPr b="0" lang="ro-RO" sz="1900" spc="-1" strike="noStrike">
                <a:solidFill>
                  <a:srgbClr val="000000"/>
                </a:solidFill>
                <a:latin typeface="Calisto MT"/>
                <a:ea typeface="Tahoma"/>
              </a:rPr>
              <a:t>a fost aprobată prin O</a:t>
            </a:r>
            <a:r>
              <a:rPr b="0" lang="en-US" sz="1900" spc="-1" strike="noStrike">
                <a:solidFill>
                  <a:srgbClr val="000000"/>
                </a:solidFill>
                <a:latin typeface="Calisto MT"/>
                <a:ea typeface="Tahoma"/>
              </a:rPr>
              <a:t>MEN </a:t>
            </a:r>
            <a:r>
              <a:rPr b="0" lang="ro-RO" sz="1900" spc="-1" strike="noStrike">
                <a:solidFill>
                  <a:srgbClr val="000000"/>
                </a:solidFill>
                <a:latin typeface="Calisto MT"/>
                <a:ea typeface="Tahoma"/>
              </a:rPr>
              <a:t>nr. 3.220/19.02.2018</a:t>
            </a:r>
            <a:r>
              <a:rPr b="0" lang="ro-RO" sz="1900" spc="-1" strike="noStrike">
                <a:solidFill>
                  <a:srgbClr val="ff0000"/>
                </a:solidFill>
                <a:latin typeface="Calisto MT"/>
                <a:ea typeface="Tahoma"/>
              </a:rPr>
              <a:t>.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buClr>
                <a:srgbClr val="ffff9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900" spc="-1" strike="noStrike">
                <a:solidFill>
                  <a:srgbClr val="262626"/>
                </a:solidFill>
                <a:latin typeface="Calisto MT"/>
                <a:ea typeface="Tahoma"/>
              </a:rPr>
              <a:t>Cursurile anului şcolar 2018-2019 încep luni, 10 septembrie și însumează 168 de zile lucrătoare (34 de săptămâni). 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900" spc="-1" strike="noStrike">
                <a:solidFill>
                  <a:srgbClr val="262626"/>
                </a:solidFill>
                <a:latin typeface="Calisto MT"/>
                <a:ea typeface="Tahoma"/>
              </a:rPr>
              <a:t>Structura anului școlar cuprinde semestrul I (10 septembrie 2018 - 1 februarie 2019) şi semestrul al II-lea (11 februarie 2019 - 14 iunie 2019).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900" spc="-1" strike="noStrike">
                <a:solidFill>
                  <a:srgbClr val="262626"/>
                </a:solidFill>
                <a:latin typeface="Calisto MT"/>
                <a:ea typeface="Tahoma"/>
              </a:rPr>
              <a:t>Vacanţele elevilor din toate ciclurile de învățământ sunt programate astfel: vacanţa de iarnă (22 decembrie 2018 - 13 ianuarie 2019), vacanţă intersemestrială (2 - 10 februarie 2019), vacanţa de primăvară (20 aprilie - 5 mai 2019) şi vacanţa de vară (15 iunie - 15 septembrie 2019). 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900" spc="-1" strike="noStrike">
                <a:solidFill>
                  <a:srgbClr val="262626"/>
                </a:solidFill>
                <a:latin typeface="Calisto MT"/>
                <a:ea typeface="Tahoma"/>
              </a:rPr>
              <a:t>Suplimentar, clasele din învăţământul primar şi grupele din învăţământul preşcolar beneficiază de vacanţă în săptămâna 27 octombrie - 4 noiembrie 2018. 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900" spc="-1" strike="noStrike">
                <a:solidFill>
                  <a:srgbClr val="262626"/>
                </a:solidFill>
                <a:latin typeface="Calisto MT"/>
                <a:ea typeface="Tahoma"/>
              </a:rPr>
              <a:t>Pentru clasele terminale din învăţământul liceal, anul şcolar se încheie în data de 31 mai 2019, iar pentru clasa a VIII-a, în data de 7 iunie 2019.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8" name="Title 1" descr=""/>
          <p:cNvPicPr/>
          <p:nvPr/>
        </p:nvPicPr>
        <p:blipFill>
          <a:blip r:embed="rId1"/>
          <a:stretch/>
        </p:blipFill>
        <p:spPr>
          <a:xfrm>
            <a:off x="2030400" y="457200"/>
            <a:ext cx="9588600" cy="1378080"/>
          </a:xfrm>
          <a:prstGeom prst="rect">
            <a:avLst/>
          </a:prstGeom>
          <a:ln w="0">
            <a:noFill/>
          </a:ln>
        </p:spPr>
      </p:pic>
      <p:sp>
        <p:nvSpPr>
          <p:cNvPr id="2359" name=""/>
          <p:cNvSpPr txBox="1"/>
          <p:nvPr/>
        </p:nvSpPr>
        <p:spPr>
          <a:xfrm>
            <a:off x="1496520" y="2114640"/>
            <a:ext cx="10007640" cy="37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800" spc="-1" strike="noStrike">
                <a:solidFill>
                  <a:srgbClr val="404040"/>
                </a:solidFill>
                <a:latin typeface="Calisto MT"/>
                <a:ea typeface="Tahoma"/>
              </a:rPr>
              <a:t>●  </a:t>
            </a:r>
            <a:r>
              <a:rPr b="0" lang="ro-RO" sz="2400" spc="-1" strike="noStrike">
                <a:solidFill>
                  <a:srgbClr val="404040"/>
                </a:solidFill>
                <a:latin typeface="Calisto MT"/>
                <a:ea typeface="Tahoma"/>
              </a:rPr>
              <a:t>OMENCS nr. 3590/5.04.2016</a:t>
            </a:r>
            <a:r>
              <a:rPr b="0" lang="en-US" sz="2400" spc="-1" strike="noStrike">
                <a:solidFill>
                  <a:srgbClr val="404040"/>
                </a:solidFill>
                <a:latin typeface="Calisto MT"/>
                <a:ea typeface="Tahoma"/>
              </a:rPr>
              <a:t> </a:t>
            </a:r>
            <a:r>
              <a:rPr b="0" lang="ro-RO" sz="2400" spc="-1" strike="noStrike">
                <a:solidFill>
                  <a:srgbClr val="404040"/>
                </a:solidFill>
                <a:latin typeface="Calisto MT"/>
                <a:ea typeface="Tahoma"/>
              </a:rPr>
              <a:t>- </a:t>
            </a:r>
            <a:r>
              <a:rPr b="0" lang="en-US" sz="2400" spc="-1" strike="noStrike">
                <a:solidFill>
                  <a:srgbClr val="404040"/>
                </a:solidFill>
                <a:latin typeface="Calisto MT"/>
                <a:ea typeface="Tahoma"/>
              </a:rPr>
              <a:t>Plan-cadru de </a:t>
            </a:r>
            <a:r>
              <a:rPr b="0" lang="ro-RO" sz="2400" spc="-1" strike="noStrike">
                <a:solidFill>
                  <a:srgbClr val="404040"/>
                </a:solidFill>
                <a:latin typeface="Calisto MT"/>
                <a:ea typeface="Tahoma"/>
              </a:rPr>
              <a:t>învățământ pentru gimnaziu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248040" indent="-2480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248040" indent="-24804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404040"/>
                </a:solidFill>
                <a:latin typeface="Calisto MT"/>
                <a:ea typeface="Tahoma"/>
              </a:rPr>
              <a:t>● </a:t>
            </a:r>
            <a:r>
              <a:rPr b="0" lang="ro-RO" sz="2400" spc="-1" strike="noStrike">
                <a:solidFill>
                  <a:srgbClr val="000000"/>
                </a:solidFill>
                <a:latin typeface="Calisto MT"/>
                <a:ea typeface="Tahoma"/>
              </a:rPr>
              <a:t>OM</a:t>
            </a:r>
            <a:r>
              <a:rPr b="0" lang="en-US" sz="2400" spc="-1" strike="noStrike">
                <a:solidFill>
                  <a:srgbClr val="000000"/>
                </a:solidFill>
                <a:latin typeface="Calisto MT"/>
                <a:ea typeface="Tahoma"/>
              </a:rPr>
              <a:t>EN</a:t>
            </a:r>
            <a:r>
              <a:rPr b="0" lang="ro-RO" sz="2400" spc="-1" strike="noStrike">
                <a:solidFill>
                  <a:srgbClr val="000000"/>
                </a:solidFill>
                <a:latin typeface="Calisto MT"/>
                <a:ea typeface="Tahoma"/>
              </a:rPr>
              <a:t> nr. 4221/01.08.2018 privind modificarea și completarea Ordinului ministrului educaţiei naţionale nr. 3590/2016, privind aprobarea planurilor-cadru de învăţământ pentru învăţământul gimnazial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248040" indent="-24804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248040" indent="-24804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404040"/>
                </a:solidFill>
                <a:latin typeface="Calisto MT"/>
                <a:ea typeface="Tahoma"/>
              </a:rPr>
              <a:t>●   </a:t>
            </a:r>
            <a:r>
              <a:rPr b="0" lang="ro-RO" sz="2400" spc="-1" strike="noStrike">
                <a:solidFill>
                  <a:srgbClr val="000000"/>
                </a:solidFill>
                <a:latin typeface="Calisto MT"/>
                <a:ea typeface="Tahoma"/>
              </a:rPr>
              <a:t>Planurile - cadru  și programele școlare valabile în  anul şcolar 2018-2019  pot fi accesate la adresa:   </a:t>
            </a:r>
            <a:r>
              <a:rPr b="0" lang="ro-RO" sz="2400" spc="-1" strike="noStrike" u="sng">
                <a:solidFill>
                  <a:srgbClr val="fb4a18"/>
                </a:solidFill>
                <a:uFillTx/>
                <a:latin typeface="Calisto MT"/>
                <a:ea typeface="Tahoma"/>
                <a:hlinkClick r:id="rId2"/>
              </a:rPr>
              <a:t>http://programe.ise.ro/actuale.aspx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248040" indent="-2480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248040" indent="-2480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0" name=""/>
          <p:cNvSpPr txBox="1"/>
          <p:nvPr/>
        </p:nvSpPr>
        <p:spPr>
          <a:xfrm>
            <a:off x="2090880" y="831600"/>
            <a:ext cx="93787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000" spc="-1" strike="noStrike">
                <a:solidFill>
                  <a:srgbClr val="404040"/>
                </a:solidFill>
                <a:latin typeface="Calisto MT"/>
              </a:rPr>
              <a:t>OMEN nr. 3027/08.01.2018 </a:t>
            </a:r>
            <a:r>
              <a:rPr b="0" lang="ro-RO" sz="2000" spc="-1" strike="noStrike">
                <a:solidFill>
                  <a:srgbClr val="404040"/>
                </a:solidFill>
                <a:latin typeface="Calisto MT"/>
              </a:rPr>
              <a:t>pentru modificarea și completarea Anexei - Regulament-cadru de organizare și funcționare a unităților de învățământ preuniversitar la Ordinul ministrului educației naționale și cercetării științifice nr. 5079/2016 privind aprobarea Regulamentului-cadru de organizare și funcționare a unităților de învățământ preuniversitar (</a:t>
            </a:r>
            <a:r>
              <a:rPr b="0" lang="ro-RO" sz="2000" spc="-1" strike="noStrike">
                <a:solidFill>
                  <a:srgbClr val="404040"/>
                </a:solidFill>
                <a:latin typeface="Calisto MT"/>
                <a:ea typeface="Tahoma"/>
              </a:rPr>
              <a:t>modificarea și completarea </a:t>
            </a:r>
            <a:r>
              <a:rPr b="1" lang="ro-RO" sz="2000" spc="-1" strike="noStrike">
                <a:solidFill>
                  <a:srgbClr val="404040"/>
                </a:solidFill>
                <a:latin typeface="Calisto MT"/>
                <a:ea typeface="Tahoma"/>
              </a:rPr>
              <a:t>art. 66 </a:t>
            </a:r>
            <a:r>
              <a:rPr b="0" lang="ro-RO" sz="2000" spc="-1" strike="noStrike">
                <a:solidFill>
                  <a:srgbClr val="404040"/>
                </a:solidFill>
                <a:latin typeface="Calisto MT"/>
                <a:ea typeface="Tahoma"/>
              </a:rPr>
              <a:t>– privind atribuțiile catedrelor/comisiilor metodice în elaborarea ofertei CDȘ și selectarea auxiliarelor didactice și a mijloacelor de învățământ )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404040"/>
                </a:solidFill>
                <a:latin typeface="Calisto MT"/>
              </a:rPr>
              <a:t>Regulamentul – cadru de organizare şi funcționare a claselor cu  predare a unei limbi moderne în regim intensiv sau bilingv în unitățile de învățământ preuniversitar – aprobat prin OMEN nr. 4797/2017;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1" name="PlaceHolder 1"/>
          <p:cNvSpPr>
            <a:spLocks noGrp="1"/>
          </p:cNvSpPr>
          <p:nvPr>
            <p:ph type="title"/>
          </p:nvPr>
        </p:nvSpPr>
        <p:spPr>
          <a:xfrm>
            <a:off x="1968480" y="449280"/>
            <a:ext cx="8866080" cy="9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  </a:t>
            </a:r>
            <a:r>
              <a:rPr b="0" lang="ro-RO" sz="3200" spc="-1" strike="noStrike">
                <a:solidFill>
                  <a:srgbClr val="000000"/>
                </a:solidFill>
                <a:latin typeface="Calisto MT"/>
                <a:ea typeface="Times New Roman"/>
              </a:rPr>
              <a:t>O</a:t>
            </a:r>
            <a:r>
              <a:rPr b="0" lang="it-IT" sz="3200" spc="-1" strike="noStrike">
                <a:solidFill>
                  <a:srgbClr val="000000"/>
                </a:solidFill>
                <a:latin typeface="Calisto MT"/>
                <a:ea typeface="Times New Roman"/>
              </a:rPr>
              <a:t>FERTA NAŢIONALĂ PENTRU MANUALE</a:t>
            </a:r>
            <a:r>
              <a:rPr b="0" lang="ro-RO" sz="3200" spc="-1" strike="noStrike">
                <a:solidFill>
                  <a:srgbClr val="000000"/>
                </a:solidFill>
                <a:latin typeface="Calisto MT"/>
                <a:ea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Calisto MT"/>
                <a:ea typeface="Times New Roman"/>
              </a:rPr>
              <a:t>ȘCOLARE</a:t>
            </a:r>
            <a:br>
              <a:rPr sz="3200"/>
            </a:b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62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SzPct val="7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29040" indent="-32904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SzPct val="7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29040" indent="-32904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SzPct val="7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sto MT"/>
                <a:ea typeface="Tahoma"/>
              </a:rPr>
              <a:t>Manuale școlare digitale </a:t>
            </a:r>
            <a:r>
              <a:rPr b="0" lang="ro-RO" sz="2400" spc="-1" strike="noStrike">
                <a:solidFill>
                  <a:srgbClr val="000000"/>
                </a:solidFill>
                <a:latin typeface="Calisto MT"/>
                <a:ea typeface="Tahoma"/>
              </a:rPr>
              <a:t>- </a:t>
            </a:r>
            <a:r>
              <a:rPr b="0" i="1" lang="ro-RO" sz="2400" spc="-1" strike="noStrike">
                <a:solidFill>
                  <a:srgbClr val="000000"/>
                </a:solidFill>
                <a:latin typeface="Calisto MT"/>
              </a:rPr>
              <a:t>Manuale școlare - </a:t>
            </a:r>
            <a:r>
              <a:rPr b="0" lang="ro-RO" sz="2400" spc="-1" strike="noStrike" u="sng">
                <a:solidFill>
                  <a:srgbClr val="fb4a18"/>
                </a:solidFill>
                <a:uFillTx/>
                <a:latin typeface="Calisto MT"/>
                <a:hlinkClick r:id="rId1"/>
              </a:rPr>
              <a:t>https://www.manuale.edu.ro</a:t>
            </a:r>
            <a:r>
              <a:rPr b="0" lang="ro-RO" sz="2400" spc="-1" strike="noStrike" u="sng">
                <a:solidFill>
                  <a:srgbClr val="fb4a18"/>
                </a:solidFill>
                <a:uFillTx/>
                <a:latin typeface="Calisto MT"/>
                <a:hlinkClick r:id="rId2"/>
              </a:rPr>
              <a:t>/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SzPct val="7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sto MT"/>
              </a:rPr>
              <a:t>Auxiliare didactice </a:t>
            </a:r>
            <a:r>
              <a:rPr b="0" lang="ro-RO" sz="2400" spc="-1" strike="noStrike">
                <a:solidFill>
                  <a:srgbClr val="000000"/>
                </a:solidFill>
                <a:latin typeface="Calisto MT"/>
              </a:rPr>
              <a:t>– OMEN nr. 3022/2018 privind aprobarea auxiliarelor didactice din învățământul preuniversitar (anexă)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SzPct val="7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sto MT"/>
              </a:rPr>
              <a:t>Mijloace de învățământ </a:t>
            </a:r>
            <a:r>
              <a:rPr b="0" lang="ro-RO" sz="2400" spc="-1" strike="noStrike">
                <a:solidFill>
                  <a:srgbClr val="000000"/>
                </a:solidFill>
                <a:latin typeface="Calisto MT"/>
              </a:rPr>
              <a:t>omologate în perioada mai-iulie 2018, în vederea utilizării lor în învățământul preuniversitar (</a:t>
            </a:r>
            <a:r>
              <a:rPr b="0" lang="ro-RO" sz="2400" spc="-1" strike="noStrike" u="sng">
                <a:solidFill>
                  <a:srgbClr val="fb4a18"/>
                </a:solidFill>
                <a:uFillTx/>
                <a:latin typeface="Calisto MT"/>
                <a:hlinkClick r:id="rId3"/>
              </a:rPr>
              <a:t>www.edu.ro</a:t>
            </a:r>
            <a:r>
              <a:rPr b="0" lang="ro-RO" sz="2400" spc="-1" strike="noStrike">
                <a:solidFill>
                  <a:srgbClr val="000000"/>
                </a:solidFill>
                <a:latin typeface="Calisto MT"/>
              </a:rPr>
              <a:t> )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SzPct val="7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SzPct val="7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SzPct val="7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1919160" y="398520"/>
            <a:ext cx="8886960" cy="113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sto MT"/>
                <a:ea typeface="Tahoma"/>
              </a:rPr>
              <a:t>METODOLOGII </a:t>
            </a:r>
            <a:r>
              <a:rPr b="0" lang="ro-RO" sz="3200" spc="-1" strike="noStrike">
                <a:solidFill>
                  <a:srgbClr val="000000"/>
                </a:solidFill>
                <a:latin typeface="Calisto MT"/>
                <a:ea typeface="Tahoma"/>
              </a:rPr>
              <a:t>ALE </a:t>
            </a:r>
            <a:r>
              <a:rPr b="0" lang="en-US" sz="3200" spc="-1" strike="noStrike">
                <a:solidFill>
                  <a:srgbClr val="000000"/>
                </a:solidFill>
                <a:latin typeface="Calisto MT"/>
                <a:ea typeface="Tahoma"/>
              </a:rPr>
              <a:t>EXAMENE</a:t>
            </a:r>
            <a:r>
              <a:rPr b="0" lang="ro-RO" sz="3200" spc="-1" strike="noStrike">
                <a:solidFill>
                  <a:srgbClr val="000000"/>
                </a:solidFill>
                <a:latin typeface="Calisto MT"/>
                <a:ea typeface="Tahoma"/>
              </a:rPr>
              <a:t>LOR</a:t>
            </a:r>
            <a:r>
              <a:rPr b="0" lang="en-US" sz="3200" spc="-1" strike="noStrike">
                <a:solidFill>
                  <a:srgbClr val="000000"/>
                </a:solidFill>
                <a:latin typeface="Calisto MT"/>
                <a:ea typeface="Tahoma"/>
              </a:rPr>
              <a:t> NA</a:t>
            </a:r>
            <a:r>
              <a:rPr b="0" lang="ro-RO" sz="3200" spc="-1" strike="noStrike">
                <a:solidFill>
                  <a:srgbClr val="000000"/>
                </a:solidFill>
                <a:latin typeface="Calisto MT"/>
                <a:ea typeface="Tahoma"/>
              </a:rPr>
              <a:t>Ţ</a:t>
            </a:r>
            <a:r>
              <a:rPr b="0" lang="en-US" sz="3200" spc="-1" strike="noStrike">
                <a:solidFill>
                  <a:srgbClr val="000000"/>
                </a:solidFill>
                <a:latin typeface="Calisto MT"/>
                <a:ea typeface="Tahoma"/>
              </a:rPr>
              <a:t>IONALE</a:t>
            </a:r>
            <a:r>
              <a:rPr b="0" lang="ro-RO" sz="3200" spc="-1" strike="noStrike">
                <a:solidFill>
                  <a:srgbClr val="000000"/>
                </a:solidFill>
                <a:latin typeface="Calisto MT"/>
                <a:ea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sto MT"/>
                <a:ea typeface="Tahoma"/>
              </a:rPr>
              <a:t>201</a:t>
            </a:r>
            <a:r>
              <a:rPr b="0" lang="ro-RO" sz="3200" spc="-1" strike="noStrike">
                <a:solidFill>
                  <a:srgbClr val="000000"/>
                </a:solidFill>
                <a:latin typeface="Calisto MT"/>
                <a:ea typeface="Tahoma"/>
              </a:rPr>
              <a:t>9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64" name=""/>
          <p:cNvSpPr txBox="1"/>
          <p:nvPr/>
        </p:nvSpPr>
        <p:spPr>
          <a:xfrm>
            <a:off x="1054080" y="1709280"/>
            <a:ext cx="10615680" cy="51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o-RO" sz="1700" spc="-1" strike="noStrike">
                <a:solidFill>
                  <a:srgbClr val="000000"/>
                </a:solidFill>
                <a:latin typeface="Century Gothic"/>
              </a:rPr>
              <a:t>Recunoașterea și echivalarea rezultatelor obținute la examene cu recunoaștere internațională – </a:t>
            </a:r>
            <a:r>
              <a:rPr b="0" lang="ro-RO" sz="1700" spc="-1" strike="noStrike">
                <a:solidFill>
                  <a:srgbClr val="000000"/>
                </a:solidFill>
                <a:latin typeface="Century Gothic"/>
              </a:rPr>
              <a:t>aprobată prin OM nr. 5905/2016;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o-RO" sz="1700" spc="-1" strike="noStrike">
                <a:solidFill>
                  <a:srgbClr val="000000"/>
                </a:solidFill>
                <a:latin typeface="Century Gothic"/>
                <a:ea typeface="Tahoma"/>
              </a:rPr>
              <a:t>Examenul național de evaluare națională - </a:t>
            </a:r>
            <a:r>
              <a:rPr b="0" lang="ro-RO" sz="1700" spc="-1" strike="noStrike">
                <a:solidFill>
                  <a:srgbClr val="000000"/>
                </a:solidFill>
                <a:latin typeface="Century Gothic"/>
                <a:ea typeface="Tahoma"/>
              </a:rPr>
              <a:t>OMEN nr. 4813/29.08.2018</a:t>
            </a:r>
            <a:r>
              <a:rPr b="0" i="1" lang="ro-RO" sz="1700" spc="-1" strike="noStrike">
                <a:solidFill>
                  <a:srgbClr val="000000"/>
                </a:solidFill>
                <a:latin typeface="Century Gothic"/>
                <a:ea typeface="Tahoma"/>
              </a:rPr>
              <a:t>; 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o-RO" sz="1700" spc="-1" strike="noStrike">
                <a:solidFill>
                  <a:srgbClr val="000000"/>
                </a:solidFill>
                <a:latin typeface="Century Gothic"/>
                <a:ea typeface="Tahoma"/>
              </a:rPr>
              <a:t>Admiterea în învățământul liceal și profesional de stat - </a:t>
            </a:r>
            <a:r>
              <a:rPr b="0" lang="ro-RO" sz="1700" spc="-1" strike="noStrike">
                <a:solidFill>
                  <a:srgbClr val="000000"/>
                </a:solidFill>
                <a:latin typeface="Century Gothic"/>
                <a:ea typeface="Tahoma"/>
              </a:rPr>
              <a:t>OMEN nr. – 4829/30.08.2018</a:t>
            </a:r>
            <a:r>
              <a:rPr b="0" i="1" lang="ro-RO" sz="1700" spc="-1" strike="noStrike">
                <a:solidFill>
                  <a:srgbClr val="000000"/>
                </a:solidFill>
                <a:latin typeface="Century Gothic"/>
                <a:ea typeface="Tahoma"/>
              </a:rPr>
              <a:t>;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o-RO" sz="1700" spc="-1" strike="noStrike">
                <a:solidFill>
                  <a:srgbClr val="ff0000"/>
                </a:solidFill>
                <a:latin typeface="Century Gothic"/>
              </a:rPr>
              <a:t>Candidaților, care, în clasa a VII-a/a VIII- a, au obținut premiul I, al II-lea sau al III-lea la etapa națională a olimpiadei de limba engleză/ franceză/ germană/ italiană/ spaniolă/ rusă, li se recunosc rezultatele obținute la olimpiadă, în baza diplomei emise de Ministerul Educației Naționale, și li se echivalează cu nota 10 la proba de verificare a cunoștințelor de limbă modernă pentru admiterea în clasele a IX-a cu program bilingv de predare a unei limbi moderne de circulaţie internaţională.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o-RO" sz="1700" spc="-1" strike="noStrike">
                <a:solidFill>
                  <a:srgbClr val="000000"/>
                </a:solidFill>
                <a:latin typeface="Century Gothic"/>
                <a:ea typeface="Tahoma"/>
              </a:rPr>
              <a:t>Examenul național de bacalaureat  - </a:t>
            </a:r>
            <a:r>
              <a:rPr b="0" lang="ro-RO" sz="1700" spc="-1" strike="noStrike">
                <a:solidFill>
                  <a:srgbClr val="000000"/>
                </a:solidFill>
                <a:latin typeface="Century Gothic"/>
                <a:ea typeface="Tahoma"/>
              </a:rPr>
              <a:t>OMEN nr. 4830/30.08.2018</a:t>
            </a:r>
            <a:r>
              <a:rPr b="0" i="1" lang="ro-RO" sz="1700" spc="-1" strike="noStrike">
                <a:solidFill>
                  <a:srgbClr val="000000"/>
                </a:solidFill>
                <a:latin typeface="Century Gothic"/>
                <a:ea typeface="Tahoma"/>
              </a:rPr>
              <a:t> ;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o-RO" sz="17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0" i="1" lang="ro-RO" sz="1700" spc="-1" strike="noStrike">
                <a:solidFill>
                  <a:srgbClr val="000000"/>
                </a:solidFill>
                <a:latin typeface="Century Gothic"/>
              </a:rPr>
              <a:t>Model subiect - </a:t>
            </a:r>
            <a:r>
              <a:rPr b="0" lang="ro-RO" sz="1700" spc="-1" strike="noStrike" u="sng">
                <a:solidFill>
                  <a:srgbClr val="fb4a18"/>
                </a:solidFill>
                <a:uFillTx/>
                <a:latin typeface="Century Gothic"/>
                <a:hlinkClick r:id="rId1"/>
              </a:rPr>
              <a:t>www.subiecte2019.edu.ro</a:t>
            </a:r>
            <a:r>
              <a:rPr b="0" i="1" lang="ro-RO" sz="1700" spc="-1" strike="noStrike">
                <a:solidFill>
                  <a:srgbClr val="000000"/>
                </a:solidFill>
                <a:latin typeface="Century Gothic"/>
              </a:rPr>
              <a:t> (1 noiembrie 2018 ) - </a:t>
            </a:r>
            <a:r>
              <a:rPr b="0" lang="ro-RO" sz="1700" spc="-1" strike="noStrike">
                <a:solidFill>
                  <a:srgbClr val="000000"/>
                </a:solidFill>
                <a:latin typeface="Century Gothic"/>
              </a:rPr>
              <a:t>model pentru proiectarea testelor de evaluare curentă și a celor pentru teze (clasa a VIII-a și a XII-a )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o-RO" sz="1700" spc="-1" strike="noStrike">
                <a:solidFill>
                  <a:srgbClr val="000000"/>
                </a:solidFill>
                <a:latin typeface="Century Gothic"/>
                <a:ea typeface="Tahoma"/>
              </a:rPr>
              <a:t>OMEN nr. 4461/27.08.2018 privind aprobarea Calendarului de administrare a Evaluărilor Naționale la finalul claselor a II-a, a IV-a și a VI-a în anul școlar 2018-2019.               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5" name="Picture 2" descr=""/>
          <p:cNvPicPr/>
          <p:nvPr/>
        </p:nvPicPr>
        <p:blipFill>
          <a:blip r:embed="rId1"/>
          <a:stretch/>
        </p:blipFill>
        <p:spPr>
          <a:xfrm>
            <a:off x="2625840" y="522360"/>
            <a:ext cx="8078760" cy="55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6" name="Picture 2" descr=""/>
          <p:cNvPicPr/>
          <p:nvPr/>
        </p:nvPicPr>
        <p:blipFill>
          <a:blip r:embed="rId1"/>
          <a:stretch/>
        </p:blipFill>
        <p:spPr>
          <a:xfrm>
            <a:off x="2558880" y="1606680"/>
            <a:ext cx="8178840" cy="33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22T08:59:18Z</dcterms:created>
  <dc:creator>Rodica Cherciu;Manuela Delia</dc:creator>
  <dc:description/>
  <dc:language>en-US</dc:language>
  <cp:lastModifiedBy>Micky</cp:lastModifiedBy>
  <cp:lastPrinted>2018-08-23T12:17:35Z</cp:lastPrinted>
  <dcterms:modified xsi:type="dcterms:W3CDTF">2018-09-16T19:23:24Z</dcterms:modified>
  <cp:revision>85</cp:revision>
  <dc:subject/>
  <dc:title>CONSFĂTUIREA INSPECTORILOR ȘCOLARI PENTRU LIMBI MODERNE</dc:title>
</cp:coreProperties>
</file>