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9338D-2969-42FA-8B7D-C9B275896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44484-9852-430A-BB2B-F563B918E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5DA73-AD23-416C-84F2-112C1CF88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8AF9A-223B-4AE5-941B-E4DA4F4AE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25750-1E27-448A-9EEB-34A60B438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B27E2-4301-49E8-A766-E145CC3C3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92A22-7C77-4677-8F48-127A71286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18AB8-7E6F-4FC1-81BD-9FF770C81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89F59-0121-4FAE-AD29-F4E311549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BD207-950E-467A-996C-5DBFCB5BA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CD151-E7E3-4B3A-BCB4-C2022EEA5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B9A08-07CB-400F-BF53-7E7A58BA0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2BABBD1-663C-4827-8914-DA5EFED820D6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60560" y="353880"/>
            <a:ext cx="8740800" cy="176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70c0"/>
                </a:solidFill>
                <a:latin typeface="Arial Black"/>
              </a:rPr>
              <a:t>Elemente de noutate ale programei școlare pentru discipli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117520" y="2290320"/>
            <a:ext cx="96217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Arial Black"/>
              </a:rPr>
              <a:t>LIMBA MODERNĂ 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Arial Black"/>
              </a:rPr>
              <a:t>ENGLEZĂ/ FRANCEZĂ / SPANIOLĂ / ITALIANĂ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ro-RO" sz="1600" spc="-1" strike="noStrike">
                <a:solidFill>
                  <a:srgbClr val="000000"/>
                </a:solidFill>
                <a:latin typeface="Arial Black"/>
              </a:rPr>
              <a:t>LIMBA MODERNĂ 1 – STUDIU INTENSIV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Arial Black"/>
              </a:rPr>
              <a:t>ENGLEZĂ/ FRANCEZĂ / SPANIOLĂ / ITALIANĂ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Arial Black"/>
              </a:rPr>
              <a:t>LIMBA MODERNĂ 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Arial Black"/>
              </a:rPr>
              <a:t>CHINEZĂ/ ENGLEZĂ/ FRANCEZĂ / SPANIOLĂ / ITALIANĂ/ TURCĂ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Arial Black"/>
              </a:rPr>
              <a:t>LIMBA MODERNĂ 1/ LIMBA MODERNĂ 2/ LIMBA MODERNĂ 1 – STUDIU INTENSIV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 Black"/>
              </a:rPr>
              <a:t>GERMANĂ/ RUSĂ/ JAPONEZĂ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49400" y="619200"/>
            <a:ext cx="9905760" cy="479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1) CENTRAREA PE COMPETENȚE DE COMUNICARE ȘI NU PE CONȚINUTURI LINGVISTICE SPECIF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4840" y="263160"/>
            <a:ext cx="9585000" cy="192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0000"/>
                </a:solidFill>
                <a:latin typeface="Calibri"/>
              </a:rPr>
              <a:t>2) </a:t>
            </a:r>
            <a:r>
              <a:rPr b="0" lang="ro-RO" sz="2500" spc="-1" strike="noStrike">
                <a:solidFill>
                  <a:srgbClr val="000000"/>
                </a:solidFill>
                <a:latin typeface="Calibri"/>
              </a:rPr>
              <a:t>PRECIZAREA NIVELURILOR DIN CECRL LA INTRAREA ELEVILOR ÎN CICLUL DE ÎNVĂȚĂMÂNT GIMNAZIAL, PRECUM ȘI A NIVELURILOR AȘTEPTATE </a:t>
            </a:r>
            <a:r>
              <a:rPr b="0" lang="ro-RO" sz="2600" spc="-1" strike="noStrike">
                <a:solidFill>
                  <a:srgbClr val="000000"/>
                </a:solidFill>
                <a:latin typeface="Calibri"/>
              </a:rPr>
              <a:t>LA FINALUL CICLULUI GIMNAZIAL (a)</a:t>
            </a:r>
            <a:br>
              <a:rPr sz="2600"/>
            </a:br>
            <a:br>
              <a:rPr sz="2600"/>
            </a:br>
            <a:r>
              <a:rPr b="0" lang="ro-RO" sz="2600" spc="-1" strike="noStrike">
                <a:solidFill>
                  <a:srgbClr val="000000"/>
                </a:solidFill>
                <a:latin typeface="Calibri"/>
              </a:rPr>
              <a:t>- limbile engleză, franceză, spaniolă, italiană -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1103400" y="3105000"/>
          <a:ext cx="9943920" cy="2926080"/>
        </p:xfrm>
        <a:graphic>
          <a:graphicData uri="http://schemas.openxmlformats.org/drawingml/2006/table">
            <a:tbl>
              <a:tblPr/>
              <a:tblGrid>
                <a:gridCol w="3314520"/>
                <a:gridCol w="3314880"/>
                <a:gridCol w="3314520"/>
              </a:tblGrid>
              <a:tr h="9601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9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NIVELUL DE COMPETENȚĂ LINGVISTICĂ AL ELEVILOR LA </a:t>
                      </a:r>
                      <a:r>
                        <a:rPr b="1" lang="ro-RO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ÎNCEPUTUL CLASEI A V-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FINALUL CLASEI A VIII-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45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LIMBA MODERNĂ 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dd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A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dd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A2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dd0"/>
                    </a:solidFill>
                  </a:tcPr>
                </a:tc>
              </a:tr>
              <a:tr h="945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LIMBA MODERNĂ 1 INTENSI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6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A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6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B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6e9"/>
                    </a:solidFill>
                  </a:tcPr>
                </a:tc>
              </a:tr>
              <a:tr h="945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LIMBA MODERNĂ 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dd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dd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A1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dd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73000" y="534960"/>
            <a:ext cx="9375840" cy="130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2) PRECIZAREA NIVELURILOR DIN CECRL LA INTRAREA ELEVILOR ÎN CICLUL DE ÎNVĂȚĂMÂNT GIMNAZIAL, PRECUM ȘI A NIVELURILOR AȘTEPTATE LA FINALUL CICLULUI GIMNAZIAL (b)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658800" y="1944360"/>
            <a:ext cx="9391680" cy="430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- limbile germană, rusă -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627200" y="3094200"/>
          <a:ext cx="7709040" cy="2031840"/>
        </p:xfrm>
        <a:graphic>
          <a:graphicData uri="http://schemas.openxmlformats.org/drawingml/2006/table">
            <a:tbl>
              <a:tblPr/>
              <a:tblGrid>
                <a:gridCol w="1882800"/>
                <a:gridCol w="5826240"/>
              </a:tblGrid>
              <a:tr h="771480">
                <a:tc>
                  <a:txBody>
                    <a:bodyPr lIns="34920" rIns="34920" tIns="34920" bIns="3492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o-RO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Nivel CECR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1"/>
                      </a:solidFill>
                    </a:lnL>
                    <a:lnR w="5760">
                      <a:solidFill>
                        <a:srgbClr val="000001"/>
                      </a:solidFill>
                    </a:lnR>
                    <a:lnT w="5760">
                      <a:solidFill>
                        <a:srgbClr val="000001"/>
                      </a:solidFill>
                    </a:lnT>
                    <a:lnB w="5760">
                      <a:solidFill>
                        <a:srgbClr val="00000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4920" rIns="34920" tIns="34920" bIns="3492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o-RO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Număr de ore necesar pentru atingerea nivelului în gimnaziu GE/ R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1"/>
                      </a:solidFill>
                    </a:lnL>
                    <a:lnR w="5760">
                      <a:solidFill>
                        <a:srgbClr val="000001"/>
                      </a:solidFill>
                    </a:lnR>
                    <a:lnT w="5760">
                      <a:solidFill>
                        <a:srgbClr val="000001"/>
                      </a:solidFill>
                    </a:lnT>
                    <a:lnB w="5760">
                      <a:solidFill>
                        <a:srgbClr val="000001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0840">
                <a:tc>
                  <a:txBody>
                    <a:bodyPr lIns="34920" rIns="34920" tIns="34920" bIns="349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o-RO" sz="2000" spc="-1" strike="noStrike">
                          <a:solidFill>
                            <a:srgbClr val="00b050"/>
                          </a:solidFill>
                          <a:latin typeface="Arial"/>
                          <a:ea typeface="Calibri"/>
                        </a:rPr>
                        <a:t>A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4920" marR="34920">
                    <a:lnL w="5760">
                      <a:solidFill>
                        <a:srgbClr val="000001"/>
                      </a:solidFill>
                    </a:lnL>
                    <a:lnR w="5760">
                      <a:solidFill>
                        <a:srgbClr val="000001"/>
                      </a:solidFill>
                    </a:lnR>
                    <a:lnT w="5760">
                      <a:solidFill>
                        <a:srgbClr val="000001"/>
                      </a:solidFill>
                    </a:lnT>
                    <a:lnB w="5760">
                      <a:solidFill>
                        <a:srgbClr val="00000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4920" rIns="34920" tIns="34920" bIns="349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o-RO" sz="2000" spc="-1" strike="noStrike">
                          <a:solidFill>
                            <a:srgbClr val="00b050"/>
                          </a:solidFill>
                          <a:latin typeface="Arial"/>
                          <a:ea typeface="Calibri"/>
                        </a:rPr>
                        <a:t>17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4920" marR="34920">
                    <a:lnL w="5760">
                      <a:solidFill>
                        <a:srgbClr val="000001"/>
                      </a:solidFill>
                    </a:lnL>
                    <a:lnR w="5760">
                      <a:solidFill>
                        <a:srgbClr val="000001"/>
                      </a:solidFill>
                    </a:lnR>
                    <a:lnT w="5760">
                      <a:solidFill>
                        <a:srgbClr val="000001"/>
                      </a:solidFill>
                    </a:lnT>
                    <a:lnB w="5760">
                      <a:solidFill>
                        <a:srgbClr val="000001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0840">
                <a:tc>
                  <a:txBody>
                    <a:bodyPr lIns="34920" rIns="34920" tIns="34920" bIns="349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o-RO" sz="2000" spc="-1" strike="noStrike">
                          <a:solidFill>
                            <a:srgbClr val="00b050"/>
                          </a:solidFill>
                          <a:latin typeface="Arial"/>
                          <a:ea typeface="Calibri"/>
                        </a:rPr>
                        <a:t>A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4920" marR="34920">
                    <a:lnL w="5760">
                      <a:solidFill>
                        <a:srgbClr val="000001"/>
                      </a:solidFill>
                    </a:lnL>
                    <a:lnR w="5760">
                      <a:solidFill>
                        <a:srgbClr val="000001"/>
                      </a:solidFill>
                    </a:lnR>
                    <a:lnT w="5760">
                      <a:solidFill>
                        <a:srgbClr val="000001"/>
                      </a:solidFill>
                    </a:lnT>
                    <a:lnB w="5760">
                      <a:solidFill>
                        <a:srgbClr val="00000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4920" rIns="34920" tIns="34920" bIns="349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o-RO" sz="2000" spc="-1" strike="noStrike">
                          <a:solidFill>
                            <a:srgbClr val="00b050"/>
                          </a:solidFill>
                          <a:latin typeface="Arial"/>
                          <a:ea typeface="Calibri"/>
                        </a:rPr>
                        <a:t>3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4920" marR="34920">
                    <a:lnL w="5760">
                      <a:solidFill>
                        <a:srgbClr val="000001"/>
                      </a:solidFill>
                    </a:lnL>
                    <a:lnR w="5760">
                      <a:solidFill>
                        <a:srgbClr val="000001"/>
                      </a:solidFill>
                    </a:lnR>
                    <a:lnT w="5760">
                      <a:solidFill>
                        <a:srgbClr val="000001"/>
                      </a:solidFill>
                    </a:lnT>
                    <a:lnB w="5760">
                      <a:solidFill>
                        <a:srgbClr val="000001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0840">
                <a:tc>
                  <a:txBody>
                    <a:bodyPr lIns="34920" rIns="34920" tIns="34920" bIns="349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o-RO" sz="2000" spc="-1" strike="noStrike">
                          <a:solidFill>
                            <a:srgbClr val="00b050"/>
                          </a:solidFill>
                          <a:latin typeface="Arial"/>
                          <a:ea typeface="Calibri"/>
                        </a:rPr>
                        <a:t>B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4920" marR="34920">
                    <a:lnL w="5760">
                      <a:solidFill>
                        <a:srgbClr val="000001"/>
                      </a:solidFill>
                    </a:lnL>
                    <a:lnR w="5760">
                      <a:solidFill>
                        <a:srgbClr val="000001"/>
                      </a:solidFill>
                    </a:lnR>
                    <a:lnT w="5760">
                      <a:solidFill>
                        <a:srgbClr val="000001"/>
                      </a:solidFill>
                    </a:lnT>
                    <a:lnB w="5760">
                      <a:solidFill>
                        <a:srgbClr val="00000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4920" rIns="34920" tIns="34920" bIns="349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o-RO" sz="2000" spc="-1" strike="noStrike">
                          <a:solidFill>
                            <a:srgbClr val="00b050"/>
                          </a:solidFill>
                          <a:latin typeface="Arial"/>
                          <a:ea typeface="Calibri"/>
                        </a:rPr>
                        <a:t>6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4920" marR="34920">
                    <a:lnL w="5760">
                      <a:solidFill>
                        <a:srgbClr val="000001"/>
                      </a:solidFill>
                    </a:lnL>
                    <a:lnR w="5760">
                      <a:solidFill>
                        <a:srgbClr val="000001"/>
                      </a:solidFill>
                    </a:lnR>
                    <a:lnT w="5760">
                      <a:solidFill>
                        <a:srgbClr val="000001"/>
                      </a:solidFill>
                    </a:lnT>
                    <a:lnB w="5760">
                      <a:solidFill>
                        <a:srgbClr val="000001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76320" y="1787400"/>
            <a:ext cx="1024272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500" spc="-1" strike="noStrike">
                <a:solidFill>
                  <a:srgbClr val="000000"/>
                </a:solidFill>
                <a:latin typeface="Calibri"/>
              </a:rPr>
              <a:t>3)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DETALIEREA FIEC</a:t>
            </a:r>
            <a:r>
              <a:rPr b="0" lang="ro-RO" sz="2500" spc="-1" strike="noStrike">
                <a:solidFill>
                  <a:srgbClr val="000000"/>
                </a:solidFill>
                <a:latin typeface="Calibri"/>
              </a:rPr>
              <a:t>Ă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REI </a:t>
            </a:r>
            <a:r>
              <a:rPr b="0" lang="ro-RO" sz="2500" spc="-1" strike="noStrike">
                <a:solidFill>
                  <a:srgbClr val="000000"/>
                </a:solidFill>
                <a:latin typeface="Calibri"/>
              </a:rPr>
              <a:t>COMPETENȚ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ro-RO" sz="2500" spc="-1" strike="noStrike">
                <a:solidFill>
                  <a:srgbClr val="000000"/>
                </a:solidFill>
                <a:latin typeface="Calibri"/>
              </a:rPr>
              <a:t> GENE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RALE</a:t>
            </a:r>
            <a:r>
              <a:rPr b="0" lang="ro-RO" sz="2500" spc="-1" strike="noStrike">
                <a:solidFill>
                  <a:srgbClr val="000000"/>
                </a:solidFill>
                <a:latin typeface="Calibri"/>
              </a:rPr>
              <a:t> ÎN COMPETENȚE SPECIFICE, ULTIMA COMPETENȚĂ SPECIFICĂ FIIND DE NATURĂ SOCIO-CULTURALĂ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itre 1"/>
          <p:cNvSpPr/>
          <p:nvPr/>
        </p:nvSpPr>
        <p:spPr>
          <a:xfrm>
            <a:off x="976320" y="3619440"/>
            <a:ext cx="9906120" cy="14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Century Gothic"/>
              </a:rPr>
              <a:t>4) PREZENTAREA DETALIATĂ A RECOMANDĂRILOR ȘI A SUGESTIILOR METODOLOGICE, PRECUM ȘI A STRATEGIILOR DE PRED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itre 1"/>
          <p:cNvSpPr/>
          <p:nvPr/>
        </p:nvSpPr>
        <p:spPr>
          <a:xfrm>
            <a:off x="808200" y="1639800"/>
            <a:ext cx="1039968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Century Gothic"/>
              </a:rPr>
              <a:t>5) PREZENTAREA DE EXEMPLE SPECIFICE FIECĂREI LIMBI, PREZENTAREA DE TEME RECOMANDATE CE EVOLUEAZĂ PROGRESIV DE LA O CLASĂ LA AL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re 1"/>
          <p:cNvSpPr/>
          <p:nvPr/>
        </p:nvSpPr>
        <p:spPr>
          <a:xfrm>
            <a:off x="741240" y="2603520"/>
            <a:ext cx="10466640" cy="9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6) PREZENTAREA DE TEME DE PROIECT INTRODUSE PROGRESIV DE LA UN NIVEL LA ALT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itre 1"/>
          <p:cNvSpPr/>
          <p:nvPr/>
        </p:nvSpPr>
        <p:spPr>
          <a:xfrm>
            <a:off x="741240" y="3830760"/>
            <a:ext cx="10855440" cy="19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Century Gothic"/>
              </a:rPr>
              <a:t>7)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PREZENTAREA GRAMATICII </a:t>
            </a:r>
            <a:r>
              <a:rPr b="0" lang="ro-RO" sz="2400" spc="-1" strike="noStrike">
                <a:solidFill>
                  <a:srgbClr val="000000"/>
                </a:solidFill>
                <a:latin typeface="Century Gothic"/>
              </a:rPr>
              <a:t>FUNCȚIONAL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E</a:t>
            </a:r>
            <a:r>
              <a:rPr b="0" lang="ro-RO" sz="2400" spc="-1" strike="noStrike">
                <a:solidFill>
                  <a:srgbClr val="000000"/>
                </a:solidFill>
                <a:latin typeface="Century Gothic"/>
              </a:rPr>
              <a:t> ÎNTR-O DUBLĂ PERSPECTIVĂ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571680" algn="just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entury Gothic"/>
              </a:rPr>
              <a:t>ACEEA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ro-RO" sz="2400" spc="-1" strike="noStrike">
                <a:solidFill>
                  <a:srgbClr val="000000"/>
                </a:solidFill>
                <a:latin typeface="Century Gothic"/>
              </a:rPr>
              <a:t> A 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ro-RO" sz="2400" spc="-1" strike="noStrike">
                <a:solidFill>
                  <a:srgbClr val="000000"/>
                </a:solidFill>
                <a:latin typeface="Century Gothic"/>
              </a:rPr>
              <a:t>ACTELOR DE VORBIRE / A FUNCȚIILOR LIMB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571680" algn="just">
              <a:lnSpc>
                <a:spcPct val="8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571680" algn="just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entury Gothic"/>
              </a:rPr>
              <a:t>ACEEA A ELEMENTELOR DE CONSTRUCȚIE A COMUNICĂRII CE CONTRIBUIE LA REALIZAREA DIVERSELOR ACTE DE VORB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itre 1"/>
          <p:cNvSpPr/>
          <p:nvPr/>
        </p:nvSpPr>
        <p:spPr>
          <a:xfrm>
            <a:off x="988920" y="1082520"/>
            <a:ext cx="9906120" cy="14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Century Gothic"/>
              </a:rPr>
              <a:t>8) PREZENTAREA DESCRIPTIVĂ, ÎN ANEXĂ, A ELEMENTELOR DE CONSTRUCȚIE A COMUNICĂRII SPECIFICE  FIECĂREI CLASE /FIECĂRUI  NI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itre 1"/>
          <p:cNvSpPr/>
          <p:nvPr/>
        </p:nvSpPr>
        <p:spPr>
          <a:xfrm>
            <a:off x="1139760" y="2738520"/>
            <a:ext cx="10004400" cy="10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300" spc="-1" strike="noStrike">
                <a:solidFill>
                  <a:srgbClr val="000000"/>
                </a:solidFill>
                <a:latin typeface="Calibri"/>
              </a:rPr>
              <a:t>9) INDICAREA RESURSELOR ON LINE UTILE PARCURGERII PROGRAMEI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itre 1"/>
          <p:cNvSpPr/>
          <p:nvPr/>
        </p:nvSpPr>
        <p:spPr>
          <a:xfrm>
            <a:off x="1055520" y="3879720"/>
            <a:ext cx="987588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Century Gothic"/>
              </a:rPr>
              <a:t>10) CORELAREA PROGRAMELOR ȘCOLARE PENTRU LIMBI MODERNE CU NIVELURILE DIN CECRL, PRECUM ȘI CU INSTRUMENTELE CONEXE - REFERENȚIALUL PENTRU CECRL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(LIMBA FRANCEZ</a:t>
            </a:r>
            <a:r>
              <a:rPr b="0" lang="ro-RO" sz="2400" spc="-1" strike="noStrike">
                <a:solidFill>
                  <a:srgbClr val="000000"/>
                </a:solidFill>
                <a:latin typeface="Century Gothic"/>
              </a:rPr>
              <a:t>Ă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9-07T14:36:34Z</dcterms:created>
  <dc:creator>Manuela Delia</dc:creator>
  <dc:description/>
  <dc:language>en-US</dc:language>
  <cp:lastModifiedBy>Micky</cp:lastModifiedBy>
  <dcterms:modified xsi:type="dcterms:W3CDTF">2018-09-16T16:59:14Z</dcterms:modified>
  <cp:revision>25</cp:revision>
  <dc:subject/>
  <dc:title>Elemente de noutate ale programei școlare pentru disciplina</dc:title>
</cp:coreProperties>
</file>