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</p:sldMasterIdLst>
  <p:sldIdLst>
    <p:sldId id="256" r:id="rId36"/>
    <p:sldId id="257" r:id="rId37"/>
    <p:sldId id="258" r:id="rId38"/>
    <p:sldId id="259" r:id="rId39"/>
    <p:sldId id="260" r:id="rId40"/>
    <p:sldId id="261" r:id="rId41"/>
    <p:sldId id="262" r:id="rId42"/>
    <p:sldId id="263" r:id="rId43"/>
    <p:sldId id="264" r:id="rId44"/>
    <p:sldId id="265" r:id="rId45"/>
    <p:sldId id="266" r:id="rId46"/>
    <p:sldId id="267" r:id="rId47"/>
    <p:sldId id="268" r:id="rId48"/>
    <p:sldId id="269" r:id="rId49"/>
    <p:sldId id="270" r:id="rId50"/>
    <p:sldId id="271" r:id="rId51"/>
    <p:sldId id="272" r:id="rId52"/>
    <p:sldId id="273" r:id="rId53"/>
    <p:sldId id="274" r:id="rId54"/>
    <p:sldId id="275" r:id="rId55"/>
  </p:sldIdLst>
  <p:sldSz cx="12193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" Target="slides/slide1.xml"/><Relationship Id="rId37" Type="http://schemas.openxmlformats.org/officeDocument/2006/relationships/slide" Target="slides/slide2.xml"/><Relationship Id="rId38" Type="http://schemas.openxmlformats.org/officeDocument/2006/relationships/slide" Target="slides/slide3.xml"/><Relationship Id="rId39" Type="http://schemas.openxmlformats.org/officeDocument/2006/relationships/slide" Target="slides/slide4.xml"/><Relationship Id="rId40" Type="http://schemas.openxmlformats.org/officeDocument/2006/relationships/slide" Target="slides/slide5.xml"/><Relationship Id="rId41" Type="http://schemas.openxmlformats.org/officeDocument/2006/relationships/slide" Target="slides/slide6.xml"/><Relationship Id="rId42" Type="http://schemas.openxmlformats.org/officeDocument/2006/relationships/slide" Target="slides/slide7.xml"/><Relationship Id="rId43" Type="http://schemas.openxmlformats.org/officeDocument/2006/relationships/slide" Target="slides/slide8.xml"/><Relationship Id="rId44" Type="http://schemas.openxmlformats.org/officeDocument/2006/relationships/slide" Target="slides/slide9.xml"/><Relationship Id="rId45" Type="http://schemas.openxmlformats.org/officeDocument/2006/relationships/slide" Target="slides/slide10.xml"/><Relationship Id="rId46" Type="http://schemas.openxmlformats.org/officeDocument/2006/relationships/slide" Target="slides/slide11.xml"/><Relationship Id="rId47" Type="http://schemas.openxmlformats.org/officeDocument/2006/relationships/slide" Target="slides/slide12.xml"/><Relationship Id="rId48" Type="http://schemas.openxmlformats.org/officeDocument/2006/relationships/slide" Target="slides/slide13.xml"/><Relationship Id="rId49" Type="http://schemas.openxmlformats.org/officeDocument/2006/relationships/slide" Target="slides/slide14.xml"/><Relationship Id="rId50" Type="http://schemas.openxmlformats.org/officeDocument/2006/relationships/slide" Target="slides/slide15.xml"/><Relationship Id="rId51" Type="http://schemas.openxmlformats.org/officeDocument/2006/relationships/slide" Target="slides/slide16.xml"/><Relationship Id="rId52" Type="http://schemas.openxmlformats.org/officeDocument/2006/relationships/slide" Target="slides/slide17.xml"/><Relationship Id="rId53" Type="http://schemas.openxmlformats.org/officeDocument/2006/relationships/slide" Target="slides/slide18.xml"/><Relationship Id="rId54" Type="http://schemas.openxmlformats.org/officeDocument/2006/relationships/slide" Target="slides/slide19.xml"/><Relationship Id="rId55" Type="http://schemas.openxmlformats.org/officeDocument/2006/relationships/slide" Target="slides/slide20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FB06-7903-4723-A66E-A8EE51DD3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D8AF-96F9-4273-8AD6-D849DB3E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54D818-ED34-43FE-8EAC-70C59787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76DF53-0849-4107-91BD-F79F42D2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7A82AC-2811-4360-9F8A-34FD0CDA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3BDFB2-51CC-4188-8C6C-8B2C64B6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94AE96-4D7D-49DA-B320-0BF7D213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CFEFEE-90B1-4CD0-AF87-3F3732BB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8B1724-9048-48B3-B9AC-78346BEF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574D05-5C5D-43B0-9D2D-6AAEA36AC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EA0AD2-8518-4984-B795-38F5C99EF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701683-DACF-4C92-8F04-65821AF50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6569-7FF3-4326-BD33-D173A7719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480B47-FEE7-44AE-B748-F50633F4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7AF425-1830-41CC-A3EC-90F83170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A69DAA-10C5-4F60-9EB6-CC73E5AE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723029-15FE-41A8-9BB8-4F482720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EBD99C-FA63-4404-B2AD-8F5FE404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B765B9-86A0-4846-BD32-CA370D3A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8F1026-F5B7-4581-9D18-A461D108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E07A40-0353-4DED-BD42-774A31FC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C35F9D-F060-4975-9222-29FE878E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F61D6B-CD9D-4CA7-811A-062115905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0697-1D76-47F4-8295-FA581C077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A21ECC-B4B9-455B-A857-36A4243D0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C317B6-33B1-44DD-BEB7-51D2769C9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E2B4F-CA8B-438C-9A5A-1D6241F0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9EE00F-7ED8-44B5-AD2A-46AF8311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8C1F84-ACFC-44DF-AC2F-84386C0B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010F8-C993-4115-9468-F910EFB5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53BC9-695A-44A6-8BC4-09FA0FB2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AF2A22-6F14-4BE8-BCA0-C4DE6834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828520-44AE-47FC-B2A4-ED28A977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55B6B-189C-48EB-9CD2-AD8B42BC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C02B3-4CC7-4716-9838-A9A59234C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D6B1F-1432-41FF-B099-FA447B03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09FF17-36FB-4A16-B891-FA46F19C1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6D1326-A48F-44DA-AF6E-B6EEB8F9C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CEDCC8-8DFE-4F8E-AC9C-FDC09E45B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17400C-133E-4288-8200-370E2B57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D69F3E-0864-4D50-9EFB-F241ADF8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408CD1-D7B0-45A4-90EF-35BBF6FB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8DD5B5-2786-4B8B-BA18-EB532E57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9A3CBA-6645-43E1-BF10-558859EC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DECE43-485C-4437-998B-EC36E3A0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FBF6-0646-4C14-B6CC-58393466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4BB3D7-14DC-47B9-B020-844E0037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298748-B5EC-4E99-8D7E-DFF65038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D6A2E1-F319-45E8-8865-0A5ECA43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65DFBB-33B8-44D4-BC53-F74B8C250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87AF35-E4A9-486F-9FB4-DF7B32449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6634BA-A2D3-4E05-A7B0-0ECB77158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AC279C-18D3-426B-8109-BA229809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C93DC4-E600-4F31-9372-6332B23D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0C6AFE-6B32-4654-A8CF-46D612CD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461689-4060-41B5-97AB-218298F2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4833-422C-44C8-8954-DA1F6574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11042C-E3F7-44F1-A6B2-AED97FE9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288DC0-11A6-4088-A84D-B3B77E33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710FD6-0114-4DC7-8101-258FB3A2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FA1669-8B43-41EB-AE49-01EB67DC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AAD5A8-EACD-4848-BC6E-2AB1CDC1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E9EEC7-753C-4170-A621-A325AE3C2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CC13E2-634B-492E-A2DD-2928D6151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C75FBE-E029-417F-9635-65D31F098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6F8796-ECF6-4CBD-BA63-B2917481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45A189-8F1D-4DE1-A926-CCDC3242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072BB-2F53-414E-B48A-A1206458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708B34-63DD-4A60-BFD5-FFB579BA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1F7055-536E-486A-83BC-C6770D0F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D26940-BAD1-4836-AEBD-617D4AE4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D07E61-8A5D-4927-8A0D-48B04250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435558-C5E5-423F-B55D-535641A2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A113BF-E18A-4EA7-80E3-ABA5C4F3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DA5417-306C-45FA-88F6-45BCE784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278210-D36D-468F-A775-F0E415887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D3E220-F7E8-4911-BE58-DF3DE9F5E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1BE063-31A8-4DE6-926B-AD0818FDB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59ED-59AF-4E9E-BB8D-46CDA113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C63045-3FB4-4113-938E-2C32E814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D57711-6DD6-46E2-8B17-62869272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F0306C-66D3-4574-9C88-03ED6492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2B2C7D-6CEF-4228-8368-DD7EEC16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B98F85-E172-4993-8D7B-03B65621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102B58-7F36-4CC4-809D-B479C5DD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EBF855-3A5B-400E-B968-6BEFDA44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99B252-1A9D-473A-B4F0-1C0ED626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5B56EE-ACEF-4F49-B21C-C75C36DA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6B7286-BD7C-4E97-9E76-CD6A6CF62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D32C-CD6F-4107-A69C-1A174A17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A239D9-13EA-4BB1-93CA-421B72202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CF5BF4-DED2-44FF-B632-101E983CB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70E775-F20B-48E6-8FB6-18C0E72D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E37079-55AB-4F30-AF48-336086FB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B5955F-4CC9-4591-ADDA-B46D8D33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97D99C-41EE-4988-8978-B9055886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EB6CE4-93BD-4336-A214-8794B898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6A218F-BAAB-46D8-B02F-2244EAB4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C68CC7-5634-4302-90F7-182C17B9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30BD3A-431A-411D-BE40-F2A0C920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96FF-B28C-4CF8-A2BD-931235B5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DA39EA-C087-4714-81FD-27D05835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C248B2-3B55-4A9C-BBC2-C3914CEFD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A42797-FB4B-47EA-BDBE-03D58CE93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ED2E66-2550-4189-A8CE-17ABB5E64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CB4E9D-8A53-4825-884D-8F68CECC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9014C0-7A94-4F3D-8D8D-8509C12C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E02D40-2F96-4EDE-A0D5-4CEF1B6B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5A6A8C-F8C0-4C4B-8A37-AA49DD80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E9BCE3-3501-4F35-AC54-FDD44548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0B857C-E7B4-40B1-8099-888C5D5A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00D3-9485-40BC-9CE6-3EC4CECB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8ACF-BA1E-4005-A672-D2E1ED2E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60DCCE-9646-487E-BEBC-37B57A3E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B6A790-79FA-442E-B32F-8A8D9986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4EB7AA-CB5F-41F6-A49E-5BD43468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F3E3DF-5BC4-4C4C-B7E2-00E86E023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090320-01AE-44B0-8CDB-E3B258308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BC7B83-BBD9-48C6-89AE-09B91B373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BD81BB-C1F3-4900-87E8-4997F2FD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F80BD8-7402-4F4B-93D1-869E02D7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568845-E425-4A2B-B9D7-68028E7A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6981E1-DB4F-423E-8727-84FAD980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2DFB-7976-4825-800B-36561502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BBE6B6-8E13-4011-866B-A287C4ED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E9638A-8425-45D0-BC1F-A53218A8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C1639A-3008-4C32-820C-9E21358E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13F88A-C7FB-46C9-939C-DEB1ED08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10B94C-452E-4474-88AD-EFC6D268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EE985F-A7C5-4547-9D88-09F52A5CC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E23936-B53A-496B-93CE-701FA92BD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8DB77C-485E-42AF-BB57-19750668B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E2A852-3DEC-40E5-826A-477BD03E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874F1F-355B-4EB0-860C-F26C893E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9016-ED80-4913-9449-DF54AFC4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06E46E-316B-40A9-BE19-86FA8D64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F251B8-9DEA-4CAB-9FE5-44C46B4D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C82777-38EA-4A35-8220-96513C65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A406A8-2B7F-41C5-8FC1-B8EEC73E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FDE098-93E7-4865-9995-19DEC0A9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2F9B4C-F378-4963-A879-0D9E3025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FF4856-A883-4CDB-9BEA-EC3884CF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B3990B-DA78-493D-AE3A-8E94B79A4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D1D6C2-F04B-4AB7-BBA9-D12E1CD33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174947-24EA-403E-BA2B-00F3C444F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CB46-06D8-4DD8-903C-522B5C587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3A30CB-B6E6-4DB5-A4B4-790630DF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A897A7-5D4C-423B-B972-9CC24F61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D1A4C8-8C00-4A4D-8D68-E22A183D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A85D59-AEAD-4C14-ADB0-8EC47A46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29A182-6931-4DB8-8417-63EA4A51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A93480-2BD0-4EDF-B6E6-BCBBC1D2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F309BF-B235-48FF-9C5A-82C53C78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FA96AB-7338-4E62-AFB1-1E6DBF3E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6B412C-2DFF-4202-BEA4-5FE06C5F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817C95-36CD-4D61-851D-26E93CEE8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D8D7-FFB9-41F3-B9CA-74D5FA32F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EEB54C-B604-430F-BBD5-82D568CF0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8F936F-CAE9-46E9-A863-3921A1A6A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F5D9E6-8029-4531-86CD-B2F40368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37088C-66D6-4710-9E0A-06D54638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927002-8B23-4267-9F43-104A06C8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1C754C-0C31-4C74-95C5-B63C6967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FDB73A-4E49-49E3-8DF2-A972A6A1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B17F75-41B2-4965-9F5D-6837562E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2793F0-046A-4794-8CF4-CD091F25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C94C0E-1197-4A72-A26F-ED580401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43285-FF03-4C03-A91B-53F6DB34A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ABC102-8D36-4E6B-AE98-F0C9C66B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F56748-A0B1-4E29-ADFB-41E643731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88FD35-1CBC-4EC4-806E-93C3490E4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711582-5F94-4D32-8EC2-EDD128C7E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B64A81-25E3-4DEB-8EC6-4F168C6F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AF1402-65CB-4940-B3C5-9CF5E783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03EBF1-26FF-40F4-8C84-3D561D63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C88A99-D56F-4B80-89BB-E37971C8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242418-35FC-4318-AF85-EA942822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E0D4EC-90BE-4F47-9291-CFAA0CB4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D8E98-3FE0-4770-A016-1E6DBB80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344B0A-A6E2-4949-8E58-BFB84C61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87C357-876D-4E32-AFC1-51CF6E91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EC58FF-C14E-4C21-B795-EBCC1727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6C0BC8-8D96-4D6D-BE47-A90F058B4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CAC076-A6BB-4D6E-A6C1-7D76F3D0F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FE55D7-068E-4E20-A732-353C7E32C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938F48-7B66-4C28-9F9D-813FECE0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BDC978-4F7E-48E9-8C82-829BFDA4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8AD8B7-3EA2-47A5-8E67-F026E0F5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8D461D-E24A-470D-9922-786F2904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086B2-10A4-4FE5-87BC-C7EDA20E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EA13AD-8B91-41C3-A70C-83992CC8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62F9D5-12AF-4BD1-951D-9AE93B6A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304D05-E8BF-43B6-8807-8972202F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B45A19-3C64-4521-829D-7BA47E9A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16BC63-C942-40CA-8788-2B534482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3028F4-1E5E-4DF6-AAAF-62A11D9C3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4D0EAD-B8B0-455E-B99A-6FAAC6B9B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010F6F-BD2E-462E-9333-4AB173D74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D125E9-1A8E-4106-BB3F-DCE96E34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D0F02C-CBA2-4B9E-AFD8-DB1C0591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27B27-B5FA-46C0-83B2-BBF85557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FD03D1-F45E-4EBA-8913-FE1B4A56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8C4C204-1B3A-4A4B-8E52-5CCF914B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6404E6-6452-447E-8A53-58189CEC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046250A-52A0-491C-AA85-F0DD6E2C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1245C8-5017-4EDB-9202-B314A116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1037D08-DA68-4D99-91D5-4991E009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0A1B80E-9E06-4DB6-B8F5-04A22DDE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FC82D8-E03D-46E9-8F0F-7B6412E57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41A74A-FEEC-4883-9D8E-F79C56ABF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16EFF14-81B7-4B42-9EDD-B1F830AB3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05474-C0B9-4E9C-BE4E-BE9A1B88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8523A65-C4F8-44F6-8409-D40306A5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062449C-B937-492F-A85C-062EB1B7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370335F-099C-485F-993D-7694E2E2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A767A90-4F6F-4D94-970D-87A67FF2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9E47C8E-3416-4E03-862A-7C9BF0BE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ACCBDA5-A03F-4509-AF52-D0205D66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1E3A7B4-B4E9-4B79-AB05-41A710C0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7CA9A8F-8F7E-4BAA-A787-21EBDC28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F80E780-9DD7-4BB6-96E3-E0A217FD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49DD8E8-E3FD-4732-B3E2-7579AC291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50C5-20D1-429A-B66E-A8BA73FA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DFD74-47CD-457C-B2F5-4EB635B0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AE49015-DD20-4382-9124-9077DDA5D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EB8C1BA-D596-4BA4-9EB3-58FDCA780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7F6B9D8-0BEE-4CEE-86B5-D742CE23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29BDDF1-DAA3-4F31-91CF-8F4617B8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E1B7B6E-D7C3-4648-8487-D2D693AF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44FEFCF-1177-4BAF-AFA9-9866ABE3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6B0525F-FF84-41D3-8535-ADE7F4FC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2F38159-82FA-42A1-8890-F41260ED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3A95DAB-A5A6-4C26-B4A3-1E86827A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C0A8848-1540-4E99-9553-8B6BCE7C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74F4F-12EA-4375-9307-72D11213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6D2586E-FDE7-4655-A181-FD0932EB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11ADE97-A012-4904-A8F3-265092EB6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D494C19-90DF-4120-87E3-7888F4DBE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1796100-309C-4566-82CD-10A927B03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855C2E2-CC12-4181-B98A-2C6B002B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C83CD30-8F04-47E9-A454-A3560A59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28F973F-ED18-4FE9-9587-53485A2E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AA6EF10-71A1-4FAD-9BD0-F3123F33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13C973E-9F0D-4A3E-AA94-61CC743F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FB72E2E-3D04-40B8-9A6C-1566E15D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81FD4-F1F9-4CA0-A98D-9F45FAD9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E80D677-137B-464D-BA73-C5A1BDCC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2845200-30F3-4DAA-A8B5-9BA8FFBA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FEEC078-6974-4265-9C0E-1B372853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85C4069-0CEA-4A90-9678-8C4DDB1DF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2D6264A-49E5-46CC-B45A-737583ADB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ABA98B3-A80C-4D50-8F96-902ADAA1D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BC70EF7-DCA1-4AD4-953D-26FCE628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E373E9B-FCBB-4BA2-BB7F-9D4C1B7D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1370AD4-E710-4534-8221-86216FBF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250D872-C8DB-498A-921A-1CC2BB06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68542-686B-4430-9689-F0D7E249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FCCCFE9-98C4-43B7-9BF7-78F4C397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C437A14-CB9A-46EB-AFBA-A6D88F39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2B8FBB9-87FD-49E4-BC9F-81A7F6CC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28ABBF2-5BBC-4204-A9EE-39D77EC8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C5BF8CB-2A4C-4C0E-8C5A-2F252F7A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8B78556-2B73-4F45-8736-3200D2E59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D63762D-6309-4500-A59F-68DBB2522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6F7B5C7-F8D5-4A66-8E17-AE9BB1FF8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CE4F635-7E3E-4217-90DB-D1994278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F74E523-0028-492C-8812-0CF33F14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695E0-F954-47C2-B1D9-1EB6C9D5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02F9346-6BBC-47B4-ACA1-23A8A688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CC853B1-CE0B-4EED-BC57-6AD65D4A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E103F7B-1A08-423C-BEB7-349F15D4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0BFE412-F506-43A9-9A11-AD6BBFFA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27B416B-93DB-48B9-9A3C-60C3050E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E8BE3D4-FB86-456C-83C5-78E7BCF0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F387A41-0D92-413C-815A-5F570D98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65E291B-DE57-441B-BC67-18207CAA2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D7E4EE5-3ACB-4A27-919C-0AB5C8C91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7653DEE-4620-4994-9867-142970A77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74DAC-B261-4BE8-AB10-E0A8D0979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4A26B97-ED2F-48B0-8D81-915ABEAB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0B8C1B4-1344-4382-BD52-2DDB1C81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8407AFA-97F6-4529-AB7E-2B73CBDE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D1F1D24-D0FB-4C2C-B155-0CBC5EC5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D87A051-15BC-4067-AF6C-CD99F9CB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821F984-16FA-43A0-B2A2-422C35E4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0156CF5-61AE-4C1B-8555-E4D7B59D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BE2AACD-30B6-4CB4-ADE8-9981DC72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60ABAEE-59E6-463B-9AD3-391DC35F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C375069-80C6-4AEF-B6BD-9A83FE0F1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E1737-C77C-4135-9143-5880A4F73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7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7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7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3E761F1-2065-4C32-ADD8-90BC4B0CA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CE1F0CD-3AC6-47E4-B07B-6EF823D1F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26F9CEA-BDBC-4FC3-B055-9F3B5BBB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C946438-E880-49AC-A4DC-F94F045A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E593FD6-4008-4FF3-AD83-C7B40F1B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997F8B1-5487-45E7-A869-D1513D36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1B5168B-2611-446B-93AA-F3A5AD99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3DE6606-BA49-4ADC-A7C3-B9C2D5D2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BA1ABE5-CD4D-4681-A8A2-D76ECE3F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FB1232F-190D-44F8-988D-7CA19275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9DE70-FF19-473B-935A-0BFBEF5E2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F5044ED-3B1F-4F96-AA1B-8A617888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570CB1F-0C3D-4208-8530-25521FE5B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C31FD97-8D7B-4720-9A2D-9B7E95822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AFCB327-ED92-443A-9739-A9582CC5A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454130F-0D3A-48A7-ACD1-9EC7641C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B2A350A-024B-419B-8647-0D221CB2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D3FA852-76C7-4664-8830-5C0508C7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A0EC186-A37F-4E81-A3A9-684D8D20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586FB8A-283A-4CC6-A725-3995F4C4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92231A6-7527-4226-A47A-0521E0C5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49121-7347-4E79-8EA7-85AB97CD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34ABDD8-E51A-42B2-8103-C6C98DA2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6716B3B-E346-4C59-8818-B0661433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C4B0E7F-C0AF-46C8-8C7B-6EDFA42B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6BA6D79-1155-4C16-96CD-BCC2D1896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1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1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8E2AE45-D9CF-4854-BD3B-7747B1C6C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6B7495C-8106-4076-ACB1-76EB2F160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5FA52B5-64B0-4F01-8F56-F78DF503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BC42168-52D8-4BD4-8CCA-6FA6BE8A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BC49ED4-85B4-436A-974D-D74BE706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EA13CAE-9917-481F-81B9-BB2B4BC3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359AB-2DDC-4F09-B991-9610687C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ECFF021-7F5C-4CBF-97A6-E0EAAC99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F903F72-B212-4FA5-85D0-D7CF409E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6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A1C7660-EC08-4E75-9CE7-CA491DD2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5105DDF-88DA-4578-A8CF-F5A59AD2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D2AD1A6-17C3-40DE-A1E0-C678C1F9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01A776F-4FEE-4DE7-9416-4CF0DE44F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8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8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8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7AD6CB7-B8AA-47EF-9433-7ABE564BC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98A9729-BEC1-4E4F-A248-8A042DCF0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E290A06-3D40-4119-94EE-9C03A987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05CA8F3-F911-4054-89BE-B3C825AB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778A-5E2A-4A49-9A53-9A26DA8C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A2D75-E5D0-49A8-AF68-77445325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781F280-4294-40B2-B730-A30C2467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8181F2A-F212-4F7B-B70C-8B3E5797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5122E34-C693-4D51-9C6B-C8E67933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4993945-48F4-486C-A012-41737FC3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335179F-5B35-4B88-9665-EC67288C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84134DA-7F7D-466F-913A-0CBE0702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E24A6A1-DEBD-4C4C-B025-E0850F96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052C0D4-35D8-4305-961F-692D64880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5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5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8CA92C9-8189-48A8-AD7A-2DA77C085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310EF-6381-4631-8DA0-AFD6CDBF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27748-99F6-4566-A3DF-2AFDE1C7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C9D2A-D0CE-440D-9D0A-D72BC672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EA165-1762-4F3E-8A0E-1B31439B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1E05A-A04E-4B71-993F-49636513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3E1E0-72BA-4D31-A3A8-84F51146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76765-FAAE-4EAC-A979-7462C4CDB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D0242-1F79-4130-930F-08E0F01EA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BD49F-9528-49ED-8C50-24403E826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07AB-8C32-40BE-A07B-39D562EA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BFE71-CE4B-4B2E-A2BB-0F527508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7AC13-A7D8-4E57-BCD1-ED59472B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B3D1F-F9AF-4E5B-9E0A-CB590CED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50757-84D5-486B-8108-0FA119D2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EF53B-AF61-41EE-9BA3-A9258F9E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99482-9879-47D5-9484-F1032C94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46E80-4189-409B-8BE4-F59F2C5A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CAB37-723E-478D-8DB5-45D2B69B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84871-1A30-450E-B8FE-2BB08A46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F3A26-691F-4DEB-AB9A-BE20C83A6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F112-D70D-40EE-9048-5CC6E9C7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699C5-E3CB-4F68-BCC7-FC4004520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E27DD-9901-4AB2-B3E7-38A80FABD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D64FB-C235-4CDC-A27E-A4B7F05B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E43EE-D3C0-4E89-B9C8-42C229B4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3E1EE-DAF6-4F37-85AA-482C9EAB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111CD-4808-492A-A82D-21D4D622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F4F92-82E7-42A9-8C54-24006537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D179C-406D-4280-B20E-D956D600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53041-14A8-4573-B327-D41C5BFA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39161-04AF-40DA-929E-8E891C78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D897-4797-4D34-A700-EA5F0A1D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1D50E-9A3E-47CD-AD73-9B26EE8D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695B7-73BA-497B-8B23-65CA1B2A4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3A2C9-74C2-48B6-8668-6EC75DE61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278D1-9B75-43A3-BD6F-6496C9EB1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23ADA-FBAC-4736-9877-B5DFDD8D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F5252-272E-43C9-8703-0BD5470C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782FA-D3E5-400B-AF40-5B1F2270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79F41-BA30-4724-90EE-3E8B22DD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65860-407B-466B-A412-D31EEBCC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627E5-51C2-4362-867C-FBF02E1F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7722-1F8E-4AE3-8F22-F4F367E4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1B14D-A7D8-4C13-98AB-EF904D60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32498-FCE0-47DE-B62D-80CFA5FE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48E98-C984-4B25-99DC-260662F4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8B382-942D-48E2-8BFF-20E1EF917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3FBE1-07BC-4987-B49D-2710F670B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571EF-96D3-48BE-8B24-02A11FCA4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C14F2-2DBC-474B-8244-D2797CAB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A9F3A-E6DC-46CF-ADA2-8D79EDC2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CAB9A-AF8C-4F65-940F-801C02F2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637B9-6CF5-4018-8168-A5CFA8F1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F5B9-58CD-4545-A4CC-F3CD6A4C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F450E-B720-4E05-A039-4E0C6621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6610A-6B69-473F-98BD-D6AF069B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69EF6-7B82-4143-9BE6-81B30DA0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82D6F-598E-400B-84B5-4563BCE3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039F0-057C-4025-9ADA-49537E51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0BF7C-AECC-4F96-9261-AD8A5F59A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E89C1-EE65-4DC5-A641-B3598EAF8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DD16E4-F3B0-43DE-A5A7-84B7279F9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47B9E6-E080-4401-B28A-B091DFDC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42C8A1-4C9A-4D44-97BF-36FB351E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128C-3C56-4DEF-8886-4CBF95F4F3D0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0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3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sldNum" idx="30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87FE-FFC0-4BEF-933C-E78934CBC9DF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8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33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911B-FB8C-4AF0-A095-08402D038C6C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8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1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CB94-7320-48DB-9F12-615FD22364BA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27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0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Box 13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Box 14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39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30CA-A3A9-415C-AE6D-B350DFEF4CDA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8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1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5368-49E7-4532-8093-3AAF8534EE5A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67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0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Box 1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Box 1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FBDE-9E5F-487C-8930-8F564FB59745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8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1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48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B312-01EB-42DB-AE4E-30CFEB785A51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7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0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0887-2490-4174-B2B1-A10F8FE74E16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76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89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dt" idx="5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ftr" idx="5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sldNum" idx="5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58EE-5F37-47EA-B8C0-4381F75971C6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245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258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>
              <a:gd name="textAreaLeft" fmla="*/ 0 w 1744560"/>
              <a:gd name="textAreaRight" fmla="*/ 1744920 w 174456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 type="dt" idx="5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 type="ftr" idx="5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 type="sldNum" idx="57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75B7-4524-4E2A-ABFB-0944DDFB414A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5501-CC32-4A28-B06D-42745C819C73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14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327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 type="dt" idx="5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 type="ftr" idx="5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 type="sldNum" idx="60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174D-306A-416A-894E-A3FD96DA8388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3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396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 type="dt" idx="6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 type="ftr" idx="6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5"/>
          <p:cNvSpPr>
            <a:spLocks noGrp="1"/>
          </p:cNvSpPr>
          <p:nvPr>
            <p:ph type="sldNum" idx="6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E565-0663-4C95-A08C-F6751BFDF2D1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452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65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 type="dt" idx="6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 type="ftr" idx="6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 type="sldNum" idx="66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F302-F727-44C3-8FB7-3DA5DE4FFDEA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521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34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 type="dt" idx="6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 type="ftr" idx="6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5"/>
          <p:cNvSpPr>
            <a:spLocks noGrp="1"/>
          </p:cNvSpPr>
          <p:nvPr>
            <p:ph type="sldNum" idx="6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EFE7-540F-498B-9B3F-A171CC1CCDED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590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603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 type="dt" idx="7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 type="ftr" idx="7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5"/>
          <p:cNvSpPr>
            <a:spLocks noGrp="1"/>
          </p:cNvSpPr>
          <p:nvPr>
            <p:ph type="sldNum" idx="72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9164-B0A1-4F15-AB89-EBBFE147F589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65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67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 type="dt" idx="7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 type="ftr" idx="7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5"/>
          <p:cNvSpPr>
            <a:spLocks noGrp="1"/>
          </p:cNvSpPr>
          <p:nvPr>
            <p:ph type="sldNum" idx="7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030B-2C6C-40BF-BFB0-A58A2B573DA1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728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741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 type="dt" idx="7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 type="ftr" idx="7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5"/>
          <p:cNvSpPr>
            <a:spLocks noGrp="1"/>
          </p:cNvSpPr>
          <p:nvPr>
            <p:ph type="sldNum" idx="7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36C7-F850-4B1D-8E77-D1CBE166C51A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797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810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 type="dt" idx="7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PlaceHolder 4"/>
          <p:cNvSpPr>
            <a:spLocks noGrp="1"/>
          </p:cNvSpPr>
          <p:nvPr>
            <p:ph type="ftr" idx="8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5"/>
          <p:cNvSpPr>
            <a:spLocks noGrp="1"/>
          </p:cNvSpPr>
          <p:nvPr>
            <p:ph type="sldNum" idx="81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616F-331D-4AA7-891C-6B522BBDD03A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866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879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 type="dt" idx="8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PlaceHolder 4"/>
          <p:cNvSpPr>
            <a:spLocks noGrp="1"/>
          </p:cNvSpPr>
          <p:nvPr>
            <p:ph type="ftr" idx="8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PlaceHolder 5"/>
          <p:cNvSpPr>
            <a:spLocks noGrp="1"/>
          </p:cNvSpPr>
          <p:nvPr>
            <p:ph type="sldNum" idx="84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1783-A0FD-4CC7-AB34-4DD87E891A08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935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948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TextBox 13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TextBox 14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 type="dt" idx="8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 type="ftr" idx="8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PlaceHolder 5"/>
          <p:cNvSpPr>
            <a:spLocks noGrp="1"/>
          </p:cNvSpPr>
          <p:nvPr>
            <p:ph type="sldNum" idx="87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8FAE-0F02-4431-A48D-F418471566BB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7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0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>
              <a:gd name="textAreaLeft" fmla="*/ 0 w 1744560"/>
              <a:gd name="textAreaRight" fmla="*/ 1744920 w 174456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9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D031-6A97-43B2-96B1-ECCEF8E6AE4A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06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019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 type="dt" idx="8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PlaceHolder 4"/>
          <p:cNvSpPr>
            <a:spLocks noGrp="1"/>
          </p:cNvSpPr>
          <p:nvPr>
            <p:ph type="ftr" idx="8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PlaceHolder 5"/>
          <p:cNvSpPr>
            <a:spLocks noGrp="1"/>
          </p:cNvSpPr>
          <p:nvPr>
            <p:ph type="sldNum" idx="9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84D6-32D8-4E8A-B785-3507B69AF7ED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5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088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TextBox 1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TextBox 1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 type="dt" idx="9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PlaceHolder 4"/>
          <p:cNvSpPr>
            <a:spLocks noGrp="1"/>
          </p:cNvSpPr>
          <p:nvPr>
            <p:ph type="ftr" idx="9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PlaceHolder 5"/>
          <p:cNvSpPr>
            <a:spLocks noGrp="1"/>
          </p:cNvSpPr>
          <p:nvPr>
            <p:ph type="sldNum" idx="93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54D1-6CA7-4A48-8630-86E5540FA4C5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146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159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 type="dt" idx="9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 type="ftr" idx="9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5"/>
          <p:cNvSpPr>
            <a:spLocks noGrp="1"/>
          </p:cNvSpPr>
          <p:nvPr>
            <p:ph type="sldNum" idx="96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2FBF-DCE4-43F9-B4B0-1B0A09CEE4FB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215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28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 type="dt" idx="9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 type="ftr" idx="9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5"/>
          <p:cNvSpPr>
            <a:spLocks noGrp="1"/>
          </p:cNvSpPr>
          <p:nvPr>
            <p:ph type="sldNum" idx="9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8B39-A3F0-4BA3-A437-FE22125F13E6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284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97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1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13" name="PlaceHolder 3"/>
          <p:cNvSpPr>
            <a:spLocks noGrp="1"/>
          </p:cNvSpPr>
          <p:nvPr>
            <p:ph type="dt" idx="10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PlaceHolder 4"/>
          <p:cNvSpPr>
            <a:spLocks noGrp="1"/>
          </p:cNvSpPr>
          <p:nvPr>
            <p:ph type="ftr" idx="10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PlaceHolder 5"/>
          <p:cNvSpPr>
            <a:spLocks noGrp="1"/>
          </p:cNvSpPr>
          <p:nvPr>
            <p:ph type="sldNum" idx="102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200B-3C6C-4D0B-9299-24E85B788345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6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19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2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EFB0-FD65-4897-8283-4B5BFB9E15EF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5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8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15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2AB8-5D0C-4075-9285-9E6557B9F938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4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7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C610-CE7F-462D-BAB0-95044399D108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3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6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2C20-08CA-44CF-89B8-9CDD962DBDD4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2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5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A240-7E9B-44EB-B147-A1527B51D26A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1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4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FBE1-860D-42CF-A007-7A56CB8E7C62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programe.ise.ro/actuale.aspx" TargetMode="External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www.manuale.edu.ro/" TargetMode="External"/><Relationship Id="rId2" Type="http://schemas.openxmlformats.org/officeDocument/2006/relationships/hyperlink" Target="https://www.manuale.edu.ro/" TargetMode="External"/><Relationship Id="rId3" Type="http://schemas.openxmlformats.org/officeDocument/2006/relationships/hyperlink" Target="http://www.edu.ro/" TargetMode="External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ubiecte2019.edu.ro/" TargetMode="External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2066400" y="231840"/>
            <a:ext cx="8915400" cy="464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5400" spc="-1" strike="noStrike">
                <a:solidFill>
                  <a:srgbClr val="19017f"/>
                </a:solidFill>
                <a:latin typeface="Calisto MT"/>
              </a:rPr>
              <a:t>CONSFĂTUIREA PROFESORILOR DE </a:t>
            </a:r>
            <a:br>
              <a:rPr sz="5400"/>
            </a:br>
            <a:r>
              <a:rPr b="0" lang="ro-RO" sz="5400" spc="-1" strike="noStrike">
                <a:solidFill>
                  <a:srgbClr val="19017f"/>
                </a:solidFill>
                <a:latin typeface="Calisto MT"/>
              </a:rPr>
              <a:t>LIMBI MODERNE</a:t>
            </a:r>
            <a:br>
              <a:rPr sz="5400"/>
            </a:br>
            <a:r>
              <a:rPr b="0" lang="ro-RO" sz="5400" spc="-1" strike="noStrike">
                <a:solidFill>
                  <a:srgbClr val="19017f"/>
                </a:solidFill>
                <a:latin typeface="Calisto MT"/>
              </a:rPr>
              <a:t>(engleză, germană modernă)</a:t>
            </a:r>
            <a:endParaRPr b="0" lang="en-US" sz="5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 type="subTitle"/>
          </p:nvPr>
        </p:nvSpPr>
        <p:spPr>
          <a:xfrm>
            <a:off x="1689120" y="4776480"/>
            <a:ext cx="1010448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800" spc="-1" strike="noStrike">
                <a:solidFill>
                  <a:srgbClr val="00cc00"/>
                </a:solidFill>
                <a:latin typeface="Calisto MT"/>
              </a:rPr>
              <a:t>17 SEPTEMBRIE 2018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9" name="Picture 2" descr=""/>
          <p:cNvPicPr/>
          <p:nvPr/>
        </p:nvPicPr>
        <p:blipFill>
          <a:blip r:embed="rId1"/>
          <a:stretch/>
        </p:blipFill>
        <p:spPr>
          <a:xfrm>
            <a:off x="2625840" y="522360"/>
            <a:ext cx="807876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0" name="Picture 2" descr=""/>
          <p:cNvPicPr/>
          <p:nvPr/>
        </p:nvPicPr>
        <p:blipFill>
          <a:blip r:embed="rId1"/>
          <a:stretch/>
        </p:blipFill>
        <p:spPr>
          <a:xfrm>
            <a:off x="2558880" y="1606680"/>
            <a:ext cx="817884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1531800" y="623520"/>
            <a:ext cx="997272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METODOLOGII/CONVENȚII</a:t>
            </a:r>
            <a:r>
              <a:rPr b="0" lang="en-US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 DE PARTENERIAT 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/ACORDURI DE COLABORARE</a:t>
            </a: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72" name=""/>
          <p:cNvSpPr txBox="1"/>
          <p:nvPr/>
        </p:nvSpPr>
        <p:spPr>
          <a:xfrm>
            <a:off x="1698120" y="2042640"/>
            <a:ext cx="9806040" cy="38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Protocol de colaborare privind derularea în România a programului FLEX – </a:t>
            </a:r>
            <a:r>
              <a:rPr b="0" lang="en-GB" sz="2400" spc="-1" strike="noStrike">
                <a:solidFill>
                  <a:srgbClr val="000000"/>
                </a:solidFill>
                <a:latin typeface="Calisto MT"/>
                <a:ea typeface="Tahoma"/>
              </a:rPr>
              <a:t>Future Leaders 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Exchange Program – nr. 10584/06.10.2015 (valabil până la data de 06.10.2020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Acord de colaborare încheiat între MENCS – Goethe Institut, privind promovarea limbii germane moderne și a calității predării limbii germane în învățământul preuniversitar – nr. 8713/07.03.2016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1617480" y="553680"/>
            <a:ext cx="94503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ahoma"/>
              </a:rPr>
              <a:t>OLIMPIADE ȘI CONCURSURI: REGULAMENTE, METODOLOGII SPECIFICE</a:t>
            </a: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74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o-RO" sz="2200" spc="-1" strike="noStrike">
                <a:solidFill>
                  <a:srgbClr val="404040"/>
                </a:solidFill>
                <a:latin typeface="Calisto MT"/>
                <a:ea typeface="Tahoma"/>
              </a:rPr>
              <a:t>Metodologia-cadru de organizare şi desfăşurare a competiţiilor şcolare şi Regulamentul de organizare a activităţilor cuprinse în calendarul activităţilor educative, şcolare şi extraşcolare </a:t>
            </a:r>
            <a:r>
              <a:rPr b="0" lang="ro-RO" sz="2200" spc="-1" strike="noStrike">
                <a:solidFill>
                  <a:srgbClr val="404040"/>
                </a:solidFill>
                <a:latin typeface="Calisto MT"/>
                <a:ea typeface="Tahoma"/>
              </a:rPr>
              <a:t>– aprobată prin OM</a:t>
            </a:r>
            <a:r>
              <a:rPr b="0" lang="en-US" sz="2200" spc="-1" strike="noStrike">
                <a:solidFill>
                  <a:srgbClr val="404040"/>
                </a:solidFill>
                <a:latin typeface="Calisto MT"/>
                <a:ea typeface="Tahoma"/>
              </a:rPr>
              <a:t>EN</a:t>
            </a:r>
            <a:r>
              <a:rPr b="0" lang="ro-RO" sz="2200" spc="-1" strike="noStrike">
                <a:solidFill>
                  <a:srgbClr val="404040"/>
                </a:solidFill>
                <a:latin typeface="Calisto MT"/>
                <a:ea typeface="Tahoma"/>
              </a:rPr>
              <a:t> nr. 4203/2018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Actualizarea Regulamentelor specifice de organizare și desfășurare a </a:t>
            </a:r>
            <a:r>
              <a:rPr b="0" i="1" lang="ro-RO" sz="2200" spc="-1" strike="noStrike">
                <a:solidFill>
                  <a:srgbClr val="404040"/>
                </a:solidFill>
                <a:latin typeface="Calisto MT"/>
              </a:rPr>
              <a:t>Olimpiadelor naționale de limbi moderne, </a:t>
            </a: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conform OM</a:t>
            </a:r>
            <a:r>
              <a:rPr b="0" lang="en-US" sz="2200" spc="-1" strike="noStrike">
                <a:solidFill>
                  <a:srgbClr val="404040"/>
                </a:solidFill>
                <a:latin typeface="Calisto MT"/>
              </a:rPr>
              <a:t>EN</a:t>
            </a: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 4203/2018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sto MT"/>
                <a:ea typeface="Calibri"/>
              </a:rPr>
              <a:t>Rezultatele olimpiadelor școlare (naționale și internaționale) la disciplina LIMBI MODERNE, aferente anului școlar 2017-2018, se găsesc pe site-ul MEN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200" spc="-1" strike="noStrike">
                <a:solidFill>
                  <a:srgbClr val="00b050"/>
                </a:solidFill>
                <a:latin typeface="Calisto MT"/>
              </a:rPr>
              <a:t>Introducerea etapei naționale pentru clasele a VII-a și a VIII-a la LIMBA ENGLEZĂ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600" spc="-1" strike="noStrike">
                <a:solidFill>
                  <a:srgbClr val="262626"/>
                </a:solidFill>
                <a:latin typeface="Calisto MT"/>
              </a:rPr>
              <a:t>PRIORITĂȚI EDUCAȚIONAL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76" name=""/>
          <p:cNvSpPr txBox="1"/>
          <p:nvPr/>
        </p:nvSpPr>
        <p:spPr>
          <a:xfrm>
            <a:off x="2588760" y="1441440"/>
            <a:ext cx="89154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404040"/>
                </a:solidFill>
                <a:latin typeface="Calisto MT"/>
              </a:rPr>
              <a:t>PREDAREA – ÎNVĂȚAREA – FORMAREA COMPETENȚELOR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404040"/>
                </a:solidFill>
                <a:latin typeface="Calisto MT"/>
              </a:rPr>
              <a:t>Centrarea predării pe formarea competențelor;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404040"/>
                </a:solidFill>
                <a:latin typeface="Calisto MT"/>
              </a:rPr>
              <a:t>Relaționarea formării competențelor cu evaluarea acestora;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404040"/>
                </a:solidFill>
                <a:latin typeface="Calisto MT"/>
              </a:rPr>
              <a:t>Accentuarea dimensiunii conștiente a învățării, </a:t>
            </a:r>
            <a:r>
              <a:rPr b="0" lang="ro-RO" sz="2000" spc="-1" strike="noStrike">
                <a:solidFill>
                  <a:srgbClr val="404040"/>
                </a:solidFill>
                <a:latin typeface="Calisto MT"/>
              </a:rPr>
              <a:t>prin proiectarea activităților de învățare care să stimuleze gândirea critică și creativă a elevilor;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404040"/>
                </a:solidFill>
                <a:latin typeface="Calisto MT"/>
              </a:rPr>
              <a:t>Crearea unor contexte de învățare care să determine exprimarea perspectivei personale și creativitatea;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404040"/>
                </a:solidFill>
                <a:latin typeface="Calisto MT"/>
              </a:rPr>
              <a:t>Elaborarea unor sarcini de lucru care să evite simpla reproducere a unor informații, a regulilor gramaticale, a canoanelor;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404040"/>
                </a:solidFill>
                <a:latin typeface="Calisto MT"/>
              </a:rPr>
              <a:t>Utilizarea elementelor de noutate (input audio – video, sarcini de lucru diversificate, atractive, atipice etc.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600" spc="-1" strike="noStrike">
                <a:solidFill>
                  <a:srgbClr val="262626"/>
                </a:solidFill>
                <a:latin typeface="Calisto MT"/>
              </a:rPr>
              <a:t>PRIORITĂȚI EDUCAȚIONAL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78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EVALUAREA – EVALUAREA COMPETENȚELOR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Proiectarea și diversificarea activităților de evaluare astfel încât să stimuleze gândirea analitică, sintetică, creativă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Elaborarea itemilor/sarcinilor de evaluare pe competență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Utilizarea unor sarcini de lucru diverse, inedite, atractive, care să stimuleze participarea elevilor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Calibrarea testelor de evaluare conform nivelului lingvistic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600" spc="-1" strike="noStrike">
                <a:solidFill>
                  <a:srgbClr val="262626"/>
                </a:solidFill>
                <a:latin typeface="Calisto MT"/>
              </a:rPr>
              <a:t>FORMAREA PROFESORILOR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0" name=""/>
          <p:cNvSpPr txBox="1"/>
          <p:nvPr/>
        </p:nvSpPr>
        <p:spPr>
          <a:xfrm>
            <a:off x="1952280" y="1689120"/>
            <a:ext cx="955188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Valorificarea inspecțiilor efectuate în proiectarea activităților de formare;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Includerea, cu prioritate, în cursurile/sesiunile de formare a componentelor de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conținut științific și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metodică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Accentuarea dimensiunii creative a proiectării didactice;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Alocarea unui număr mai mare de ore activităților practice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Mentorat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Proiectul CRED (</a:t>
            </a:r>
            <a:r>
              <a:rPr b="0" i="1" lang="ro-RO" sz="2400" spc="-1" strike="noStrike">
                <a:solidFill>
                  <a:srgbClr val="404040"/>
                </a:solidFill>
                <a:latin typeface="Calisto MT"/>
              </a:rPr>
              <a:t>Curriculum Relevant, Educație Deschisă pentru toți</a:t>
            </a: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600" spc="-1" strike="noStrike">
                <a:solidFill>
                  <a:srgbClr val="262626"/>
                </a:solidFill>
                <a:latin typeface="Calisto MT"/>
              </a:rPr>
              <a:t>INSPECȚIA ȘCOLARĂ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2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Elaborarea documentelor de proiectare didactică conform programelor în vigoare;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Aplicarea programelor școlare de limbi moderne la gimnaziu;  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Aplicarea eficientă a programei școlare pentru clasele cu program intensiv/bilingv de studiu al unei limbi moderne;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Adecvarea procesului de predare – evaluare la fiecare regim de studiu;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Respectarea programelor școlare în raport cu criteriile de evaluare specifice examenelor finale de absolvire/de admitere în învățământul liceal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2592360" y="623880"/>
            <a:ext cx="891216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600" spc="-1" strike="noStrike">
                <a:solidFill>
                  <a:srgbClr val="262626"/>
                </a:solidFill>
                <a:latin typeface="Calisto MT"/>
              </a:rPr>
              <a:t>Programa școlară – clasa a VI a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4" name=""/>
          <p:cNvSpPr txBox="1"/>
          <p:nvPr/>
        </p:nvSpPr>
        <p:spPr>
          <a:xfrm>
            <a:off x="2588760" y="1352160"/>
            <a:ext cx="891540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Elemente de noutate – Programa: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este structurată pe formarea – evaluarea competențelor;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 </a:t>
            </a: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include procesele de construcție a competenței;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indică tipuri de activități specifice formării acestora;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relaționează  subcompetențele cu norma lingvistică și conținutul adecvat;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face referire la modalitatea de evaluare a competențelor;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sugerează tipuri de activități de evaluare specifice fiecărei competențe/subcompetențe;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stimulează exprimarea punctului de vedere și creativitatea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2085480" y="623520"/>
            <a:ext cx="941868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sto MT"/>
              </a:rPr>
              <a:t>PREDAREA – </a:t>
            </a:r>
            <a:r>
              <a:rPr b="0" lang="ro-RO" sz="3200" spc="-1" strike="noStrike">
                <a:solidFill>
                  <a:srgbClr val="262626"/>
                </a:solidFill>
                <a:latin typeface="Calisto MT"/>
              </a:rPr>
              <a:t>Î</a:t>
            </a:r>
            <a:r>
              <a:rPr b="0" lang="en-US" sz="3200" spc="-1" strike="noStrike">
                <a:solidFill>
                  <a:srgbClr val="262626"/>
                </a:solidFill>
                <a:latin typeface="Calisto MT"/>
              </a:rPr>
              <a:t>NV</a:t>
            </a:r>
            <a:r>
              <a:rPr b="0" lang="ro-RO" sz="3200" spc="-1" strike="noStrike">
                <a:solidFill>
                  <a:srgbClr val="262626"/>
                </a:solidFill>
                <a:latin typeface="Calisto MT"/>
              </a:rPr>
              <a:t>ĂȚ</a:t>
            </a:r>
            <a:r>
              <a:rPr b="0" lang="en-US" sz="3200" spc="-1" strike="noStrike">
                <a:solidFill>
                  <a:srgbClr val="262626"/>
                </a:solidFill>
                <a:latin typeface="Calisto MT"/>
              </a:rPr>
              <a:t>AREA</a:t>
            </a:r>
            <a:r>
              <a:rPr b="0" lang="ro-RO" sz="3200" spc="-1" strike="noStrike">
                <a:solidFill>
                  <a:srgbClr val="262626"/>
                </a:solidFill>
                <a:latin typeface="Calisto MT"/>
              </a:rPr>
              <a:t> – EVALUAREA CREATIVĂ</a:t>
            </a:r>
            <a:br>
              <a:rPr sz="3200"/>
            </a:br>
            <a:r>
              <a:rPr b="0" lang="ro-RO" sz="3200" spc="-1" strike="noStrike">
                <a:solidFill>
                  <a:srgbClr val="262626"/>
                </a:solidFill>
                <a:latin typeface="Calisto MT"/>
              </a:rPr>
              <a:t> CREATIVE TEACHERS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6" name=""/>
          <p:cNvSpPr txBox="1"/>
          <p:nvPr/>
        </p:nvSpPr>
        <p:spPr>
          <a:xfrm>
            <a:off x="1261800" y="2133360"/>
            <a:ext cx="564012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Think outside the box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Explore all possibilitie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Foster creativity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Encourage multiple viewpoint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Ask open question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Avoid demonstrating a right way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Highlight diversity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Encourage creative problem solving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Encourage risks and allow mistake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Rethink literatur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Assess creatively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87" name=""/>
          <p:cNvSpPr txBox="1"/>
          <p:nvPr/>
        </p:nvSpPr>
        <p:spPr>
          <a:xfrm>
            <a:off x="7191000" y="2125440"/>
            <a:ext cx="4630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Methods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Brainstorming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Mind Maps (words, symbols, images etc.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Get hypothetical!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Build a storyboard!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Flip it and reverse it (multiple viewpoints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Real world problem solving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Tell stories!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Create your own text (re-writing a fragment/story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1531800" y="623880"/>
            <a:ext cx="997272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900" spc="-1" strike="noStrike">
                <a:solidFill>
                  <a:srgbClr val="000000"/>
                </a:solidFill>
                <a:latin typeface="Calisto MT"/>
                <a:ea typeface="Tahoma"/>
              </a:rPr>
              <a:t>C</a:t>
            </a:r>
            <a:r>
              <a:rPr b="0" lang="en-US" sz="2900" spc="-1" strike="noStrike">
                <a:solidFill>
                  <a:srgbClr val="000000"/>
                </a:solidFill>
                <a:latin typeface="Calisto MT"/>
                <a:ea typeface="Tahoma"/>
              </a:rPr>
              <a:t>ADRUL NORMATIV PRIVIND ORGANIZAREA </a:t>
            </a:r>
            <a:r>
              <a:rPr b="0" lang="ro-RO" sz="2900" spc="-1" strike="noStrike">
                <a:solidFill>
                  <a:srgbClr val="000000"/>
                </a:solidFill>
                <a:latin typeface="Calisto MT"/>
                <a:ea typeface="Tahom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Calisto MT"/>
                <a:ea typeface="Tahoma"/>
              </a:rPr>
              <a:t>PROCESULUI DE</a:t>
            </a:r>
            <a:r>
              <a:rPr b="0" lang="ro-RO" sz="2900" spc="-1" strike="noStrike">
                <a:solidFill>
                  <a:srgbClr val="000000"/>
                </a:solidFill>
                <a:latin typeface="Calisto MT"/>
                <a:ea typeface="Tahom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Calisto MT"/>
                <a:ea typeface="Tahoma"/>
              </a:rPr>
              <a:t>ÎNVĂȚĂMÂNT, ÎN ANUL ȘCOLAR 201</a:t>
            </a:r>
            <a:r>
              <a:rPr b="0" lang="ro-RO" sz="2900" spc="-1" strike="noStrike">
                <a:solidFill>
                  <a:srgbClr val="000000"/>
                </a:solidFill>
                <a:latin typeface="Calisto MT"/>
                <a:ea typeface="Tahoma"/>
              </a:rPr>
              <a:t>8</a:t>
            </a:r>
            <a:r>
              <a:rPr b="0" lang="en-US" sz="2900" spc="-1" strike="noStrike">
                <a:solidFill>
                  <a:srgbClr val="000000"/>
                </a:solidFill>
                <a:latin typeface="Calisto MT"/>
                <a:ea typeface="Tahoma"/>
              </a:rPr>
              <a:t>-201</a:t>
            </a:r>
            <a:r>
              <a:rPr b="0" lang="ro-RO" sz="2900" spc="-1" strike="noStrike">
                <a:solidFill>
                  <a:srgbClr val="000000"/>
                </a:solidFill>
                <a:latin typeface="Calisto MT"/>
                <a:ea typeface="Tahoma"/>
              </a:rPr>
              <a:t>9:</a:t>
            </a:r>
            <a:r>
              <a:rPr b="0" lang="en-US" sz="2900" spc="-1" strike="noStrike">
                <a:solidFill>
                  <a:srgbClr val="000000"/>
                </a:solidFill>
                <a:latin typeface="Calisto MT"/>
                <a:ea typeface="Tahoma"/>
              </a:rPr>
              <a:t> 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355" name="Content Placeholder 2" descr=""/>
          <p:cNvPicPr/>
          <p:nvPr/>
        </p:nvPicPr>
        <p:blipFill>
          <a:blip r:embed="rId1"/>
          <a:stretch/>
        </p:blipFill>
        <p:spPr>
          <a:xfrm>
            <a:off x="1139760" y="2255760"/>
            <a:ext cx="943128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2644920" y="1503360"/>
            <a:ext cx="8804160" cy="390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alisto MT"/>
              </a:rPr>
              <a:t>SPOR </a:t>
            </a:r>
            <a:br>
              <a:rPr sz="4800"/>
            </a:br>
            <a:r>
              <a:rPr b="0" lang="ro-RO" sz="4800" spc="-1" strike="noStrike">
                <a:solidFill>
                  <a:srgbClr val="262626"/>
                </a:solidFill>
                <a:latin typeface="Calisto MT"/>
              </a:rPr>
              <a:t>ȘI OAMENI BUNI ALĂTURI, ÎN ANUL ȘCOLAR </a:t>
            </a:r>
            <a:br>
              <a:rPr sz="4800"/>
            </a:br>
            <a:r>
              <a:rPr b="0" lang="ro-RO" sz="4800" spc="-1" strike="noStrike">
                <a:solidFill>
                  <a:srgbClr val="262626"/>
                </a:solidFill>
                <a:latin typeface="Calisto MT"/>
              </a:rPr>
              <a:t>2018 – 2019!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9" name="PlaceHolder 2"/>
          <p:cNvSpPr>
            <a:spLocks noGrp="1"/>
          </p:cNvSpPr>
          <p:nvPr>
            <p:ph/>
          </p:nvPr>
        </p:nvSpPr>
        <p:spPr>
          <a:xfrm>
            <a:off x="2588760" y="5181120"/>
            <a:ext cx="891540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o-RO" sz="18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262626"/>
                </a:solidFill>
                <a:latin typeface="Tahoma"/>
                <a:ea typeface="Tahoma"/>
              </a:rPr>
              <a:t> </a:t>
            </a:r>
            <a:r>
              <a:rPr b="0" lang="ro-RO" sz="3200" spc="-1" strike="noStrike">
                <a:solidFill>
                  <a:srgbClr val="262626"/>
                </a:solidFill>
                <a:latin typeface="Calisto MT"/>
                <a:ea typeface="Tahoma"/>
              </a:rPr>
              <a:t>S</a:t>
            </a:r>
            <a:r>
              <a:rPr b="0" lang="en-US" sz="3200" spc="-1" strike="noStrike">
                <a:solidFill>
                  <a:srgbClr val="262626"/>
                </a:solidFill>
                <a:latin typeface="Calisto MT"/>
                <a:ea typeface="Tahoma"/>
              </a:rPr>
              <a:t>TRUCTURA ANULUI ŞCOLAR </a:t>
            </a:r>
            <a:r>
              <a:rPr b="0" lang="it-IT" sz="3200" spc="-1" strike="noStrike">
                <a:solidFill>
                  <a:srgbClr val="262626"/>
                </a:solidFill>
                <a:latin typeface="Calisto MT"/>
                <a:ea typeface="Tahoma"/>
              </a:rPr>
              <a:t>201</a:t>
            </a:r>
            <a:r>
              <a:rPr b="0" lang="ro-RO" sz="3200" spc="-1" strike="noStrike">
                <a:solidFill>
                  <a:srgbClr val="262626"/>
                </a:solidFill>
                <a:latin typeface="Calisto MT"/>
                <a:ea typeface="Tahoma"/>
              </a:rPr>
              <a:t>8</a:t>
            </a:r>
            <a:r>
              <a:rPr b="0" lang="it-IT" sz="3200" spc="-1" strike="noStrike">
                <a:solidFill>
                  <a:srgbClr val="262626"/>
                </a:solidFill>
                <a:latin typeface="Calisto MT"/>
                <a:ea typeface="Tahoma"/>
              </a:rPr>
              <a:t>-201</a:t>
            </a:r>
            <a:r>
              <a:rPr b="0" lang="ro-RO" sz="3200" spc="-1" strike="noStrike">
                <a:solidFill>
                  <a:srgbClr val="262626"/>
                </a:solidFill>
                <a:latin typeface="Calisto MT"/>
                <a:ea typeface="Tahoma"/>
              </a:rPr>
              <a:t>9</a:t>
            </a: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7" name=""/>
          <p:cNvSpPr txBox="1"/>
          <p:nvPr/>
        </p:nvSpPr>
        <p:spPr>
          <a:xfrm>
            <a:off x="1061640" y="2133360"/>
            <a:ext cx="1044252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sto MT"/>
                <a:ea typeface="Tahoma"/>
              </a:rPr>
              <a:t>Structura anului </a:t>
            </a:r>
            <a:r>
              <a:rPr b="1" lang="ro-RO" sz="1900" spc="-1" strike="noStrike">
                <a:solidFill>
                  <a:srgbClr val="000000"/>
                </a:solidFill>
                <a:latin typeface="Calisto MT"/>
                <a:ea typeface="Tahoma"/>
              </a:rPr>
              <a:t>ş</a:t>
            </a:r>
            <a:r>
              <a:rPr b="1" lang="en-US" sz="1900" spc="-1" strike="noStrike">
                <a:solidFill>
                  <a:srgbClr val="000000"/>
                </a:solidFill>
                <a:latin typeface="Calisto MT"/>
                <a:ea typeface="Tahoma"/>
              </a:rPr>
              <a:t>colar 201</a:t>
            </a:r>
            <a:r>
              <a:rPr b="1" lang="ro-RO" sz="1900" spc="-1" strike="noStrike">
                <a:solidFill>
                  <a:srgbClr val="000000"/>
                </a:solidFill>
                <a:latin typeface="Calisto MT"/>
                <a:ea typeface="Tahoma"/>
              </a:rPr>
              <a:t>8-2</a:t>
            </a:r>
            <a:r>
              <a:rPr b="1" lang="en-US" sz="1900" spc="-1" strike="noStrike">
                <a:solidFill>
                  <a:srgbClr val="000000"/>
                </a:solidFill>
                <a:latin typeface="Calisto MT"/>
                <a:ea typeface="Tahoma"/>
              </a:rPr>
              <a:t>01</a:t>
            </a:r>
            <a:r>
              <a:rPr b="1" lang="ro-RO" sz="1900" spc="-1" strike="noStrike">
                <a:solidFill>
                  <a:srgbClr val="000000"/>
                </a:solidFill>
                <a:latin typeface="Calisto MT"/>
                <a:ea typeface="Tahoma"/>
              </a:rPr>
              <a:t>9 </a:t>
            </a:r>
            <a:r>
              <a:rPr b="0" lang="ro-RO" sz="1900" spc="-1" strike="noStrike">
                <a:solidFill>
                  <a:srgbClr val="000000"/>
                </a:solidFill>
                <a:latin typeface="Calisto MT"/>
                <a:ea typeface="Tahoma"/>
              </a:rPr>
              <a:t>a fost aprobată prin O</a:t>
            </a:r>
            <a:r>
              <a:rPr b="0" lang="en-US" sz="1900" spc="-1" strike="noStrike">
                <a:solidFill>
                  <a:srgbClr val="000000"/>
                </a:solidFill>
                <a:latin typeface="Calisto MT"/>
                <a:ea typeface="Tahoma"/>
              </a:rPr>
              <a:t>MEN </a:t>
            </a:r>
            <a:r>
              <a:rPr b="0" lang="ro-RO" sz="1900" spc="-1" strike="noStrike">
                <a:solidFill>
                  <a:srgbClr val="000000"/>
                </a:solidFill>
                <a:latin typeface="Calisto MT"/>
                <a:ea typeface="Tahoma"/>
              </a:rPr>
              <a:t>nr. 3.220/19.02.2018</a:t>
            </a:r>
            <a:r>
              <a:rPr b="0" lang="ro-RO" sz="1900" spc="-1" strike="noStrike">
                <a:solidFill>
                  <a:srgbClr val="ff0000"/>
                </a:solidFill>
                <a:latin typeface="Calisto MT"/>
                <a:ea typeface="Tahoma"/>
              </a:rPr>
              <a:t>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262626"/>
                </a:solidFill>
                <a:latin typeface="Calisto MT"/>
                <a:ea typeface="Tahoma"/>
              </a:rPr>
              <a:t>Cursurile anului şcolar 2018-2019 încep luni, 10 septembrie și însumează 168 de zile lucrătoare (34 de săptămâni). 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262626"/>
                </a:solidFill>
                <a:latin typeface="Calisto MT"/>
                <a:ea typeface="Tahoma"/>
              </a:rPr>
              <a:t>Structura anului școlar cuprinde semestrul I (10 septembrie 2018 - 1 februarie 2019) şi semestrul al II-lea (11 februarie 2019 - 14 iunie 2019)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262626"/>
                </a:solidFill>
                <a:latin typeface="Calisto MT"/>
                <a:ea typeface="Tahoma"/>
              </a:rPr>
              <a:t>Vacanţele elevilor din toate ciclurile de învățământ sunt programate astfel: vacanţa de iarnă (22 decembrie 2018 - 13 ianuarie 2019), vacanţă intersemestrială (2 - 10 februarie 2019), vacanţa de primăvară (20 aprilie - 5 mai 2019) şi vacanţa de vară (15 iunie - 15 septembrie 2019). 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262626"/>
                </a:solidFill>
                <a:latin typeface="Calisto MT"/>
                <a:ea typeface="Tahoma"/>
              </a:rPr>
              <a:t>Suplimentar, clasele din învăţământul primar şi grupele din învăţământul preşcolar beneficiază de vacanţă în săptămâna 27 octombrie - 4 noiembrie 2018. 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262626"/>
                </a:solidFill>
                <a:latin typeface="Calisto MT"/>
                <a:ea typeface="Tahoma"/>
              </a:rPr>
              <a:t>Pentru clasele terminale din învăţământul liceal, anul şcolar se încheie în data de 31 mai 2019, iar pentru clasa a VIII-a, în data de 7 iunie 2019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8" name="Title 1" descr=""/>
          <p:cNvPicPr/>
          <p:nvPr/>
        </p:nvPicPr>
        <p:blipFill>
          <a:blip r:embed="rId1"/>
          <a:stretch/>
        </p:blipFill>
        <p:spPr>
          <a:xfrm>
            <a:off x="2030400" y="457200"/>
            <a:ext cx="9588600" cy="1378080"/>
          </a:xfrm>
          <a:prstGeom prst="rect">
            <a:avLst/>
          </a:prstGeom>
          <a:ln w="0">
            <a:noFill/>
          </a:ln>
        </p:spPr>
      </p:pic>
      <p:sp>
        <p:nvSpPr>
          <p:cNvPr id="2359" name=""/>
          <p:cNvSpPr txBox="1"/>
          <p:nvPr/>
        </p:nvSpPr>
        <p:spPr>
          <a:xfrm>
            <a:off x="1496520" y="2114640"/>
            <a:ext cx="1000764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  <a:ea typeface="Tahoma"/>
              </a:rPr>
              <a:t>●  </a:t>
            </a:r>
            <a:r>
              <a:rPr b="0" lang="ro-RO" sz="2400" spc="-1" strike="noStrike">
                <a:solidFill>
                  <a:srgbClr val="404040"/>
                </a:solidFill>
                <a:latin typeface="Calisto MT"/>
                <a:ea typeface="Tahoma"/>
              </a:rPr>
              <a:t>OMENCS nr. 3590/5.04.2016 - Plan-cadru de învățământ pentru gimnaziu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48040" indent="-248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48040" indent="-24804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  <a:ea typeface="Tahoma"/>
              </a:rPr>
              <a:t>● 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OMEN nr. 4221/01.08.2018 privind modificarea și completarea Ordinului ministrului educaţiei naţionale nr. 3590/2016, privind aprobarea planurilor-cadru de învăţământ pentru învăţământul gimnazial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48040" indent="-24804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48040" indent="-24804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  <a:ea typeface="Tahoma"/>
              </a:rPr>
              <a:t>●   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Planurile - cadru  și programele școlare valabile în  anul şcolar 2018-2019  pot fi accesate la adresa:   </a:t>
            </a:r>
            <a:r>
              <a:rPr b="0" lang="ro-RO" sz="2400" spc="-1" strike="noStrike" u="sng">
                <a:solidFill>
                  <a:srgbClr val="fb4a18"/>
                </a:solidFill>
                <a:uFillTx/>
                <a:latin typeface="Calisto MT"/>
                <a:ea typeface="Tahoma"/>
                <a:hlinkClick r:id="rId2"/>
              </a:rPr>
              <a:t>http://programe.ise.ro/actuale.aspx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48040" indent="-248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48040" indent="-2480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1455480" y="623880"/>
            <a:ext cx="1004868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262626"/>
                </a:solidFill>
                <a:latin typeface="Calisto MT"/>
                <a:ea typeface="Times New Roman"/>
              </a:rPr>
              <a:t>PROGRAMELE ŞCOLARE PENTRU ÎNVĂȚĂMÂNTUL BILINGV VALABILE ÎN ANUL ŞCOLAR 2018 – 2019</a:t>
            </a:r>
            <a:r>
              <a:rPr b="0" lang="en-US" sz="3200" spc="-1" strike="noStrike">
                <a:solidFill>
                  <a:srgbClr val="262626"/>
                </a:solidFill>
                <a:latin typeface="Calisto MT"/>
                <a:ea typeface="Times New Roman"/>
              </a:rPr>
              <a:t> 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61" name=""/>
          <p:cNvSpPr txBox="1"/>
          <p:nvPr/>
        </p:nvSpPr>
        <p:spPr>
          <a:xfrm>
            <a:off x="1700280" y="2133360"/>
            <a:ext cx="9804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Învățământul bilingv – limba engleză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Ordinul ministrului educației naționale nr. 4775/2014 – </a:t>
            </a:r>
            <a:r>
              <a:rPr b="0" i="1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Elemente de cultură și civilizație engleză 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– Clasele a XI-a și a XII-a cu program de studiu bilingv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Ordinul ministrului educației, cercetării și tineretului nr. 5240/2008 – Istoria Marii Britanii și a Statelor Unite ale Americii – Clasa a X-a  cu program de studiu bilingv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1663560" y="623880"/>
            <a:ext cx="9840960" cy="13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sto MT"/>
                <a:ea typeface="Times New Roman"/>
              </a:rPr>
              <a:t>Ordine de ministru </a:t>
            </a:r>
            <a:r>
              <a:rPr b="0" lang="ro-RO" sz="2400" spc="-1" strike="noStrike">
                <a:solidFill>
                  <a:srgbClr val="262626"/>
                </a:solidFill>
                <a:latin typeface="Calisto MT"/>
                <a:ea typeface="Times New Roman"/>
              </a:rPr>
              <a:t>valabile în anul şcolar 2018 – 2019 referitoare la limbile moderne 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63" name=""/>
          <p:cNvSpPr txBox="1"/>
          <p:nvPr/>
        </p:nvSpPr>
        <p:spPr>
          <a:xfrm>
            <a:off x="1463400" y="2133360"/>
            <a:ext cx="1004076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sto MT"/>
                <a:ea typeface="Tahoma"/>
              </a:rPr>
              <a:t>Limba germană</a:t>
            </a:r>
            <a:r>
              <a:rPr b="0" lang="en-US" sz="2800" spc="-1" strike="noStrike">
                <a:solidFill>
                  <a:srgbClr val="000000"/>
                </a:solidFill>
                <a:latin typeface="Calisto MT"/>
                <a:ea typeface="Tahoma"/>
              </a:rPr>
              <a:t>: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sto MT"/>
                <a:ea typeface="Tahoma"/>
              </a:rPr>
              <a:t>Ordin nr. 4130/ 17.07.2018 </a:t>
            </a:r>
            <a:r>
              <a:rPr b="0" i="1" lang="ro-RO" sz="2800" spc="-1" strike="noStrike">
                <a:solidFill>
                  <a:srgbClr val="000000"/>
                </a:solidFill>
                <a:latin typeface="Calisto MT"/>
                <a:ea typeface="Tahoma"/>
              </a:rPr>
              <a:t>privind primirea unor profesori germani în învățământul preuniversitar din România, în anul școlar 2018-2019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"/>
          <p:cNvSpPr txBox="1"/>
          <p:nvPr/>
        </p:nvSpPr>
        <p:spPr>
          <a:xfrm>
            <a:off x="2090880" y="831600"/>
            <a:ext cx="9378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404040"/>
                </a:solidFill>
                <a:latin typeface="Calisto MT"/>
              </a:rPr>
              <a:t>OMEN nr. 3027/08.01.2018 </a:t>
            </a:r>
            <a:r>
              <a:rPr b="0" lang="ro-RO" sz="2000" spc="-1" strike="noStrike">
                <a:solidFill>
                  <a:srgbClr val="404040"/>
                </a:solidFill>
                <a:latin typeface="Calisto MT"/>
              </a:rPr>
              <a:t>pentru modificarea și completarea Anexei - Regulament-cadru de organizare și funcționare a unităților de învățământ preuniversitar la Ordinul ministrului educației naționale și cercetării științifice nr. 5079/2016 privind aprobarea Regulamentului-cadru de organizare și funcționare a unităților de învățământ preuniversitar (</a:t>
            </a:r>
            <a:r>
              <a:rPr b="0" lang="ro-RO" sz="2000" spc="-1" strike="noStrike">
                <a:solidFill>
                  <a:srgbClr val="404040"/>
                </a:solidFill>
                <a:latin typeface="Calisto MT"/>
                <a:ea typeface="Tahoma"/>
              </a:rPr>
              <a:t>modificarea și completarea </a:t>
            </a:r>
            <a:r>
              <a:rPr b="1" lang="ro-RO" sz="2000" spc="-1" strike="noStrike">
                <a:solidFill>
                  <a:srgbClr val="404040"/>
                </a:solidFill>
                <a:latin typeface="Calisto MT"/>
                <a:ea typeface="Tahoma"/>
              </a:rPr>
              <a:t>art. 66 </a:t>
            </a:r>
            <a:r>
              <a:rPr b="0" lang="ro-RO" sz="2000" spc="-1" strike="noStrike">
                <a:solidFill>
                  <a:srgbClr val="404040"/>
                </a:solidFill>
                <a:latin typeface="Calisto MT"/>
                <a:ea typeface="Tahoma"/>
              </a:rPr>
              <a:t>– privind atribuțiile catedrelor/comisiilor metodice în elaborarea ofertei CDȘ și selectarea auxiliarelor didactice și a mijloacelor de învățământ 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404040"/>
                </a:solidFill>
                <a:latin typeface="Calisto MT"/>
              </a:rPr>
              <a:t>Regulamentul – cadru de organizare şi funcționare a claselor cu  predare a unei limbi moderne în regim intensiv sau bilingv în unitățile de învățământ preuniversitar – aprobat prin OMEN nr. 4797/2017;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1968480" y="449280"/>
            <a:ext cx="886608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FERTA NAŢIONALĂ PENTRU MANUALE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ȘCOLARE</a:t>
            </a: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66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SzPct val="7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SzPct val="7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SzPct val="7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Manuale școlare digitale 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- </a:t>
            </a:r>
            <a:r>
              <a:rPr b="0" i="1" lang="ro-RO" sz="2400" spc="-1" strike="noStrike">
                <a:solidFill>
                  <a:srgbClr val="000000"/>
                </a:solidFill>
                <a:latin typeface="Calisto MT"/>
              </a:rPr>
              <a:t>Manuale școlare - </a:t>
            </a:r>
            <a:r>
              <a:rPr b="0" lang="ro-RO" sz="2400" spc="-1" strike="noStrike" u="sng">
                <a:solidFill>
                  <a:srgbClr val="fb4a18"/>
                </a:solidFill>
                <a:uFillTx/>
                <a:latin typeface="Calisto MT"/>
                <a:hlinkClick r:id="rId1"/>
              </a:rPr>
              <a:t>https://www.manuale.edu.ro</a:t>
            </a:r>
            <a:r>
              <a:rPr b="0" lang="ro-RO" sz="2400" spc="-1" strike="noStrike" u="sng">
                <a:solidFill>
                  <a:srgbClr val="fb4a18"/>
                </a:solidFill>
                <a:uFillTx/>
                <a:latin typeface="Calisto MT"/>
                <a:hlinkClick r:id="rId2"/>
              </a:rPr>
              <a:t>/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SzPct val="7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sto MT"/>
              </a:rPr>
              <a:t>Auxiliare didactice 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– OMEN nr. 3022/2018 privind aprobarea auxiliarelor didactice din învățământul preuniversitar (anexă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SzPct val="7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sto MT"/>
              </a:rPr>
              <a:t>Mijloace de învățământ 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omologate în perioada mai-iulie 2018, în vederea utilizării lor în învățământul preuniversitar (</a:t>
            </a:r>
            <a:r>
              <a:rPr b="0" lang="ro-RO" sz="2400" spc="-1" strike="noStrike" u="sng">
                <a:solidFill>
                  <a:srgbClr val="fb4a18"/>
                </a:solidFill>
                <a:uFillTx/>
                <a:latin typeface="Calisto MT"/>
                <a:hlinkClick r:id="rId3"/>
              </a:rPr>
              <a:t>www.edu.ro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 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SzPct val="7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SzPct val="7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SzPct val="7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1919160" y="398520"/>
            <a:ext cx="8886960" cy="113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  <a:ea typeface="Tahoma"/>
              </a:rPr>
              <a:t>METODOLOGII 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ahoma"/>
              </a:rPr>
              <a:t>ALE </a:t>
            </a:r>
            <a:r>
              <a:rPr b="0" lang="en-US" sz="3200" spc="-1" strike="noStrike">
                <a:solidFill>
                  <a:srgbClr val="000000"/>
                </a:solidFill>
                <a:latin typeface="Calisto MT"/>
                <a:ea typeface="Tahoma"/>
              </a:rPr>
              <a:t>EXAMENE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ahoma"/>
              </a:rPr>
              <a:t>LOR</a:t>
            </a:r>
            <a:r>
              <a:rPr b="0" lang="en-US" sz="3200" spc="-1" strike="noStrike">
                <a:solidFill>
                  <a:srgbClr val="000000"/>
                </a:solidFill>
                <a:latin typeface="Calisto MT"/>
                <a:ea typeface="Tahoma"/>
              </a:rPr>
              <a:t> NA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ahoma"/>
              </a:rPr>
              <a:t>Ţ</a:t>
            </a:r>
            <a:r>
              <a:rPr b="0" lang="en-US" sz="3200" spc="-1" strike="noStrike">
                <a:solidFill>
                  <a:srgbClr val="000000"/>
                </a:solidFill>
                <a:latin typeface="Calisto MT"/>
                <a:ea typeface="Tahoma"/>
              </a:rPr>
              <a:t>IONALE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sto MT"/>
                <a:ea typeface="Tahoma"/>
              </a:rPr>
              <a:t>201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ahoma"/>
              </a:rPr>
              <a:t>9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68" name=""/>
          <p:cNvSpPr txBox="1"/>
          <p:nvPr/>
        </p:nvSpPr>
        <p:spPr>
          <a:xfrm>
            <a:off x="1162080" y="1534680"/>
            <a:ext cx="10663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Century Gothic"/>
              </a:rPr>
              <a:t>Recunoașterea și echivalarea rezultatelor obținute la examene cu recunoaștere internațională – </a:t>
            </a:r>
            <a:r>
              <a:rPr b="0" lang="ro-RO" sz="1800" spc="-1" strike="noStrike">
                <a:solidFill>
                  <a:srgbClr val="000000"/>
                </a:solidFill>
                <a:latin typeface="Century Gothic"/>
              </a:rPr>
              <a:t>aprobată prin OM nr. 5905/2016;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Examenul național de evaluare națională - </a:t>
            </a:r>
            <a:r>
              <a:rPr b="0" lang="ro-RO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OMEN nr. 4813/29.08.2018</a:t>
            </a:r>
            <a:r>
              <a:rPr b="0" i="1" lang="ro-RO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;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Admiterea în învățământul liceal și profesional de stat - </a:t>
            </a:r>
            <a:r>
              <a:rPr b="0" lang="ro-RO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OMEN nr. – 4829/30.08.2018</a:t>
            </a:r>
            <a:r>
              <a:rPr b="0" i="1" lang="ro-RO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;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 algn="just"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o-RO" sz="1800" spc="-1" strike="noStrike">
                <a:solidFill>
                  <a:srgbClr val="ff0000"/>
                </a:solidFill>
                <a:latin typeface="Century Gothic"/>
              </a:rPr>
              <a:t>Candidaților, care, în clasa a VII-a/a VIII- a, au obținut premiul I, al II-lea sau al III-lea la etapa națională a olimpiadei de limba engleză/ franceză/ germană/ italiană/ spaniolă/ rusă, li se recunosc rezultatele obținute la olimpiadă, în baza diplomei emise de Ministerul Educației Naționale, și li se echivalează cu nota 10 la proba de verificare a cunoștințelor de limbă modernă pentru admiterea în clasele a IX-a cu program bilingv de predare a unei limbi moderne de circulaţie internaţională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Examenul național de bacalaureat  - </a:t>
            </a:r>
            <a:r>
              <a:rPr b="0" lang="ro-RO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OMEN nr. 4830/30.08.2018</a:t>
            </a:r>
            <a:r>
              <a:rPr b="0" i="1" lang="ro-RO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 ;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i="1" lang="ro-RO" sz="1800" spc="-1" strike="noStrike">
                <a:solidFill>
                  <a:srgbClr val="000000"/>
                </a:solidFill>
                <a:latin typeface="Century Gothic"/>
              </a:rPr>
              <a:t>Model subiect - </a:t>
            </a:r>
            <a:r>
              <a:rPr b="0" lang="ro-RO" sz="1800" spc="-1" strike="noStrike" u="sng">
                <a:solidFill>
                  <a:srgbClr val="fb4a18"/>
                </a:solidFill>
                <a:uFillTx/>
                <a:latin typeface="Century Gothic"/>
                <a:hlinkClick r:id="rId1"/>
              </a:rPr>
              <a:t>www.subiecte2019.edu.ro</a:t>
            </a:r>
            <a:r>
              <a:rPr b="0" i="1" lang="ro-RO" sz="1800" spc="-1" strike="noStrike">
                <a:solidFill>
                  <a:srgbClr val="000000"/>
                </a:solidFill>
                <a:latin typeface="Century Gothic"/>
              </a:rPr>
              <a:t> (1 noiembrie 2018 ) - </a:t>
            </a:r>
            <a:r>
              <a:rPr b="0" lang="ro-RO" sz="1800" spc="-1" strike="noStrike">
                <a:solidFill>
                  <a:srgbClr val="000000"/>
                </a:solidFill>
                <a:latin typeface="Century Gothic"/>
              </a:rPr>
              <a:t>model pentru proiectarea testelor de  valuare curentă și a celor pentru teze (clasa a VIII-a și a XII-a 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OMEN nr. 4461/27.08.2018 privind aprobarea Calendarului de administrare a Evaluărilor Naționale la finalul claselor a II-a, a IV-a și a VI-a în anul școlar 2018-2019.              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2T08:59:18Z</dcterms:created>
  <dc:creator>Rodica Cherciu;Manuela Delia</dc:creator>
  <dc:description/>
  <dc:language>en-US</dc:language>
  <cp:lastModifiedBy>Micky</cp:lastModifiedBy>
  <cp:lastPrinted>2018-08-23T12:17:35Z</cp:lastPrinted>
  <dcterms:modified xsi:type="dcterms:W3CDTF">2018-09-16T19:50:59Z</dcterms:modified>
  <cp:revision>84</cp:revision>
  <dc:subject/>
  <dc:title>CONSFĂTUIREA INSPECTORILOR ȘCOLARI PENTRU LIMBI MODERNE</dc:title>
</cp:coreProperties>
</file>